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0B5-03F5-4712-8DFF-C7883B01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360D-4197-48E1-967B-96150DA8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8A6-C71C-4E52-BCB5-1F796772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45B0-571D-491A-A5E6-14993B57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AB57-F0F9-4277-8943-1B148C6A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6C23-89F7-4299-AFB6-7FBC0B04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B88C-F999-40B5-B0BC-B2042E08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B383-C46C-4066-85D2-B976F94D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96F-8216-4CCA-956A-147FBB62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625-C6F9-4CE7-807F-57F73F30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C36-CFDE-4DC2-8424-452C9C12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E5F0-55EA-4362-961E-E18C268C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1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309E-1118-4733-9235-894EBC7310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1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"/>
          <p:cNvGraphicFramePr/>
          <p:nvPr/>
        </p:nvGraphicFramePr>
        <p:xfrm>
          <a:off x="609480" y="76320"/>
          <a:ext cx="7848720" cy="699840"/>
        </p:xfrm>
        <a:graphic>
          <a:graphicData uri="http://schemas.openxmlformats.org/drawingml/2006/table">
            <a:tbl>
              <a:tblPr/>
              <a:tblGrid>
                <a:gridCol w="1295640"/>
                <a:gridCol w="655308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nFi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m Thickness Monitor Calib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" name=""/>
          <p:cNvGraphicFramePr/>
          <p:nvPr/>
        </p:nvGraphicFramePr>
        <p:xfrm>
          <a:off x="609480" y="6310440"/>
          <a:ext cx="7848720" cy="395280"/>
        </p:xfrm>
        <a:graphic>
          <a:graphicData uri="http://schemas.openxmlformats.org/drawingml/2006/table">
            <a:tbl>
              <a:tblPr/>
              <a:tblGrid>
                <a:gridCol w="2133720"/>
                <a:gridCol w="571500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ww.thinfs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ding Innovation in Thin Fi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914400" y="990720"/>
            <a:ext cx="784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w to Calibrate the Tooling Factor (2):  Multi-Layer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alf-Wave Ripple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487692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tes TWO materials at same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s similar thickness to pro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s stack under process condi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nalysed by simple spreadsh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31496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1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09480" y="76320"/>
          <a:ext cx="7848720" cy="699840"/>
        </p:xfrm>
        <a:graphic>
          <a:graphicData uri="http://schemas.openxmlformats.org/drawingml/2006/table">
            <a:tbl>
              <a:tblPr/>
              <a:tblGrid>
                <a:gridCol w="1295640"/>
                <a:gridCol w="655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nFi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m Thickness Monitor Calib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609480" y="6310440"/>
          <a:ext cx="7848720" cy="395280"/>
        </p:xfrm>
        <a:graphic>
          <a:graphicData uri="http://schemas.openxmlformats.org/drawingml/2006/table">
            <a:tbl>
              <a:tblPr/>
              <a:tblGrid>
                <a:gridCol w="2133720"/>
                <a:gridCol w="57150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ww.thinfs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ding Innovation in Thin Fi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914400" y="990720"/>
            <a:ext cx="784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w to Calibrate the Tooling Factor (2):  Multi-Layer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alf-Wave Ripple Test:-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H 2L 2H 2L 2H 2L 1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1930320"/>
            <a:ext cx="5867280" cy="4305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343400" y="5181480"/>
            <a:ext cx="2133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e- wave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4190760" y="2895480"/>
            <a:ext cx="15228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4181400"/>
            <a:ext cx="68580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4181400"/>
            <a:ext cx="7621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571640" y="3885840"/>
            <a:ext cx="1522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962160" y="3885840"/>
            <a:ext cx="1522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1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09480" y="76320"/>
          <a:ext cx="7848720" cy="699840"/>
        </p:xfrm>
        <a:graphic>
          <a:graphicData uri="http://schemas.openxmlformats.org/drawingml/2006/table">
            <a:tbl>
              <a:tblPr/>
              <a:tblGrid>
                <a:gridCol w="1295640"/>
                <a:gridCol w="655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nFi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m Thickness Monitor Calib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609480" y="6310440"/>
          <a:ext cx="7848720" cy="395280"/>
        </p:xfrm>
        <a:graphic>
          <a:graphicData uri="http://schemas.openxmlformats.org/drawingml/2006/table">
            <a:tbl>
              <a:tblPr/>
              <a:tblGrid>
                <a:gridCol w="2133720"/>
                <a:gridCol w="57150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ww.thinfs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ding Innovation in Thin Fi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914400" y="990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w to Calibrate the Tooling Factor (2):  Multi-Layer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85800" y="1447920"/>
            <a:ext cx="6477120" cy="4723920"/>
            <a:chOff x="685800" y="1447920"/>
            <a:chExt cx="6477120" cy="472392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685800" y="1447920"/>
              <a:ext cx="6477120" cy="47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251440" y="4728600"/>
              <a:ext cx="0" cy="70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15680" y="4104000"/>
              <a:ext cx="0" cy="78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710040" y="4191120"/>
            <a:ext cx="205812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O2:   5% th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O2:   5% thi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1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09480" y="76320"/>
          <a:ext cx="7848720" cy="699840"/>
        </p:xfrm>
        <a:graphic>
          <a:graphicData uri="http://schemas.openxmlformats.org/drawingml/2006/table">
            <a:tbl>
              <a:tblPr/>
              <a:tblGrid>
                <a:gridCol w="1295640"/>
                <a:gridCol w="655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nFi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m Thickness Monitor Calib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09480" y="6310440"/>
          <a:ext cx="7848720" cy="395280"/>
        </p:xfrm>
        <a:graphic>
          <a:graphicData uri="http://schemas.openxmlformats.org/drawingml/2006/table">
            <a:tbl>
              <a:tblPr/>
              <a:tblGrid>
                <a:gridCol w="2133720"/>
                <a:gridCol w="57150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ww.thinfs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ding Innovation in Thin Fi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914400" y="990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w to Calibrate the Tooling Factor (2):  Multi-Layer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659592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38280" y="4114800"/>
            <a:ext cx="197460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O2:   5% th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O2:   5% th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51055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8862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1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09480" y="76320"/>
          <a:ext cx="7848720" cy="699840"/>
        </p:xfrm>
        <a:graphic>
          <a:graphicData uri="http://schemas.openxmlformats.org/drawingml/2006/table">
            <a:tbl>
              <a:tblPr/>
              <a:tblGrid>
                <a:gridCol w="1295640"/>
                <a:gridCol w="655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nFi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m Thickness Monitor Calib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09480" y="6310440"/>
          <a:ext cx="7848720" cy="395280"/>
        </p:xfrm>
        <a:graphic>
          <a:graphicData uri="http://schemas.openxmlformats.org/drawingml/2006/table">
            <a:tbl>
              <a:tblPr/>
              <a:tblGrid>
                <a:gridCol w="2133720"/>
                <a:gridCol w="57150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ww.thinfs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ding Innovation in Thin Fi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914400" y="990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w to Calibrate the Tooling Factor (2):  Multi-Layer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053480" cy="4686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799960" y="2995560"/>
            <a:ext cx="13176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2O5/Si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943600" y="335268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28640" y="5105520"/>
            <a:ext cx="11484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O2/Si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486400" y="46483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1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09480" y="76320"/>
          <a:ext cx="7848720" cy="699840"/>
        </p:xfrm>
        <a:graphic>
          <a:graphicData uri="http://schemas.openxmlformats.org/drawingml/2006/table">
            <a:tbl>
              <a:tblPr/>
              <a:tblGrid>
                <a:gridCol w="1295640"/>
                <a:gridCol w="655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nFi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m Thickness Monitor Calib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609480" y="6310440"/>
          <a:ext cx="7848720" cy="395280"/>
        </p:xfrm>
        <a:graphic>
          <a:graphicData uri="http://schemas.openxmlformats.org/drawingml/2006/table">
            <a:tbl>
              <a:tblPr/>
              <a:tblGrid>
                <a:gridCol w="2133720"/>
                <a:gridCol w="57150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ww.thinfs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ding Innovation in Thin Fi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914400" y="990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w to Calibrate the Tooling Factor (2):  Multi-Layer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828800" y="1417680"/>
          <a:ext cx="5410080" cy="483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417680"/>
                    <a:ext cx="541008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2:51:23Z</dcterms:created>
  <dc:creator>Henry Orr</dc:creator>
  <dc:description/>
  <dc:language>en-US</dc:language>
  <cp:lastModifiedBy>Henry</cp:lastModifiedBy>
  <dcterms:modified xsi:type="dcterms:W3CDTF">2007-02-26T20:36:30Z</dcterms:modified>
  <cp:revision>49</cp:revision>
  <dc:subject/>
  <dc:title>PowerPoint Presentation</dc:title>
</cp:coreProperties>
</file>