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 type="dt" idx="7"/>
          </p:nvPr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1" lang="nl-NL" sz="1100" spc="-1" strike="noStrike">
                <a:solidFill>
                  <a:srgbClr val="000000"/>
                </a:solidFill>
                <a:latin typeface="TNO Oranda Wide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f"/>
                </a:solidFill>
                <a:latin typeface="TNO Oranda Wide"/>
              </a:rPr>
              <a:t>Click to move the slide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16" name="PlaceHolder 4"/>
          <p:cNvSpPr>
            <a:spLocks noGrp="1"/>
          </p:cNvSpPr>
          <p:nvPr>
            <p:ph type="body"/>
          </p:nvPr>
        </p:nvSpPr>
        <p:spPr>
          <a:xfrm>
            <a:off x="1179000" y="4855680"/>
            <a:ext cx="4722840" cy="40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NO Oranda Wide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7" name="PlaceHolder 5"/>
          <p:cNvSpPr>
            <a:spLocks noGrp="1"/>
          </p:cNvSpPr>
          <p:nvPr>
            <p:ph type="ftr" idx="8"/>
          </p:nvPr>
        </p:nvSpPr>
        <p:spPr>
          <a:xfrm>
            <a:off x="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1" lang="nl-NL" sz="1100" spc="-1" strike="noStrike">
                <a:solidFill>
                  <a:srgbClr val="000000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8" name="PlaceHolder 6"/>
          <p:cNvSpPr>
            <a:spLocks noGrp="1"/>
          </p:cNvSpPr>
          <p:nvPr>
            <p:ph type="sldNum" idx="9"/>
          </p:nvPr>
        </p:nvSpPr>
        <p:spPr>
          <a:xfrm>
            <a:off x="401652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1" lang="nl-NL" sz="1100" spc="-1" strike="noStrike">
                <a:solidFill>
                  <a:srgbClr val="000000"/>
                </a:solidFill>
                <a:latin typeface="TNO Oranda Wide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03E49B7-F1FE-4157-9949-861C79DF2B15}" type="slidenum"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9" name=""/>
          <p:cNvSpPr/>
          <p:nvPr/>
        </p:nvSpPr>
        <p:spPr>
          <a:xfrm>
            <a:off x="3306600" y="9628200"/>
            <a:ext cx="47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nl-NL" sz="2500" spc="-1" strike="noStrike">
                <a:solidFill>
                  <a:srgbClr val="ffffff"/>
                </a:solidFill>
                <a:latin typeface="TNO Logos V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NO Oranda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"/>
          <p:cNvSpPr txBox="1"/>
          <p:nvPr/>
        </p:nvSpPr>
        <p:spPr>
          <a:xfrm>
            <a:off x="401652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D13A03-4FED-4171-97B2-E283B7D3F0A2}" type="slidenum"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779" name=""/>
          <p:cNvSpPr txBox="1"/>
          <p:nvPr/>
        </p:nvSpPr>
        <p:spPr>
          <a:xfrm>
            <a:off x="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780" name=""/>
          <p:cNvSpPr txBox="1"/>
          <p:nvPr/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781" name=""/>
          <p:cNvSpPr txBox="1"/>
          <p:nvPr/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782" name="PlaceHolder 1"/>
          <p:cNvSpPr>
            <a:spLocks noGrp="1"/>
          </p:cNvSpPr>
          <p:nvPr>
            <p:ph type="sldImg"/>
          </p:nvPr>
        </p:nvSpPr>
        <p:spPr>
          <a:xfrm>
            <a:off x="1006560" y="507960"/>
            <a:ext cx="5075280" cy="3807000"/>
          </a:xfrm>
          <a:prstGeom prst="rect">
            <a:avLst/>
          </a:prstGeom>
          <a:ln w="0">
            <a:noFill/>
          </a:ln>
        </p:spPr>
      </p:sp>
      <p:sp>
        <p:nvSpPr>
          <p:cNvPr id="4783" name="PlaceHolder 2"/>
          <p:cNvSpPr>
            <a:spLocks noGrp="1"/>
          </p:cNvSpPr>
          <p:nvPr>
            <p:ph type="body"/>
          </p:nvPr>
        </p:nvSpPr>
        <p:spPr>
          <a:xfrm>
            <a:off x="906480" y="4635360"/>
            <a:ext cx="5834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300" spc="-1" strike="noStrike">
              <a:solidFill>
                <a:srgbClr val="000000"/>
              </a:solidFill>
              <a:latin typeface="TNO Oranda Wi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B72-142F-49F9-A595-C9856C39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02800" y="379656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30C-5A1B-4E18-B1F3-B6B52259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B67-0FD1-45D8-B556-20761B8E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592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0280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592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EEE-6BC5-4326-9B7E-ADA1B7CE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A28-DA9D-4692-B7B3-3A5FCF8D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77" name="PlaceHolder 2"/>
          <p:cNvSpPr>
            <a:spLocks noGrp="1"/>
          </p:cNvSpPr>
          <p:nvPr>
            <p:ph type="subTitle"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1DE0-8333-4690-9A4C-6171319C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79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57D-B9B6-405E-8072-E538DB83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8A55-502D-417A-90B1-A745611B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DC6B-DC1F-41D1-886F-2DBF081F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subTitle"/>
          </p:nvPr>
        </p:nvSpPr>
        <p:spPr>
          <a:xfrm>
            <a:off x="802800" y="364680"/>
            <a:ext cx="755028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B284-C0B9-4D78-8694-339C9B50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88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2C15-4824-4273-A55A-A1E1416B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01B-F138-498A-931B-49242862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1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2" name="PlaceHolder 4"/>
          <p:cNvSpPr>
            <a:spLocks noGrp="1"/>
          </p:cNvSpPr>
          <p:nvPr>
            <p:ph/>
          </p:nvPr>
        </p:nvSpPr>
        <p:spPr>
          <a:xfrm>
            <a:off x="467172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F22B-3FAD-4838-A1B4-63AF9133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6F68-440A-48BF-8021-877D470F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7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98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9" name="PlaceHolder 3"/>
          <p:cNvSpPr>
            <a:spLocks noGrp="1"/>
          </p:cNvSpPr>
          <p:nvPr>
            <p:ph/>
          </p:nvPr>
        </p:nvSpPr>
        <p:spPr>
          <a:xfrm>
            <a:off x="802800" y="379656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1B22-5E03-4623-90AC-ACF8944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4" name="PlaceHolder 5"/>
          <p:cNvSpPr>
            <a:spLocks noGrp="1"/>
          </p:cNvSpPr>
          <p:nvPr>
            <p:ph/>
          </p:nvPr>
        </p:nvSpPr>
        <p:spPr>
          <a:xfrm>
            <a:off x="467172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2637-3030-4010-B446-46CF1D24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35592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590868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9" name="PlaceHolder 5"/>
          <p:cNvSpPr>
            <a:spLocks noGrp="1"/>
          </p:cNvSpPr>
          <p:nvPr>
            <p:ph/>
          </p:nvPr>
        </p:nvSpPr>
        <p:spPr>
          <a:xfrm>
            <a:off x="80280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10" name="PlaceHolder 6"/>
          <p:cNvSpPr>
            <a:spLocks noGrp="1"/>
          </p:cNvSpPr>
          <p:nvPr>
            <p:ph/>
          </p:nvPr>
        </p:nvSpPr>
        <p:spPr>
          <a:xfrm>
            <a:off x="335592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11" name="PlaceHolder 7"/>
          <p:cNvSpPr>
            <a:spLocks noGrp="1"/>
          </p:cNvSpPr>
          <p:nvPr>
            <p:ph/>
          </p:nvPr>
        </p:nvSpPr>
        <p:spPr>
          <a:xfrm>
            <a:off x="590868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5C57-640D-495F-B323-0FAFC230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1FD-759C-4035-83D6-2129416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0FA-2078-48D9-B0C7-ADB9626F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869-92CC-4E68-98E5-FFA92F6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02800" y="364680"/>
            <a:ext cx="755028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4BC-D462-40A3-B2D0-ED0C9CA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086-B9A0-4623-9A54-E7154E0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780-133F-4A38-805D-5F3CA0DE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358-5B0F-43EB-9CD7-6A98101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59840" cy="6864480"/>
          </a:xfrm>
          <a:prstGeom prst="rect">
            <a:avLst/>
          </a:prstGeom>
          <a:solidFill>
            <a:srgbClr val="091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97560"/>
            <a:ext cx="9144000" cy="457200"/>
          </a:xfrm>
          <a:prstGeom prst="rect">
            <a:avLst/>
          </a:prstGeom>
          <a:solidFill>
            <a:srgbClr val="0d0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f"/>
                </a:solidFill>
                <a:latin typeface="TNO Oranda Wide"/>
              </a:rPr>
              <a:t>Click to edit the title text format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1" marL="681120" indent="-22392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2" marL="1143000" indent="-22860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3" marL="1600200" indent="-22860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4" marL="2057400" indent="-22860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5" marL="2057400" indent="-228600">
              <a:lnSpc>
                <a:spcPct val="120000"/>
              </a:lnSpc>
              <a:buClr>
                <a:srgbClr val="fffff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6" marL="2057400" indent="-228600">
              <a:lnSpc>
                <a:spcPct val="120000"/>
              </a:lnSpc>
              <a:buClr>
                <a:srgbClr val="fffff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14680" y="6535800"/>
            <a:ext cx="16448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TNO Oranda Wi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TNO Oranda Wi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61960" y="6535800"/>
            <a:ext cx="46627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8f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8f"/>
                </a:solidFill>
                <a:latin typeface="TNO Oranda Wi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34400" y="6535800"/>
            <a:ext cx="411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TNO Oranda Wi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0FE2-DFB0-499C-8539-79BAD82E505C}" type="slidenum">
              <a:rPr b="1" lang="nl-NL" sz="1200" spc="-1" strike="noStrike">
                <a:solidFill>
                  <a:srgbClr val="ffffff"/>
                </a:solidFill>
                <a:latin typeface="TNO Oranda Wi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7" name=""/>
          <p:cNvSpPr/>
          <p:nvPr/>
        </p:nvSpPr>
        <p:spPr>
          <a:xfrm>
            <a:off x="793800" y="642636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NO Logos V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97560"/>
            <a:ext cx="9140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59840" cy="68738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6" name="FT2_CORP" descr=""/>
          <p:cNvPicPr/>
          <p:nvPr/>
        </p:nvPicPr>
        <p:blipFill>
          <a:blip r:embed="rId2"/>
          <a:stretch/>
        </p:blipFill>
        <p:spPr>
          <a:xfrm>
            <a:off x="0" y="0"/>
            <a:ext cx="916776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1442520"/>
            <a:ext cx="6032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f"/>
                </a:solidFill>
                <a:latin typeface="TNO Oranda Wide"/>
              </a:rPr>
              <a:t>Click to edit the title text format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38400" y="6535800"/>
            <a:ext cx="19047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TNO Oranda Wi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82240" y="6535800"/>
            <a:ext cx="28954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8f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8f"/>
                </a:solidFill>
                <a:latin typeface="TNO Oranda Wi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5940360" y="6535800"/>
            <a:ext cx="411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F875-820B-4966-9516-D34AB98E9A13}" type="slidenum">
              <a:rPr b="1" lang="nl-NL" sz="1200" spc="-1" strike="noStrike">
                <a:solidFill>
                  <a:srgbClr val="ffffff"/>
                </a:solidFill>
                <a:latin typeface="TNO Oranda Wi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51" name=""/>
          <p:cNvSpPr/>
          <p:nvPr/>
        </p:nvSpPr>
        <p:spPr>
          <a:xfrm>
            <a:off x="230040" y="2971800"/>
            <a:ext cx="10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NO Oranda Wide"/>
              </a:rPr>
              <a:t>TNO TPD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2" name=""/>
          <p:cNvSpPr/>
          <p:nvPr/>
        </p:nvSpPr>
        <p:spPr>
          <a:xfrm>
            <a:off x="25560" y="2724120"/>
            <a:ext cx="57178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3" name=""/>
          <p:cNvSpPr/>
          <p:nvPr/>
        </p:nvSpPr>
        <p:spPr>
          <a:xfrm>
            <a:off x="5827680" y="2724120"/>
            <a:ext cx="8424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4" name=""/>
          <p:cNvSpPr/>
          <p:nvPr/>
        </p:nvSpPr>
        <p:spPr>
          <a:xfrm>
            <a:off x="5997600" y="2724120"/>
            <a:ext cx="96192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5" name=""/>
          <p:cNvSpPr/>
          <p:nvPr/>
        </p:nvSpPr>
        <p:spPr>
          <a:xfrm>
            <a:off x="7356600" y="2724120"/>
            <a:ext cx="838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6" name=""/>
          <p:cNvSpPr/>
          <p:nvPr/>
        </p:nvSpPr>
        <p:spPr>
          <a:xfrm>
            <a:off x="7837560" y="2724120"/>
            <a:ext cx="856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7" name=""/>
          <p:cNvSpPr/>
          <p:nvPr/>
        </p:nvSpPr>
        <p:spPr>
          <a:xfrm>
            <a:off x="8177040" y="2724120"/>
            <a:ext cx="11304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8" name=""/>
          <p:cNvSpPr/>
          <p:nvPr/>
        </p:nvSpPr>
        <p:spPr>
          <a:xfrm>
            <a:off x="8375760" y="2724120"/>
            <a:ext cx="1126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9" name=""/>
          <p:cNvSpPr/>
          <p:nvPr/>
        </p:nvSpPr>
        <p:spPr>
          <a:xfrm>
            <a:off x="8742240" y="2724120"/>
            <a:ext cx="3682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0" name=""/>
          <p:cNvSpPr/>
          <p:nvPr/>
        </p:nvSpPr>
        <p:spPr>
          <a:xfrm>
            <a:off x="8488440" y="2724120"/>
            <a:ext cx="253800" cy="720720"/>
          </a:xfrm>
          <a:prstGeom prst="rect">
            <a:avLst/>
          </a:prstGeom>
          <a:solidFill>
            <a:srgbClr val="7a8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1" name=""/>
          <p:cNvSpPr/>
          <p:nvPr/>
        </p:nvSpPr>
        <p:spPr>
          <a:xfrm>
            <a:off x="5743440" y="2724120"/>
            <a:ext cx="84240" cy="720720"/>
          </a:xfrm>
          <a:prstGeom prst="rect">
            <a:avLst/>
          </a:prstGeom>
          <a:solidFill>
            <a:srgbClr val="fe6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2" name=""/>
          <p:cNvSpPr/>
          <p:nvPr/>
        </p:nvSpPr>
        <p:spPr>
          <a:xfrm>
            <a:off x="5911920" y="2724120"/>
            <a:ext cx="85680" cy="720720"/>
          </a:xfrm>
          <a:prstGeom prst="rect">
            <a:avLst/>
          </a:prstGeom>
          <a:solidFill>
            <a:srgbClr val="fe6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3" name=""/>
          <p:cNvSpPr/>
          <p:nvPr/>
        </p:nvSpPr>
        <p:spPr>
          <a:xfrm>
            <a:off x="6959520" y="2724120"/>
            <a:ext cx="397080" cy="720720"/>
          </a:xfrm>
          <a:prstGeom prst="rect">
            <a:avLst/>
          </a:prstGeom>
          <a:solidFill>
            <a:srgbClr val="4b5a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4" name=""/>
          <p:cNvSpPr/>
          <p:nvPr/>
        </p:nvSpPr>
        <p:spPr>
          <a:xfrm>
            <a:off x="7440480" y="2724120"/>
            <a:ext cx="397080" cy="720720"/>
          </a:xfrm>
          <a:prstGeom prst="rect">
            <a:avLst/>
          </a:prstGeom>
          <a:solidFill>
            <a:srgbClr val="4b5a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5" name=""/>
          <p:cNvSpPr/>
          <p:nvPr/>
        </p:nvSpPr>
        <p:spPr>
          <a:xfrm>
            <a:off x="8290080" y="2724120"/>
            <a:ext cx="8568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6" name=""/>
          <p:cNvSpPr/>
          <p:nvPr/>
        </p:nvSpPr>
        <p:spPr>
          <a:xfrm>
            <a:off x="7923240" y="2724120"/>
            <a:ext cx="253800" cy="720720"/>
          </a:xfrm>
          <a:prstGeom prst="rect">
            <a:avLst/>
          </a:prstGeom>
          <a:solidFill>
            <a:srgbClr val="fff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67" name="MVC-224F" descr=""/>
          <p:cNvPicPr/>
          <p:nvPr/>
        </p:nvPicPr>
        <p:blipFill>
          <a:blip r:embed="rId3"/>
          <a:srcRect l="3920" t="26147" r="7843" b="15689"/>
          <a:stretch/>
        </p:blipFill>
        <p:spPr>
          <a:xfrm>
            <a:off x="-9360" y="3460680"/>
            <a:ext cx="6845040" cy="3414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0" y="3365640"/>
            <a:ext cx="10447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TNO Logos V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NO Oranda Wide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730760" y="4121280"/>
            <a:ext cx="4307040" cy="2689200"/>
            <a:chOff x="4730760" y="4121280"/>
            <a:chExt cx="4307040" cy="2689200"/>
          </a:xfrm>
        </p:grpSpPr>
        <p:grpSp>
          <p:nvGrpSpPr>
            <p:cNvPr id="70" name=""/>
            <p:cNvGrpSpPr/>
            <p:nvPr/>
          </p:nvGrpSpPr>
          <p:grpSpPr>
            <a:xfrm>
              <a:off x="4913280" y="4251600"/>
              <a:ext cx="3646440" cy="2215440"/>
              <a:chOff x="4913280" y="4251600"/>
              <a:chExt cx="3646440" cy="2215440"/>
            </a:xfrm>
          </p:grpSpPr>
          <p:sp>
            <p:nvSpPr>
              <p:cNvPr id="71" name=""/>
              <p:cNvSpPr/>
              <p:nvPr/>
            </p:nvSpPr>
            <p:spPr>
              <a:xfrm>
                <a:off x="4943520" y="4251600"/>
                <a:ext cx="3615480" cy="2185560"/>
              </a:xfrm>
              <a:prstGeom prst="rect">
                <a:avLst/>
              </a:prstGeom>
              <a:solidFill>
                <a:srgbClr val="ffff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943520" y="621864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43520" y="600156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43520" y="577836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943520" y="556128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43520" y="534384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43520" y="512604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43520" y="490860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43520" y="468576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943520" y="446832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943520" y="425160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4312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4776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4880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48040" y="4251600"/>
                <a:ext cx="72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5376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53360" y="4251600"/>
                <a:ext cx="72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75440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15904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55936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43520" y="4251600"/>
                <a:ext cx="3615480" cy="218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43520" y="4251600"/>
                <a:ext cx="72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13280" y="643716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13280" y="621864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13280" y="600156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13280" y="577836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13280" y="556128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13280" y="534384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913280" y="512604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913280" y="490860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13280" y="468576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913280" y="446832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13280" y="425160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43520" y="643716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943520" y="6405480"/>
                <a:ext cx="72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34312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74776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14880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548040" y="6405480"/>
                <a:ext cx="72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95376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7353360" y="6405480"/>
                <a:ext cx="72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775440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815904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55936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3440" y="613620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28840" y="614664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38920" y="61516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49360" y="6161760"/>
                <a:ext cx="432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53680" y="6171840"/>
                <a:ext cx="10080" cy="15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63760" y="6187320"/>
                <a:ext cx="540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69520" y="6203520"/>
                <a:ext cx="10080" cy="15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79600" y="6218640"/>
                <a:ext cx="1008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89680" y="6234480"/>
                <a:ext cx="4320" cy="15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94360" y="62499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04800" y="626004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09840" y="627012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20280" y="628128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24960" y="62863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35040" y="62964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45120" y="630144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50880" y="6306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60960" y="630684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65640" y="6306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75720" y="6301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4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85800" y="63014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91200" y="6296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01640" y="62964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06320" y="62964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16400" y="6291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26480" y="629136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31160" y="6286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41240" y="628632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4700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57080" y="628632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6176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7184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82280" y="6286320"/>
                <a:ext cx="504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8732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97760" y="628632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0244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12520" y="6286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22600" y="62913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28360" y="6291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338440" y="62964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43120" y="6296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53200" y="63014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63280" y="6301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68680" y="6306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78760" y="630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3800" y="63115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93880" y="63115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0"/>
                    </a:lnTo>
                    <a:lnTo>
                      <a:pt x="14" y="1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99280" y="6317640"/>
                <a:ext cx="936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08640" y="6317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18720" y="632268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24120" y="6322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34560" y="632772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39240" y="632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49320" y="63327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59400" y="63327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65160" y="6332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75240" y="633780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992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90000" y="6337800"/>
                <a:ext cx="504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9540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0548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515560" y="63378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2060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30680" y="633780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3608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46160" y="6332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2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56240" y="633276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280" y="63327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71360" y="63277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76760" y="63277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5586840" y="6322680"/>
                <a:ext cx="936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596200" y="631728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01600" y="6317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612040" y="6311520"/>
                <a:ext cx="432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5616720" y="63064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626800" y="630144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5632200" y="62960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642640" y="62913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5652720" y="628596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657040" y="62812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67480" y="6275880"/>
                <a:ext cx="50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5672880" y="62701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682960" y="62647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5693040" y="6255000"/>
                <a:ext cx="46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5698080" y="62499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708160" y="624456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5713560" y="62344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723640" y="6228720"/>
                <a:ext cx="46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728320" y="6218640"/>
                <a:ext cx="90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5737680" y="62132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5747760" y="620352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5753520" y="61930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763600" y="6187320"/>
                <a:ext cx="432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5768280" y="61768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778360" y="61668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5788440" y="6157440"/>
                <a:ext cx="4680" cy="9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793120" y="615168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803560" y="614160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5808960" y="61315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5819040" y="61210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5829120" y="6110280"/>
                <a:ext cx="46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5833800" y="61002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5843880" y="608976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5849640" y="60796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859720" y="6068520"/>
                <a:ext cx="46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5864400" y="605808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874480" y="60483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5884920" y="603828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5889960" y="602712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900400" y="601704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5905080" y="600660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15160" y="59914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0" y="36"/>
                    </a:moveTo>
                    <a:lnTo>
                      <a:pt x="13" y="12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925240" y="5980680"/>
                <a:ext cx="540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931000" y="59706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41080" y="595512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5945400" y="594396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955840" y="59389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965920" y="592884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71320" y="591372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5980680" y="5902560"/>
                <a:ext cx="540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86440" y="5887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996520" y="5877360"/>
                <a:ext cx="46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6001200" y="58662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011280" y="58561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6021360" y="585108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26760" y="58359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2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036840" y="5824800"/>
                <a:ext cx="46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6041880" y="581436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051960" y="58046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062040" y="579420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067440" y="578304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6077880" y="577296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082560" y="576252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6092640" y="575280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098040" y="574164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08120" y="57265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118200" y="571644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6122880" y="57063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133320" y="569592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138720" y="56858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148800" y="56757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6158880" y="5664600"/>
                <a:ext cx="46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163560" y="56545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174000" y="5644440"/>
                <a:ext cx="46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178680" y="56343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188760" y="56232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198840" y="561312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204240" y="56030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6214320" y="5592600"/>
                <a:ext cx="46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219360" y="55818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6229440" y="557172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234840" y="55663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244920" y="55566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255360" y="554616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6259680" y="55350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270120" y="552492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275880" y="4717440"/>
              <a:ext cx="1609920" cy="806760"/>
              <a:chOff x="6275880" y="4717440"/>
              <a:chExt cx="1609920" cy="80676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6275880" y="551448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285960" y="55047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296040" y="5498640"/>
                <a:ext cx="432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300720" y="54885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6310800" y="547848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316560" y="54684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326640" y="546300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6331320" y="54522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6341400" y="54421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351480" y="543672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6356880" y="5426640"/>
                <a:ext cx="936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6366600" y="5420880"/>
                <a:ext cx="540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6372000" y="54108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6382080" y="54003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6392160" y="5394960"/>
                <a:ext cx="46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6396840" y="53852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6406920" y="5379480"/>
                <a:ext cx="540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6412320" y="53690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6422760" y="53640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6432840" y="535392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6437520" y="53488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6447600" y="5337720"/>
                <a:ext cx="504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453000" y="53326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463440" y="532728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468120" y="5317560"/>
                <a:ext cx="936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6477480" y="53121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487560" y="530244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6492960" y="52963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503040" y="529128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6507720" y="52812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6517800" y="52758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528240" y="527076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533640" y="52610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543720" y="5254920"/>
                <a:ext cx="432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6548400" y="52498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558840" y="52444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568920" y="523440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6573240" y="52293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6583680" y="5224680"/>
                <a:ext cx="5400" cy="3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6589080" y="521928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599160" y="521424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603840" y="52041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6614280" y="51987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6624360" y="519372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6629760" y="51886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6639840" y="5183640"/>
                <a:ext cx="46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6644520" y="517788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654600" y="516744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664680" y="516240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6670440" y="51573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6680520" y="515232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685200" y="51469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6695280" y="514224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6700680" y="51361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711120" y="51310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721200" y="512604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25880" y="51206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6735960" y="511560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40640" y="5115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750720" y="511092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761160" y="510552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6766560" y="509472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76640" y="508932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6781320" y="508464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791400" y="50792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6801480" y="507456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07240" y="5074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6817320" y="5069160"/>
                <a:ext cx="46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6822000" y="50641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6832080" y="505908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837480" y="50533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6847560" y="50479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58000" y="504828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6862680" y="504324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872760" y="503784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878160" y="503280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888240" y="50277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6898680" y="502272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6903000" y="50173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13440" y="501768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918840" y="50119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6928920" y="500652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3600" y="50068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944040" y="50014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6954120" y="499644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958440" y="499140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68880" y="499140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974280" y="49860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6984360" y="498132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6994440" y="4975560"/>
                <a:ext cx="46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6999480" y="497052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09560" y="497052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14960" y="4965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1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25040" y="49654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7035480" y="496008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7039800" y="49546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49880" y="49550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7055640" y="495000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7065720" y="494460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70400" y="4944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7080480" y="493992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7090920" y="4933800"/>
                <a:ext cx="540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96320" y="4933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7106400" y="492840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7111080" y="49233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121160" y="49237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131240" y="49186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135920" y="49186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46360" y="49136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51760" y="4913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161840" y="490860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7171920" y="4903200"/>
                <a:ext cx="46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6600" y="4903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86680" y="48981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92440" y="4898160"/>
                <a:ext cx="936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01800" y="489816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206120" y="489240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216560" y="48870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26640" y="48873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32040" y="4882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42120" y="488232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47160" y="48772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57240" y="48772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67320" y="48722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72720" y="48722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83160" y="4867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87480" y="48672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7297560" y="486180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7303320" y="4856760"/>
                <a:ext cx="936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12680" y="48567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22760" y="4851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28160" y="48510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38600" y="485100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342920" y="48456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7353360" y="48405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63440" y="48405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68840" y="4840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8920" y="4835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83600" y="48358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94040" y="483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04120" y="483048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09520" y="4825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19600" y="482544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4280" y="48254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34360" y="48204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40120" y="48204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450200" y="48204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60280" y="48153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64960" y="48153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75040" y="48096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80440" y="48096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90880" y="48096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500960" y="4804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505640" y="4804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5720" y="4799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520400" y="47991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30480" y="47941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535880" y="47941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7546320" y="47890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56400" y="478368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61080" y="47840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71160" y="47840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76920" y="4779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87000" y="47790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97080" y="47790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01760" y="47790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11840" y="47678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1724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27320" y="4773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37760" y="47678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642440" y="4767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7652520" y="4763520"/>
                <a:ext cx="5400" cy="3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657920" y="47584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68360" y="475884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72680" y="4758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82760" y="4753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93200" y="475344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97880" y="47534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707960" y="47484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713360" y="47484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23800" y="4743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33880" y="474336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38560" y="47433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48640" y="47433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754040" y="47433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7764120" y="47379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7774200" y="4732560"/>
                <a:ext cx="46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79240" y="4732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89320" y="47325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794720" y="4732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804800" y="473256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0948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819560" y="47271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829640" y="47271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35400" y="47271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45480" y="472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50160" y="47221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60240" y="47221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70680" y="4722120"/>
                <a:ext cx="504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75720" y="4717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4994640" y="4619160"/>
              <a:ext cx="3564000" cy="1761120"/>
              <a:chOff x="4994640" y="4619160"/>
              <a:chExt cx="3564000" cy="1761120"/>
            </a:xfrm>
          </p:grpSpPr>
          <p:sp>
            <p:nvSpPr>
              <p:cNvPr id="473" name=""/>
              <p:cNvSpPr/>
              <p:nvPr/>
            </p:nvSpPr>
            <p:spPr>
              <a:xfrm>
                <a:off x="7886160" y="471744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90840" y="4712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00920" y="47120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905600" y="4712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915680" y="47120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26120" y="47120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931520" y="4712040"/>
                <a:ext cx="936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40880" y="470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45560" y="47070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55640" y="47070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65720" y="47019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971120" y="4701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81560" y="470196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85880" y="4701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96320" y="4696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006400" y="469692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011800" y="46969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021880" y="469692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8026920" y="469116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37000" y="46857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42400" y="4685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052480" y="46911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062560" y="469116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067240" y="46911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077320" y="469692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8082360" y="469116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092440" y="4680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02520" y="46807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8107920" y="46756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8118360" y="467028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12268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133120" y="46706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13852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14860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158680" y="467064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16336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173800" y="4670640"/>
                <a:ext cx="504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17920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189280" y="46656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199360" y="46656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204040" y="46656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214120" y="46605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219880" y="4660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229960" y="4660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240040" y="4655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244720" y="46555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254800" y="464436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0" y="25"/>
                    </a:moveTo>
                    <a:lnTo>
                      <a:pt x="0" y="11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60200" y="46443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2" y="11"/>
                    </a:lnTo>
                    <a:lnTo>
                      <a:pt x="24" y="25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269920" y="4649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8275320" y="46443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285400" y="4639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295480" y="46393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0"/>
                    </a:moveTo>
                    <a:lnTo>
                      <a:pt x="0" y="12"/>
                    </a:lnTo>
                    <a:lnTo>
                      <a:pt x="12" y="2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300160" y="46494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10240" y="4649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1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316000" y="46443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5"/>
                    </a:moveTo>
                    <a:lnTo>
                      <a:pt x="12" y="11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326080" y="4644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0"/>
                    </a:moveTo>
                    <a:lnTo>
                      <a:pt x="12" y="0"/>
                    </a:lnTo>
                    <a:lnTo>
                      <a:pt x="26" y="1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336160" y="464940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340840" y="46443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351280" y="4639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56320" y="46393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0"/>
                    </a:moveTo>
                    <a:lnTo>
                      <a:pt x="12" y="12"/>
                    </a:lnTo>
                    <a:lnTo>
                      <a:pt x="26" y="2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366760" y="46494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376840" y="46494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381520" y="46393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23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391600" y="46393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397360" y="46443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407440" y="462924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8412120" y="462384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422200" y="4623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432280" y="462384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37680" y="46292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447760" y="463428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452800" y="463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462880" y="4639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472960" y="4634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477640" y="46342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487720" y="46342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493120" y="46393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503560" y="462384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508240" y="4623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518320" y="46191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528400" y="461916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4" y="24"/>
                    </a:lnTo>
                    <a:lnTo>
                      <a:pt x="14" y="3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533800" y="4629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544240" y="462384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548560" y="4623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94640" y="6177240"/>
                <a:ext cx="432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98960" y="6193080"/>
                <a:ext cx="9360" cy="1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08320" y="620856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14080" y="6218640"/>
                <a:ext cx="936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23440" y="6228720"/>
                <a:ext cx="540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28840" y="623484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38920" y="62398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5049360" y="6228720"/>
                <a:ext cx="432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53680" y="6203520"/>
                <a:ext cx="10080" cy="252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0" y="60"/>
                    </a:moveTo>
                    <a:lnTo>
                      <a:pt x="0" y="48"/>
                    </a:lnTo>
                    <a:lnTo>
                      <a:pt x="14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063760" y="6203520"/>
                <a:ext cx="5400" cy="201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4" y="48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069520" y="6223680"/>
                <a:ext cx="10080" cy="31320"/>
              </a:xfrm>
              <a:custGeom>
                <a:avLst/>
                <a:gdLst/>
                <a:ahLst/>
                <a:rect l="l" t="t" r="r" b="b"/>
                <a:pathLst>
                  <a:path w="26" h="74">
                    <a:moveTo>
                      <a:pt x="0" y="0"/>
                    </a:moveTo>
                    <a:lnTo>
                      <a:pt x="12" y="38"/>
                    </a:lnTo>
                    <a:lnTo>
                      <a:pt x="26" y="7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79600" y="6255000"/>
                <a:ext cx="10080" cy="20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089680" y="6276240"/>
                <a:ext cx="4320" cy="1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094360" y="6291360"/>
                <a:ext cx="10080" cy="1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04800" y="6306840"/>
                <a:ext cx="50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09840" y="63176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120280" y="632772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124960" y="63381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35040" y="63428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45120" y="634824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150880" y="635328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160960" y="635904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65640" y="6359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75720" y="6359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85800" y="635904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91200" y="6359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01280" y="63532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20632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1640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26480" y="635328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3116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41240" y="635328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4700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57080" y="635328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6176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27184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81920" y="6353280"/>
                <a:ext cx="504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28732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297760" y="635328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0244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12520" y="63532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22600" y="635904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28000" y="6359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38440" y="6359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343120" y="63640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353200" y="63640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363280" y="63640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368680" y="63694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378760" y="636948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83800" y="63694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93880" y="63694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99280" y="6374160"/>
                <a:ext cx="936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08640" y="6374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18720" y="63741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24120" y="6374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434560" y="63741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439240" y="6374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449320" y="6379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59400" y="63795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65160" y="6374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75240" y="63741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79560" y="6374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90000" y="6374160"/>
                <a:ext cx="504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95400" y="6374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05480" y="6369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15560" y="636948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20600" y="63694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30680" y="63640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36080" y="63640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46160" y="6359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2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56240" y="635904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560920" y="635328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571000" y="634788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5576760" y="63428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86840" y="6342840"/>
                <a:ext cx="936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5596200" y="633780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601600" y="633276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5612040" y="632736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5616360" y="63226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5626800" y="631728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5632200" y="631188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642280" y="63064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652360" y="630144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657040" y="629136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667480" y="6285960"/>
                <a:ext cx="50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672880" y="62812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682960" y="62758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5693040" y="6265080"/>
                <a:ext cx="46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5697720" y="62600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707800" y="624996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713560" y="62445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723640" y="623988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5728320" y="6228720"/>
                <a:ext cx="90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5737680" y="62236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747760" y="6213240"/>
                <a:ext cx="54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5753520" y="62035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763600" y="619812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5767920" y="618732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5778360" y="61772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5788440" y="617184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5793120" y="6161400"/>
                <a:ext cx="1008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5803200" y="615168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5808960" y="614160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819040" y="613656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829120" y="6126120"/>
                <a:ext cx="46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833800" y="61160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843880" y="6105240"/>
                <a:ext cx="54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849280" y="609480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859360" y="6084720"/>
                <a:ext cx="46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864400" y="60746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5874480" y="606348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5884560" y="6053400"/>
                <a:ext cx="504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5889960" y="60480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5900400" y="603828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904720" y="60271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15160" y="6027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13" y="0"/>
                    </a:lnTo>
                    <a:lnTo>
                      <a:pt x="25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5925240" y="4867200"/>
              <a:ext cx="1605240" cy="1165680"/>
              <a:chOff x="5925240" y="4867200"/>
              <a:chExt cx="1605240" cy="1165680"/>
            </a:xfrm>
          </p:grpSpPr>
          <p:sp>
            <p:nvSpPr>
              <p:cNvPr id="674" name=""/>
              <p:cNvSpPr/>
              <p:nvPr/>
            </p:nvSpPr>
            <p:spPr>
              <a:xfrm>
                <a:off x="5925240" y="60220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930640" y="5960160"/>
                <a:ext cx="10080" cy="61560"/>
              </a:xfrm>
              <a:custGeom>
                <a:avLst/>
                <a:gdLst/>
                <a:ahLst/>
                <a:rect l="l" t="t" r="r" b="b"/>
                <a:pathLst>
                  <a:path w="26" h="146">
                    <a:moveTo>
                      <a:pt x="0" y="146"/>
                    </a:moveTo>
                    <a:lnTo>
                      <a:pt x="0" y="110"/>
                    </a:lnTo>
                    <a:lnTo>
                      <a:pt x="12" y="74"/>
                    </a:lnTo>
                    <a:lnTo>
                      <a:pt x="26" y="2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940720" y="596016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2" y="36"/>
                    </a:lnTo>
                    <a:lnTo>
                      <a:pt x="12" y="48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945400" y="5975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55480" y="5970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65560" y="5950080"/>
                <a:ext cx="5400" cy="201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48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5971320" y="5938920"/>
                <a:ext cx="936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80680" y="59389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86080" y="5923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96160" y="592344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000840" y="59076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26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6010920" y="58975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021000" y="58820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26760" y="58820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036840" y="58719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041520" y="5856120"/>
                <a:ext cx="1008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51600" y="58406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62040" y="5840640"/>
                <a:ext cx="504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067080" y="58244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26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077520" y="581904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6082200" y="58093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092280" y="5799240"/>
                <a:ext cx="504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6097680" y="578916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108120" y="577800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6118200" y="576792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6122880" y="57578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32960" y="574164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138360" y="57366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148440" y="57265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6158520" y="572112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63560" y="5706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3640" y="5700240"/>
                <a:ext cx="46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178320" y="5690520"/>
                <a:ext cx="10080" cy="9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188400" y="568080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198480" y="567072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6204240" y="566460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6214320" y="5654520"/>
                <a:ext cx="46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219000" y="564408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229080" y="563400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234480" y="56286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6244560" y="561816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255000" y="560808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259680" y="56026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6269760" y="5592600"/>
                <a:ext cx="504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6275160" y="558180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6285600" y="557640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6295680" y="5565960"/>
                <a:ext cx="432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00000" y="5561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10440" y="55461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315840" y="55400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325920" y="552996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330600" y="552492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341040" y="55195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6351120" y="550980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6356520" y="5498640"/>
                <a:ext cx="936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6365880" y="549360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371280" y="54835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6381360" y="54781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6391440" y="547308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6396480" y="5463000"/>
                <a:ext cx="1008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6406560" y="5452200"/>
                <a:ext cx="54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6411960" y="54468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422040" y="544176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432480" y="543168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437160" y="54262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447240" y="5415840"/>
                <a:ext cx="50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452640" y="54104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62720" y="540540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467400" y="5395320"/>
                <a:ext cx="936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6476760" y="53902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6486840" y="538488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6492600" y="53791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502680" y="536904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507360" y="5358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517440" y="53589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527880" y="535356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533280" y="53438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543360" y="5332680"/>
                <a:ext cx="432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48040" y="53272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8120" y="53276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68200" y="531756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6572880" y="53121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583320" y="530712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6588720" y="53020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6598800" y="5296320"/>
                <a:ext cx="432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6603480" y="52862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6613560" y="52808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6623640" y="527580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6629400" y="52707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6639480" y="526572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6644160" y="52603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6654240" y="52549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6664320" y="524952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6669720" y="52444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680160" y="523440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84840" y="52344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6694920" y="522936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6700320" y="5224680"/>
                <a:ext cx="10080" cy="3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710760" y="52142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720840" y="52142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6725520" y="520884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6735600" y="520416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740280" y="5193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750360" y="51937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760800" y="518832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766200" y="51775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776280" y="517752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6780960" y="51724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6791040" y="516744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6801120" y="516240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6806880" y="51570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6816960" y="515232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6821640" y="51469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6831720" y="514224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837120" y="51422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6847200" y="51361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857640" y="513072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6862320" y="51260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6872400" y="512064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6877800" y="51156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6888240" y="511092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898320" y="511092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902640" y="51055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913080" y="510084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6918480" y="50947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6928560" y="508932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6933240" y="50846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43680" y="50846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953760" y="507924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6958440" y="507456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68520" y="50745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973920" y="50691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6984000" y="50641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6994440" y="505908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999120" y="50533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009200" y="505332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7014600" y="50479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7024680" y="50432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35120" y="504324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7039800" y="503784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7049880" y="503280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055280" y="50328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7065360" y="502740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7070040" y="502272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080120" y="502272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90560" y="50176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095960" y="50176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106040" y="500688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110720" y="50068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121160" y="5001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131240" y="500148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135560" y="4996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146000" y="49968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7151400" y="499140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7161480" y="49860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171560" y="498636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176600" y="4981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186680" y="498132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7192080" y="4975560"/>
                <a:ext cx="936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7201440" y="497016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6120" y="4970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216560" y="4965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226640" y="496548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32040" y="4960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42120" y="496008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246800" y="4955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256880" y="4955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7266960" y="495000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7272720" y="49446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282800" y="49449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287480" y="49449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7297560" y="493992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7302960" y="4933800"/>
                <a:ext cx="936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312320" y="49338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322400" y="49287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28160" y="49287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7338240" y="492336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42920" y="4918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353000" y="4918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363440" y="49186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7368840" y="49132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78920" y="491364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383600" y="49086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93680" y="49086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403760" y="49035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09520" y="4903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19600" y="489816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7424280" y="489240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434360" y="48924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439760" y="48924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449840" y="48870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460280" y="488232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64960" y="488232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475040" y="48772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11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80440" y="4877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490880" y="4872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00960" y="487224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05640" y="486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15720" y="486720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520400" y="48672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4994640" y="4660560"/>
              <a:ext cx="3564000" cy="1626480"/>
              <a:chOff x="4994640" y="4660560"/>
              <a:chExt cx="3564000" cy="1626480"/>
            </a:xfrm>
          </p:grpSpPr>
          <p:sp>
            <p:nvSpPr>
              <p:cNvPr id="875" name=""/>
              <p:cNvSpPr/>
              <p:nvPr/>
            </p:nvSpPr>
            <p:spPr>
              <a:xfrm>
                <a:off x="7530480" y="48621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535880" y="4862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546320" y="4856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556400" y="48567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60720" y="4851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571160" y="48510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576560" y="48510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86640" y="48510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96720" y="4845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1760" y="48459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7611840" y="484056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617240" y="48351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627320" y="483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37760" y="4830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42080" y="483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652160" y="483048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657920" y="48304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68000" y="48254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672680" y="48254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82760" y="4820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693200" y="482040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697520" y="4815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07960" y="48153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13360" y="48153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23440" y="48153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733520" y="4809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38200" y="48092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48640" y="48045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54040" y="4804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64120" y="4804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774200" y="480456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778880" y="4799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788960" y="47991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794720" y="4799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7804800" y="4793760"/>
                <a:ext cx="46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809480" y="4789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819560" y="4789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829640" y="479412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7835040" y="47890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7845480" y="478368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50160" y="4784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860240" y="4784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870320" y="4784040"/>
                <a:ext cx="504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7875720" y="477900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86160" y="4773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890840" y="4773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00920" y="4773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0560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91568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926120" y="47739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931520" y="476784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940880" y="47678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945560" y="47588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5640" y="4758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965720" y="4758840"/>
                <a:ext cx="504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7971120" y="47534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981560" y="4748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985880" y="4748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6320" y="47534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006400" y="475884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8011800" y="47534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8021880" y="4748040"/>
                <a:ext cx="46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026920" y="47484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037000" y="47484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042400" y="4743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052480" y="47433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062560" y="4743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2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67240" y="4743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77320" y="474336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082360" y="47325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92440" y="47325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4" y="14"/>
                    </a:lnTo>
                    <a:lnTo>
                      <a:pt x="26" y="26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102520" y="47383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107920" y="473832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118360" y="47325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122680" y="4732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133120" y="47325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13852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14860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158680" y="47325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163360" y="4732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8173800" y="4727160"/>
                <a:ext cx="50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179200" y="471708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189280" y="47170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199360" y="4717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204040" y="472212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214120" y="47170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219880" y="47170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229960" y="47019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240040" y="470196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2" y="36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244720" y="47170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8254800" y="471672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260200" y="47070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269920" y="47070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275320" y="4712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285400" y="4707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36"/>
                    </a:ln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295480" y="470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300160" y="4712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310240" y="470700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316000" y="4707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326080" y="4707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8336160" y="470196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340840" y="468576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351280" y="4685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356320" y="4690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366760" y="46908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26" y="38"/>
                    </a:lnTo>
                    <a:lnTo>
                      <a:pt x="26" y="38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376840" y="4685760"/>
                <a:ext cx="4680" cy="2124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50"/>
                    </a:move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381520" y="4685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391600" y="46908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397360" y="46908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407440" y="46908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14"/>
                    </a:lnTo>
                    <a:lnTo>
                      <a:pt x="12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412120" y="467064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62"/>
                    </a:moveTo>
                    <a:lnTo>
                      <a:pt x="0" y="48"/>
                    </a:lnTo>
                    <a:lnTo>
                      <a:pt x="14" y="24"/>
                    </a:ln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422200" y="467064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0"/>
                    </a:moveTo>
                    <a:lnTo>
                      <a:pt x="14" y="0"/>
                    </a:lnTo>
                    <a:lnTo>
                      <a:pt x="14" y="24"/>
                    </a:lnTo>
                    <a:lnTo>
                      <a:pt x="26" y="36"/>
                    </a:lnTo>
                    <a:lnTo>
                      <a:pt x="26" y="48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432280" y="46908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437680" y="467568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0" y="36"/>
                    </a:ln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447760" y="467568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452800" y="4685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462880" y="4660560"/>
                <a:ext cx="10080" cy="30240"/>
              </a:xfrm>
              <a:custGeom>
                <a:avLst/>
                <a:gdLst/>
                <a:ahLst/>
                <a:rect l="l" t="t" r="r" b="b"/>
                <a:pathLst>
                  <a:path w="26" h="72">
                    <a:moveTo>
                      <a:pt x="0" y="72"/>
                    </a:moveTo>
                    <a:lnTo>
                      <a:pt x="12" y="60"/>
                    </a:lnTo>
                    <a:lnTo>
                      <a:pt x="12" y="36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472960" y="4660560"/>
                <a:ext cx="4320" cy="3024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0"/>
                    </a:moveTo>
                    <a:lnTo>
                      <a:pt x="0" y="12"/>
                    </a:lnTo>
                    <a:lnTo>
                      <a:pt x="0" y="36"/>
                    </a:lnTo>
                    <a:lnTo>
                      <a:pt x="12" y="60"/>
                    </a:lnTo>
                    <a:lnTo>
                      <a:pt x="12" y="7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477640" y="46908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14" y="14"/>
                    </a:lnTo>
                    <a:lnTo>
                      <a:pt x="25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487720" y="468576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493120" y="4660560"/>
                <a:ext cx="10080" cy="252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0" y="60"/>
                    </a:moveTo>
                    <a:lnTo>
                      <a:pt x="0" y="48"/>
                    </a:ln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503560" y="4660560"/>
                <a:ext cx="4320" cy="3024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0"/>
                    </a:moveTo>
                    <a:lnTo>
                      <a:pt x="0" y="12"/>
                    </a:lnTo>
                    <a:lnTo>
                      <a:pt x="0" y="36"/>
                    </a:lnTo>
                    <a:lnTo>
                      <a:pt x="12" y="60"/>
                    </a:lnTo>
                    <a:lnTo>
                      <a:pt x="12" y="7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508240" y="4680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0" y="24"/>
                    </a:lnTo>
                    <a:lnTo>
                      <a:pt x="14" y="12"/>
                    </a:ln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518320" y="468072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14" y="12"/>
                    </a:lnTo>
                    <a:lnTo>
                      <a:pt x="14" y="38"/>
                    </a:lnTo>
                    <a:lnTo>
                      <a:pt x="26" y="50"/>
                    </a:lnTo>
                    <a:lnTo>
                      <a:pt x="26" y="6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528400" y="468576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50"/>
                    </a:moveTo>
                    <a:lnTo>
                      <a:pt x="0" y="50"/>
                    </a:lnTo>
                    <a:lnTo>
                      <a:pt x="0" y="38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533800" y="466560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544240" y="46656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548560" y="4675680"/>
                <a:ext cx="10080" cy="36360"/>
              </a:xfrm>
              <a:custGeom>
                <a:avLst/>
                <a:gdLst/>
                <a:ahLst/>
                <a:rect l="l" t="t" r="r" b="b"/>
                <a:pathLst>
                  <a:path w="26" h="86">
                    <a:moveTo>
                      <a:pt x="0" y="0"/>
                    </a:moveTo>
                    <a:lnTo>
                      <a:pt x="14" y="36"/>
                    </a:lnTo>
                    <a:lnTo>
                      <a:pt x="26" y="86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994640" y="6027120"/>
                <a:ext cx="432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998960" y="6043320"/>
                <a:ext cx="9360" cy="15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008320" y="6058440"/>
                <a:ext cx="540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14080" y="6074280"/>
                <a:ext cx="936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23440" y="608472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28840" y="609480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38920" y="6104880"/>
                <a:ext cx="1008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49360" y="612108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0"/>
                    </a:moveTo>
                    <a:lnTo>
                      <a:pt x="0" y="24"/>
                    </a:lnTo>
                    <a:lnTo>
                      <a:pt x="12" y="48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3680" y="6141600"/>
                <a:ext cx="1008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63760" y="6157440"/>
                <a:ext cx="5400" cy="14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69520" y="6171840"/>
                <a:ext cx="10080" cy="15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79600" y="6187320"/>
                <a:ext cx="1008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89680" y="620316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94360" y="6213600"/>
                <a:ext cx="1008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104800" y="6223320"/>
                <a:ext cx="504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109840" y="62287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120280" y="623448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124960" y="62395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135040" y="62449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45120" y="62449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150880" y="6244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5160960" y="6239520"/>
                <a:ext cx="46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5165640" y="62341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5175720" y="62287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5185800" y="622332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5191200" y="62182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5201280" y="621324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206320" y="62136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5216400" y="62082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226480" y="620280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231160" y="62031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241240" y="61981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47000" y="6198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57080" y="619812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61760" y="6198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71840" y="6198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81920" y="6198120"/>
                <a:ext cx="504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87320" y="6198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97760" y="6198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02440" y="62031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12520" y="6203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22600" y="62082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28000" y="62082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38440" y="621360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43120" y="62186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3200" y="62233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63280" y="62287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68680" y="62287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78760" y="623448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83800" y="62395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93880" y="624492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99280" y="624960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08640" y="62496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18720" y="625500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24120" y="62600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34560" y="626508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39240" y="62650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49320" y="62701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59400" y="627624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65160" y="6276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0"/>
                    </a:moveTo>
                    <a:lnTo>
                      <a:pt x="12" y="0"/>
                    </a:lnTo>
                    <a:lnTo>
                      <a:pt x="26" y="11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75240" y="628092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79560" y="62809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90000" y="6280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9540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50548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515560" y="628632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52060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530680" y="62863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53608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54616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556240" y="6280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560920" y="62809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5571360" y="4851000"/>
              <a:ext cx="1605240" cy="1430640"/>
              <a:chOff x="5571360" y="4851000"/>
              <a:chExt cx="1605240" cy="1430640"/>
            </a:xfrm>
          </p:grpSpPr>
          <p:sp>
            <p:nvSpPr>
              <p:cNvPr id="1076" name=""/>
              <p:cNvSpPr/>
              <p:nvPr/>
            </p:nvSpPr>
            <p:spPr>
              <a:xfrm>
                <a:off x="5571360" y="62809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76760" y="62758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86840" y="627588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5596200" y="6270120"/>
                <a:ext cx="540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5601600" y="62647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612040" y="626508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5616720" y="62600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5626800" y="625464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5632200" y="62496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642280" y="624420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5652360" y="623952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5657040" y="62341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5667480" y="6223320"/>
                <a:ext cx="504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5672880" y="62179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5682960" y="62132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5693040" y="620316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5698080" y="61981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708160" y="6186960"/>
                <a:ext cx="540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5713560" y="61819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5723640" y="617184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5728320" y="6161400"/>
                <a:ext cx="900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5737680" y="6157080"/>
                <a:ext cx="10080" cy="3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5747760" y="6146280"/>
                <a:ext cx="540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5753520" y="613620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5763600" y="612612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767920" y="6121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778360" y="610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5788440" y="609948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5793120" y="60897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5803200" y="607968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08960" y="60634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5819040" y="605340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5829120" y="604296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5833800" y="603288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5843880" y="6022080"/>
                <a:ext cx="540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5849280" y="601164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5859720" y="600156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5864400" y="599148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5874480" y="598068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84560" y="596520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5889960" y="5954760"/>
                <a:ext cx="1008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900400" y="59389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38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905080" y="59288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915160" y="5928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13" y="12"/>
                    </a:lnTo>
                    <a:lnTo>
                      <a:pt x="25" y="12"/>
                    </a:lnTo>
                    <a:lnTo>
                      <a:pt x="25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925240" y="5907600"/>
                <a:ext cx="5400" cy="25920"/>
              </a:xfrm>
              <a:custGeom>
                <a:avLst/>
                <a:gdLst/>
                <a:ahLst/>
                <a:rect l="l" t="t" r="r" b="b"/>
                <a:pathLst>
                  <a:path w="14" h="62">
                    <a:moveTo>
                      <a:pt x="0" y="62"/>
                    </a:moveTo>
                    <a:lnTo>
                      <a:pt x="0" y="38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30640" y="5871960"/>
                <a:ext cx="10080" cy="35640"/>
              </a:xfrm>
              <a:custGeom>
                <a:avLst/>
                <a:gdLst/>
                <a:ahLst/>
                <a:rect l="l" t="t" r="r" b="b"/>
                <a:pathLst>
                  <a:path w="26" h="84">
                    <a:moveTo>
                      <a:pt x="0" y="84"/>
                    </a:moveTo>
                    <a:lnTo>
                      <a:pt x="12" y="36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940720" y="5850720"/>
                <a:ext cx="4320" cy="208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50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945400" y="5850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14" y="24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55840" y="5850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965920" y="58507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71320" y="584064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12" y="24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5980680" y="5824440"/>
                <a:ext cx="540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986440" y="581472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996520" y="578916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0" y="59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01200" y="57830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011280" y="5778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21360" y="576288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6026760" y="575280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6036840" y="5747760"/>
                <a:ext cx="46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041880" y="573156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6051960" y="572112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062040" y="570600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067440" y="57002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6077880" y="5695560"/>
                <a:ext cx="4320" cy="3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082200" y="567540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92640" y="56595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98040" y="56545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108120" y="5649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118200" y="562896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48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122880" y="56181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6133320" y="560808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138720" y="5592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6148800" y="558180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6158880" y="557136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6163560" y="55663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6173640" y="555624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6178680" y="55461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6188760" y="553500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V="1">
                <a:off x="6198840" y="552492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204240" y="55098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6214320" y="5498640"/>
                <a:ext cx="46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6219000" y="54936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6229440" y="548352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6234840" y="547308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6244920" y="5463000"/>
                <a:ext cx="1008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6255000" y="5452200"/>
                <a:ext cx="432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6259680" y="54417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6270120" y="5436360"/>
                <a:ext cx="504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6275520" y="542664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6285600" y="542088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6295680" y="541044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6300360" y="54003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6310440" y="539028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6316200" y="537912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6326280" y="536904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6330960" y="53589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6341040" y="535356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6351120" y="534888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V="1">
                <a:off x="6356520" y="5337720"/>
                <a:ext cx="936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6366240" y="532764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6371640" y="53222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6381720" y="531252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6391800" y="5307120"/>
                <a:ext cx="46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396480" y="529632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V="1">
                <a:off x="6406560" y="529128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V="1">
                <a:off x="6412320" y="528084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6422400" y="52754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6432480" y="526572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6437160" y="52603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6447600" y="5254920"/>
                <a:ext cx="504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52640" y="5239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463080" y="52394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467760" y="52293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477120" y="52293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487200" y="521928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6492600" y="52142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6503040" y="520380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7360" y="51886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17800" y="5188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V="1">
                <a:off x="6527880" y="518832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6533280" y="517752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6543360" y="517212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6548040" y="51674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6558480" y="51624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6568560" y="515232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6573240" y="51469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6583320" y="514224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6588720" y="51361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599160" y="513612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603480" y="5126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6613920" y="5115600"/>
                <a:ext cx="1008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24000" y="511092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629400" y="51109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>
                <a:off x="6639480" y="510552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6644520" y="510048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654600" y="508968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664680" y="50896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670080" y="50796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6680160" y="507420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684840" y="50742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694920" y="506916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6700680" y="50641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710760" y="50533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720840" y="505332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6725520" y="50479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6735960" y="504288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740280" y="50428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750360" y="50328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6760800" y="502740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6766200" y="50227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6776280" y="501732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6780960" y="501156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791400" y="50115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V="1">
                <a:off x="6801480" y="500652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6806880" y="500148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816960" y="500148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6821640" y="49960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6831720" y="498636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6837480" y="49813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847560" y="4981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857640" y="49755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862320" y="49755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872400" y="496512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877800" y="49651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888240" y="4960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898320" y="496008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6903000" y="49546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V="1">
                <a:off x="6913080" y="495000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6918840" y="494460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928920" y="49449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933600" y="49338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943680" y="4933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953760" y="4928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958440" y="49287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6968880" y="492336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V="1">
                <a:off x="6974280" y="491868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984360" y="491868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994440" y="491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99120" y="49136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7009200" y="490860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7014960" y="490320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025040" y="49035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7035120" y="489816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7039800" y="489240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049880" y="48924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055280" y="4887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065720" y="488736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7070400" y="488196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080480" y="48769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090560" y="487728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7095960" y="48718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7106400" y="486684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110720" y="48668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121160" y="4866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131240" y="485676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135920" y="48567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146000" y="485676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151760" y="4851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161840" y="4851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171920" y="485100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4994640" y="4551120"/>
              <a:ext cx="3564000" cy="1865160"/>
              <a:chOff x="4994640" y="4551120"/>
              <a:chExt cx="3564000" cy="1865160"/>
            </a:xfrm>
          </p:grpSpPr>
          <p:sp>
            <p:nvSpPr>
              <p:cNvPr id="1277" name=""/>
              <p:cNvSpPr/>
              <p:nvPr/>
            </p:nvSpPr>
            <p:spPr>
              <a:xfrm flipV="1">
                <a:off x="7176600" y="48452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7186680" y="484056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192080" y="484056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201440" y="484056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7206120" y="483516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7216200" y="483048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7226280" y="482508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232040" y="48254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242120" y="482544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246800" y="4820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56880" y="48204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66960" y="48153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272360" y="48153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282800" y="4809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287480" y="48092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297560" y="480924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302960" y="480924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312320" y="4804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322400" y="48042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7328160" y="479916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7338240" y="479376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342920" y="4794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7353000" y="47887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7363440" y="478368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368840" y="47840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378920" y="478404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383600" y="47840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393680" y="47786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403760" y="477864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409160" y="47786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19600" y="477864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7424280" y="47732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7434360" y="4767840"/>
                <a:ext cx="540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439760" y="47678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449840" y="47635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460280" y="476352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7464960" y="47581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475040" y="4753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480440" y="4753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490520" y="475848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500960" y="475848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7505280" y="47534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515720" y="4748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520400" y="4748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530480" y="47484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535880" y="47484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7546320" y="47430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7556400" y="473796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7560720" y="473220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571160" y="47322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57656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586640" y="47271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2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596720" y="473832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601760" y="4738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7611840" y="4732200"/>
                <a:ext cx="540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7617240" y="472716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7627320" y="472176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637760" y="4717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642080" y="4717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652160" y="47221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657920" y="4722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7668000" y="471672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7672680" y="47120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682760" y="47120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93200" y="470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697520" y="4707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707960" y="47070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713360" y="4707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723440" y="4707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733520" y="470700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738200" y="4707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7748640" y="470160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7754040" y="469620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764120" y="46965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774200" y="469656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778880" y="46965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788960" y="46908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794720" y="46908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804800" y="469080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7809480" y="46854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7819560" y="468036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829640" y="46807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835040" y="4680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845480" y="46753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850160" y="4675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860240" y="4675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870320" y="4680720"/>
                <a:ext cx="504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875720" y="4675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886160" y="4675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890840" y="4675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00920" y="4670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05600" y="46702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15680" y="466524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26120" y="466524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31520" y="466524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40880" y="4660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45560" y="4660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55640" y="46652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965720" y="46602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71120" y="4660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81560" y="466020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85880" y="4655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96320" y="46551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006400" y="46551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8011800" y="46551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021880" y="4649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026920" y="46494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037000" y="46494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0"/>
                    </a:moveTo>
                    <a:lnTo>
                      <a:pt x="0" y="14"/>
                    </a:lnTo>
                    <a:lnTo>
                      <a:pt x="14" y="2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042400" y="46494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052480" y="4638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23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062560" y="4638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067240" y="4638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077320" y="46389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0"/>
                    </a:moveTo>
                    <a:lnTo>
                      <a:pt x="0" y="12"/>
                    </a:lnTo>
                    <a:lnTo>
                      <a:pt x="12" y="2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082360" y="464940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0" y="14"/>
                    </a:lnTo>
                    <a:lnTo>
                      <a:pt x="14" y="26"/>
                    </a:lnTo>
                    <a:lnTo>
                      <a:pt x="14" y="50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092440" y="4638960"/>
                <a:ext cx="10080" cy="30960"/>
              </a:xfrm>
              <a:custGeom>
                <a:avLst/>
                <a:gdLst/>
                <a:ahLst/>
                <a:rect l="l" t="t" r="r" b="b"/>
                <a:pathLst>
                  <a:path w="26" h="73">
                    <a:moveTo>
                      <a:pt x="0" y="73"/>
                    </a:moveTo>
                    <a:lnTo>
                      <a:pt x="14" y="61"/>
                    </a:lnTo>
                    <a:lnTo>
                      <a:pt x="14" y="37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8102520" y="463392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107920" y="4633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12" y="0"/>
                    </a:lnTo>
                    <a:lnTo>
                      <a:pt x="25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118360" y="46389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122680" y="46238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133120" y="46238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4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138520" y="4638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0"/>
                    </a:moveTo>
                    <a:lnTo>
                      <a:pt x="12" y="12"/>
                    </a:lnTo>
                    <a:lnTo>
                      <a:pt x="26" y="2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148600" y="462888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0" y="47"/>
                    </a:moveTo>
                    <a:lnTo>
                      <a:pt x="12" y="36"/>
                    </a:ln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158680" y="462888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163360" y="46288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  <a:lnTo>
                      <a:pt x="26" y="24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173800" y="4597560"/>
                <a:ext cx="5040" cy="41400"/>
              </a:xfrm>
              <a:custGeom>
                <a:avLst/>
                <a:gdLst/>
                <a:ahLst/>
                <a:rect l="l" t="t" r="r" b="b"/>
                <a:pathLst>
                  <a:path w="14" h="98">
                    <a:moveTo>
                      <a:pt x="0" y="98"/>
                    </a:moveTo>
                    <a:lnTo>
                      <a:pt x="0" y="74"/>
                    </a:lnTo>
                    <a:lnTo>
                      <a:pt x="0" y="50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179200" y="4597560"/>
                <a:ext cx="10080" cy="36000"/>
              </a:xfrm>
              <a:custGeom>
                <a:avLst/>
                <a:gdLst/>
                <a:ahLst/>
                <a:rect l="l" t="t" r="r" b="b"/>
                <a:pathLst>
                  <a:path w="26" h="86">
                    <a:moveTo>
                      <a:pt x="0" y="0"/>
                    </a:moveTo>
                    <a:lnTo>
                      <a:pt x="0" y="12"/>
                    </a:lnTo>
                    <a:lnTo>
                      <a:pt x="12" y="38"/>
                    </a:lnTo>
                    <a:lnTo>
                      <a:pt x="12" y="62"/>
                    </a:lnTo>
                    <a:lnTo>
                      <a:pt x="26" y="8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189280" y="4633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199360" y="4607640"/>
                <a:ext cx="4680" cy="25920"/>
              </a:xfrm>
              <a:custGeom>
                <a:avLst/>
                <a:gdLst/>
                <a:ahLst/>
                <a:rect l="l" t="t" r="r" b="b"/>
                <a:pathLst>
                  <a:path w="12" h="62">
                    <a:moveTo>
                      <a:pt x="0" y="62"/>
                    </a:moveTo>
                    <a:lnTo>
                      <a:pt x="0" y="5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204040" y="46076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214120" y="4613760"/>
                <a:ext cx="5400" cy="25200"/>
              </a:xfrm>
              <a:custGeom>
                <a:avLst/>
                <a:gdLst/>
                <a:ahLst/>
                <a:rect l="l" t="t" r="r" b="b"/>
                <a:pathLst>
                  <a:path w="14" h="60">
                    <a:moveTo>
                      <a:pt x="0" y="0"/>
                    </a:moveTo>
                    <a:lnTo>
                      <a:pt x="0" y="24"/>
                    </a:lnTo>
                    <a:lnTo>
                      <a:pt x="14" y="6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219880" y="4638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229960" y="4607640"/>
                <a:ext cx="10080" cy="36000"/>
              </a:xfrm>
              <a:custGeom>
                <a:avLst/>
                <a:gdLst/>
                <a:ahLst/>
                <a:rect l="l" t="t" r="r" b="b"/>
                <a:pathLst>
                  <a:path w="26" h="86">
                    <a:moveTo>
                      <a:pt x="0" y="86"/>
                    </a:moveTo>
                    <a:lnTo>
                      <a:pt x="12" y="74"/>
                    </a:lnTo>
                    <a:lnTo>
                      <a:pt x="12" y="38"/>
                    </a:lnTo>
                    <a:lnTo>
                      <a:pt x="26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240040" y="46076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2" y="26"/>
                    </a:lnTo>
                    <a:lnTo>
                      <a:pt x="12" y="38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244720" y="4623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254800" y="4592520"/>
                <a:ext cx="5400" cy="36360"/>
              </a:xfrm>
              <a:custGeom>
                <a:avLst/>
                <a:gdLst/>
                <a:ahLst/>
                <a:rect l="l" t="t" r="r" b="b"/>
                <a:pathLst>
                  <a:path w="14" h="86">
                    <a:moveTo>
                      <a:pt x="0" y="86"/>
                    </a:moveTo>
                    <a:lnTo>
                      <a:pt x="0" y="74"/>
                    </a:lnTo>
                    <a:lnTo>
                      <a:pt x="0" y="36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260200" y="4592520"/>
                <a:ext cx="9360" cy="262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4" y="50"/>
                    </a:lnTo>
                    <a:lnTo>
                      <a:pt x="24" y="6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269920" y="461880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275320" y="4613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285400" y="46137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295480" y="46026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300160" y="4602600"/>
                <a:ext cx="10080" cy="46440"/>
              </a:xfrm>
              <a:custGeom>
                <a:avLst/>
                <a:gdLst/>
                <a:ahLst/>
                <a:rect l="l" t="t" r="r" b="b"/>
                <a:pathLst>
                  <a:path w="26" h="109">
                    <a:moveTo>
                      <a:pt x="0" y="0"/>
                    </a:moveTo>
                    <a:lnTo>
                      <a:pt x="0" y="26"/>
                    </a:lnTo>
                    <a:lnTo>
                      <a:pt x="14" y="50"/>
                    </a:lnTo>
                    <a:lnTo>
                      <a:pt x="26" y="86"/>
                    </a:lnTo>
                    <a:lnTo>
                      <a:pt x="26" y="109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310240" y="46389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23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316000" y="46288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8326080" y="46288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4"/>
                    </a:lnTo>
                    <a:lnTo>
                      <a:pt x="26" y="36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336160" y="4618800"/>
                <a:ext cx="4320" cy="25200"/>
              </a:xfrm>
              <a:custGeom>
                <a:avLst/>
                <a:gdLst/>
                <a:ahLst/>
                <a:rect l="l" t="t" r="r" b="b"/>
                <a:pathLst>
                  <a:path w="12" h="60">
                    <a:moveTo>
                      <a:pt x="0" y="60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340840" y="4618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351280" y="46137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356320" y="4551120"/>
                <a:ext cx="10080" cy="62640"/>
              </a:xfrm>
              <a:custGeom>
                <a:avLst/>
                <a:gdLst/>
                <a:ahLst/>
                <a:rect l="l" t="t" r="r" b="b"/>
                <a:pathLst>
                  <a:path w="26" h="148">
                    <a:moveTo>
                      <a:pt x="0" y="148"/>
                    </a:moveTo>
                    <a:lnTo>
                      <a:pt x="0" y="110"/>
                    </a:lnTo>
                    <a:lnTo>
                      <a:pt x="12" y="74"/>
                    </a:lnTo>
                    <a:lnTo>
                      <a:pt x="12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366760" y="45511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376840" y="4566240"/>
                <a:ext cx="4680" cy="30960"/>
              </a:xfrm>
              <a:custGeom>
                <a:avLst/>
                <a:gdLst/>
                <a:ahLst/>
                <a:rect l="l" t="t" r="r" b="b"/>
                <a:pathLst>
                  <a:path w="12" h="74">
                    <a:moveTo>
                      <a:pt x="0" y="0"/>
                    </a:moveTo>
                    <a:lnTo>
                      <a:pt x="0" y="38"/>
                    </a:lnTo>
                    <a:lnTo>
                      <a:pt x="12" y="62"/>
                    </a:lnTo>
                    <a:lnTo>
                      <a:pt x="12" y="7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381520" y="4597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391600" y="4602600"/>
                <a:ext cx="5400" cy="30960"/>
              </a:xfrm>
              <a:custGeom>
                <a:avLst/>
                <a:gdLst/>
                <a:ahLst/>
                <a:rect l="l" t="t" r="r" b="b"/>
                <a:pathLst>
                  <a:path w="14" h="74">
                    <a:moveTo>
                      <a:pt x="0" y="0"/>
                    </a:moveTo>
                    <a:lnTo>
                      <a:pt x="0" y="12"/>
                    </a:lnTo>
                    <a:lnTo>
                      <a:pt x="0" y="38"/>
                    </a:lnTo>
                    <a:lnTo>
                      <a:pt x="14" y="62"/>
                    </a:lnTo>
                    <a:lnTo>
                      <a:pt x="14" y="7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397360" y="4633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407440" y="4597560"/>
                <a:ext cx="4680" cy="4140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0" y="98"/>
                    </a:moveTo>
                    <a:lnTo>
                      <a:pt x="0" y="74"/>
                    </a:lnTo>
                    <a:lnTo>
                      <a:pt x="0" y="50"/>
                    </a:lnTo>
                    <a:lnTo>
                      <a:pt x="12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412120" y="45975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422200" y="460764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14" y="14"/>
                    </a:lnTo>
                    <a:lnTo>
                      <a:pt x="14" y="38"/>
                    </a:lnTo>
                    <a:lnTo>
                      <a:pt x="26" y="50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432280" y="4587480"/>
                <a:ext cx="5400" cy="41400"/>
              </a:xfrm>
              <a:custGeom>
                <a:avLst/>
                <a:gdLst/>
                <a:ahLst/>
                <a:rect l="l" t="t" r="r" b="b"/>
                <a:pathLst>
                  <a:path w="14" h="98">
                    <a:moveTo>
                      <a:pt x="0" y="98"/>
                    </a:moveTo>
                    <a:lnTo>
                      <a:pt x="0" y="86"/>
                    </a:lnTo>
                    <a:lnTo>
                      <a:pt x="0" y="48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437680" y="458748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6" y="48"/>
                    </a:lnTo>
                    <a:lnTo>
                      <a:pt x="26" y="6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447760" y="4587480"/>
                <a:ext cx="4680" cy="26280"/>
              </a:xfrm>
              <a:custGeom>
                <a:avLst/>
                <a:gdLst/>
                <a:ahLst/>
                <a:rect l="l" t="t" r="r" b="b"/>
                <a:pathLst>
                  <a:path w="12" h="62">
                    <a:moveTo>
                      <a:pt x="0" y="62"/>
                    </a:moveTo>
                    <a:lnTo>
                      <a:pt x="0" y="48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452800" y="458748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0" y="12"/>
                    </a:lnTo>
                    <a:lnTo>
                      <a:pt x="14" y="36"/>
                    </a:lnTo>
                    <a:lnTo>
                      <a:pt x="14" y="48"/>
                    </a:lnTo>
                    <a:lnTo>
                      <a:pt x="26" y="6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462880" y="4566240"/>
                <a:ext cx="10080" cy="47160"/>
              </a:xfrm>
              <a:custGeom>
                <a:avLst/>
                <a:gdLst/>
                <a:ahLst/>
                <a:rect l="l" t="t" r="r" b="b"/>
                <a:pathLst>
                  <a:path w="26" h="112">
                    <a:moveTo>
                      <a:pt x="0" y="112"/>
                    </a:moveTo>
                    <a:lnTo>
                      <a:pt x="12" y="86"/>
                    </a:lnTo>
                    <a:lnTo>
                      <a:pt x="12" y="50"/>
                    </a:lnTo>
                    <a:lnTo>
                      <a:pt x="26" y="14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72960" y="4566240"/>
                <a:ext cx="4320" cy="47160"/>
              </a:xfrm>
              <a:custGeom>
                <a:avLst/>
                <a:gdLst/>
                <a:ahLst/>
                <a:rect l="l" t="t" r="r" b="b"/>
                <a:pathLst>
                  <a:path w="12" h="112">
                    <a:moveTo>
                      <a:pt x="0" y="0"/>
                    </a:moveTo>
                    <a:lnTo>
                      <a:pt x="0" y="14"/>
                    </a:lnTo>
                    <a:lnTo>
                      <a:pt x="0" y="50"/>
                    </a:lnTo>
                    <a:lnTo>
                      <a:pt x="12" y="86"/>
                    </a:lnTo>
                    <a:lnTo>
                      <a:pt x="12" y="1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477640" y="46026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26"/>
                    </a:moveTo>
                    <a:lnTo>
                      <a:pt x="0" y="26"/>
                    </a:lnTo>
                    <a:lnTo>
                      <a:pt x="14" y="12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487720" y="46026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0"/>
                    </a:moveTo>
                    <a:lnTo>
                      <a:pt x="0" y="12"/>
                    </a:lnTo>
                    <a:lnTo>
                      <a:pt x="14" y="2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493120" y="46026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503560" y="4572360"/>
                <a:ext cx="4320" cy="3024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72"/>
                    </a:moveTo>
                    <a:lnTo>
                      <a:pt x="0" y="60"/>
                    </a:lnTo>
                    <a:lnTo>
                      <a:pt x="0" y="36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508240" y="45723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518320" y="45874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4" y="24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28400" y="458748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33800" y="4587480"/>
                <a:ext cx="10080" cy="36000"/>
              </a:xfrm>
              <a:custGeom>
                <a:avLst/>
                <a:gdLst/>
                <a:ahLst/>
                <a:rect l="l" t="t" r="r" b="b"/>
                <a:pathLst>
                  <a:path w="26" h="86">
                    <a:moveTo>
                      <a:pt x="0" y="0"/>
                    </a:moveTo>
                    <a:lnTo>
                      <a:pt x="0" y="12"/>
                    </a:lnTo>
                    <a:lnTo>
                      <a:pt x="12" y="36"/>
                    </a:lnTo>
                    <a:lnTo>
                      <a:pt x="26" y="74"/>
                    </a:lnTo>
                    <a:lnTo>
                      <a:pt x="26" y="8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544240" y="46238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548560" y="46238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994640" y="62913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24"/>
                    </a:lnTo>
                    <a:lnTo>
                      <a:pt x="12" y="3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998960" y="630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008320" y="6311520"/>
                <a:ext cx="540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014080" y="6322680"/>
                <a:ext cx="936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023440" y="632772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028840" y="63327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038920" y="632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049360" y="6296400"/>
                <a:ext cx="4320" cy="30960"/>
              </a:xfrm>
              <a:custGeom>
                <a:avLst/>
                <a:gdLst/>
                <a:ahLst/>
                <a:rect l="l" t="t" r="r" b="b"/>
                <a:pathLst>
                  <a:path w="12" h="74">
                    <a:moveTo>
                      <a:pt x="0" y="74"/>
                    </a:moveTo>
                    <a:lnTo>
                      <a:pt x="0" y="36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053680" y="6255000"/>
                <a:ext cx="10080" cy="41400"/>
              </a:xfrm>
              <a:custGeom>
                <a:avLst/>
                <a:gdLst/>
                <a:ahLst/>
                <a:rect l="l" t="t" r="r" b="b"/>
                <a:pathLst>
                  <a:path w="26" h="97">
                    <a:moveTo>
                      <a:pt x="0" y="97"/>
                    </a:moveTo>
                    <a:lnTo>
                      <a:pt x="0" y="73"/>
                    </a:lnTo>
                    <a:lnTo>
                      <a:pt x="14" y="36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063760" y="625500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4" y="3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069520" y="6270120"/>
                <a:ext cx="10080" cy="36360"/>
              </a:xfrm>
              <a:custGeom>
                <a:avLst/>
                <a:gdLst/>
                <a:ahLst/>
                <a:rect l="l" t="t" r="r" b="b"/>
                <a:pathLst>
                  <a:path w="26" h="85">
                    <a:moveTo>
                      <a:pt x="0" y="0"/>
                    </a:moveTo>
                    <a:lnTo>
                      <a:pt x="12" y="37"/>
                    </a:lnTo>
                    <a:lnTo>
                      <a:pt x="26" y="85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079600" y="6306480"/>
                <a:ext cx="10080" cy="259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089680" y="6332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24"/>
                    </a:lnTo>
                    <a:lnTo>
                      <a:pt x="12" y="3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094360" y="6348240"/>
                <a:ext cx="10080" cy="158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04800" y="6364080"/>
                <a:ext cx="504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109840" y="637416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120280" y="638424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124960" y="638964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135040" y="63954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145120" y="640044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150880" y="64058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160960" y="641052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165640" y="64105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175720" y="6410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14" y="0"/>
                    </a:lnTo>
                    <a:lnTo>
                      <a:pt x="25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18580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19120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201280" y="64155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20632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5216400" y="5260680"/>
              <a:ext cx="1605240" cy="1155600"/>
              <a:chOff x="5216400" y="5260680"/>
              <a:chExt cx="1605240" cy="1155600"/>
            </a:xfrm>
          </p:grpSpPr>
          <p:sp>
            <p:nvSpPr>
              <p:cNvPr id="1478" name=""/>
              <p:cNvSpPr/>
              <p:nvPr/>
            </p:nvSpPr>
            <p:spPr>
              <a:xfrm>
                <a:off x="521640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226480" y="641556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23116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24124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24664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257080" y="641556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26176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27184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81920" y="6415560"/>
                <a:ext cx="504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8732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297400" y="641556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0208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31252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32260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32800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338080" y="64155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34312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35320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36328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36868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378760" y="64155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38344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39352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399280" y="64105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12"/>
                    </a:move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408640" y="64105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418720" y="641052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424120" y="6405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434560" y="640584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438880" y="64058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448960" y="6400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459400" y="64004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464800" y="6395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474880" y="63954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5479560" y="638964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5490000" y="6384240"/>
                <a:ext cx="504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495040" y="63842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5505480" y="63788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5515560" y="637416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520240" y="63741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5530320" y="63687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5536080" y="63640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5546160" y="63586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5556240" y="6352920"/>
                <a:ext cx="46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5560920" y="63478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5571000" y="634284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5576400" y="63374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5586480" y="6332760"/>
                <a:ext cx="936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5596200" y="63273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601600" y="63226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611680" y="631728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5616360" y="631152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5626440" y="630612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5632200" y="629640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5642280" y="62913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5652360" y="628596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5657040" y="62809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667120" y="6270120"/>
                <a:ext cx="504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5672520" y="62647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5682960" y="62600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5693040" y="624960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5697720" y="624456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5707800" y="623952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5713200" y="622872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5723640" y="622332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5728320" y="6213240"/>
                <a:ext cx="900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5737320" y="62082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5747760" y="6198120"/>
                <a:ext cx="540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5753160" y="61927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5763240" y="6181920"/>
                <a:ext cx="432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5767920" y="61718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5778360" y="61664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5788440" y="6157080"/>
                <a:ext cx="4680" cy="90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5793120" y="615168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5803200" y="6141600"/>
                <a:ext cx="540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5808600" y="61362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5818680" y="612612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5828760" y="611604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5833800" y="611028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5843880" y="6099840"/>
                <a:ext cx="540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5849280" y="60948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5859360" y="608472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5864040" y="60742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5874480" y="606852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5884560" y="6058080"/>
                <a:ext cx="504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5889960" y="60534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5900040" y="6043320"/>
                <a:ext cx="432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5904720" y="60328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915160" y="60166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38"/>
                    </a:moveTo>
                    <a:lnTo>
                      <a:pt x="13" y="12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925240" y="60166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930640" y="600696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940720" y="60069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945400" y="598572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4" y="26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955480" y="5975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965920" y="596520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971320" y="59652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0"/>
                    </a:lnTo>
                    <a:lnTo>
                      <a:pt x="24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980680" y="59601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5986080" y="59500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5996160" y="5938920"/>
                <a:ext cx="46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001200" y="59288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>
                <a:off x="6011280" y="591876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V="1">
                <a:off x="6021360" y="59133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6026760" y="590256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6036840" y="589248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6041520" y="588240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051600" y="58770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6062040" y="5866200"/>
                <a:ext cx="504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6067440" y="58611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6077520" y="5851080"/>
                <a:ext cx="432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V="1">
                <a:off x="6082200" y="58406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V="1">
                <a:off x="6092640" y="5835240"/>
                <a:ext cx="504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6097680" y="582480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6108120" y="58194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6118200" y="5809320"/>
                <a:ext cx="432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6122880" y="58042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6132960" y="5794200"/>
                <a:ext cx="540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6138720" y="578304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6148800" y="57776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6158880" y="576792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163560" y="57578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6173640" y="575244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6178320" y="574164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V="1">
                <a:off x="6188400" y="573156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6198480" y="57261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6204240" y="57214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214320" y="5711040"/>
                <a:ext cx="468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6219000" y="570024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6229080" y="5695560"/>
                <a:ext cx="5400" cy="39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6234480" y="56858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6244560" y="56804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V="1">
                <a:off x="6255000" y="567576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6259680" y="566460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6269760" y="5654520"/>
                <a:ext cx="504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V="1">
                <a:off x="6275160" y="56491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V="1">
                <a:off x="6285600" y="563940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V="1">
                <a:off x="6295680" y="563400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V="1">
                <a:off x="6300360" y="562896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V="1">
                <a:off x="6310440" y="5618160"/>
                <a:ext cx="540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V="1">
                <a:off x="6315840" y="56131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V="1">
                <a:off x="6325920" y="560772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V="1">
                <a:off x="6330600" y="559800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6341040" y="55926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6351120" y="558720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6356520" y="5576400"/>
                <a:ext cx="936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6365880" y="55713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6371280" y="55612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6381720" y="55558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6391800" y="555120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6396480" y="554040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6406560" y="553500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6411960" y="55296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>
                <a:off x="6422040" y="55249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V="1">
                <a:off x="6432480" y="5514480"/>
                <a:ext cx="432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6437160" y="55098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447240" y="5498640"/>
                <a:ext cx="504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6452640" y="54936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6463080" y="548820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6467400" y="5483520"/>
                <a:ext cx="936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6476760" y="54781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6486840" y="547308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6492600" y="5463000"/>
                <a:ext cx="1008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6502680" y="5457240"/>
                <a:ext cx="432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V="1">
                <a:off x="6507360" y="54522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V="1">
                <a:off x="6517440" y="54468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6527880" y="544176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6533280" y="54316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V="1">
                <a:off x="6543360" y="542628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548040" y="54266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558120" y="54158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6568200" y="541080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6572880" y="54054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6583320" y="540036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6588720" y="539496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6598800" y="539028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6603480" y="53848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613920" y="53744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624000" y="537444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6629400" y="53690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6639480" y="536364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6644160" y="53589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654240" y="53488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664320" y="53488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6670080" y="53434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6680160" y="5332680"/>
                <a:ext cx="432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6684840" y="53272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694920" y="53276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6700320" y="53222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6710760" y="53175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6720840" y="531216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6725520" y="53074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6735600" y="530208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6740280" y="529632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6750360" y="52912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6760800" y="528588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6766200" y="52812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6776280" y="527580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6780960" y="527076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791040" y="52711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6801120" y="526572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6806880" y="52606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816960" y="526104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6822000" y="4768200"/>
              <a:ext cx="1611360" cy="492480"/>
              <a:chOff x="6822000" y="4768200"/>
              <a:chExt cx="1611360" cy="492480"/>
            </a:xfrm>
          </p:grpSpPr>
          <p:sp>
            <p:nvSpPr>
              <p:cNvPr id="1679" name=""/>
              <p:cNvSpPr/>
              <p:nvPr/>
            </p:nvSpPr>
            <p:spPr>
              <a:xfrm>
                <a:off x="6822000" y="524988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832080" y="52498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V="1">
                <a:off x="6837480" y="52444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6847560" y="52398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6857640" y="523440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6862320" y="52293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872400" y="52293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6878160" y="5225040"/>
                <a:ext cx="10080" cy="39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6888240" y="521964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6898320" y="521424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6903000" y="52088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913440" y="520920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6918840" y="52041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6928920" y="519876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6933600" y="51940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6943680" y="51886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953760" y="518904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6958440" y="51840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6968880" y="5177880"/>
                <a:ext cx="540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6974280" y="51724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984360" y="51728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6994440" y="516744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6999480" y="51627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7009560" y="51573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014960" y="51577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7025040" y="51526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7035480" y="514728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039800" y="51476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7049880" y="514224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7055640" y="513648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065720" y="513648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7070400" y="51310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080480" y="51260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090920" y="51260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7096320" y="51210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7106400" y="511596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7111080" y="51109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121160" y="51109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7131600" y="510552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7135920" y="51008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146360" y="51008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151760" y="50947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161840" y="50947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7171920" y="508968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7176960" y="50846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7187040" y="507924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192440" y="5079600"/>
                <a:ext cx="936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201800" y="5074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206480" y="5074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216560" y="5069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227000" y="506952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7232400" y="50641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7242480" y="505944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247160" y="50594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257240" y="5053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267320" y="505332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273080" y="50482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283160" y="504828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7287840" y="50432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7297920" y="503784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303320" y="5038200"/>
                <a:ext cx="936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312680" y="5033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323120" y="50331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328520" y="50281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338600" y="502812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343280" y="50227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353360" y="50227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7363800" y="501768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369200" y="501192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379280" y="501192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83960" y="50068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94400" y="50068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404480" y="500688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V="1">
                <a:off x="7409880" y="50018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7419960" y="499644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424640" y="49968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434720" y="49914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440480" y="49914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450560" y="4986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460640" y="498672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465320" y="4981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475400" y="498132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480800" y="49755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491240" y="497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501320" y="49705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506000" y="49705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516080" y="4965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520760" y="49654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530840" y="4960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536600" y="49604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546680" y="4955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556760" y="49554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561440" y="49554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571880" y="495540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7577280" y="49500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7587360" y="49446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597440" y="49449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602120" y="49449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612200" y="49399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617960" y="49399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628040" y="49338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638120" y="49338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642800" y="49338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652880" y="49291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658280" y="49291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668720" y="4924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673400" y="49240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683480" y="4918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693560" y="491868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7698240" y="49132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7708320" y="490860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714080" y="49086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724160" y="49086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734240" y="49086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738920" y="4903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749360" y="4903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754760" y="48985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764840" y="48985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774920" y="4892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779600" y="48924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789680" y="489240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795440" y="4887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805520" y="48873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810200" y="48873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820280" y="48873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830360" y="48823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836120" y="48823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846200" y="488232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850880" y="48772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860960" y="48772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871400" y="4872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876440" y="48722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886880" y="487224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891560" y="48722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01640" y="487224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06320" y="486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16400" y="48672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26840" y="48621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32240" y="4862160"/>
                <a:ext cx="936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941600" y="486216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7946280" y="48571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7956360" y="485100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966800" y="4851000"/>
                <a:ext cx="504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971840" y="48510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982280" y="48510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986960" y="4845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997040" y="48459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007120" y="48459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012880" y="48409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022960" y="483552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8027640" y="48358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8037720" y="483588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043120" y="48358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053200" y="483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063280" y="483048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068320" y="48304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078400" y="483048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083080" y="48304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093160" y="4825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8103240" y="482580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09000" y="48258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119080" y="48258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23760" y="4825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133840" y="48153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8139240" y="480960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149320" y="48096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8159760" y="48096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14"/>
                    </a:lnTo>
                    <a:lnTo>
                      <a:pt x="12" y="1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164440" y="48096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174520" y="4809600"/>
                <a:ext cx="504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179920" y="48096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190360" y="4804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200440" y="48045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205120" y="4804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215200" y="4804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220600" y="4804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230680" y="4804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8241120" y="480456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245800" y="47944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255880" y="479448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8261280" y="4804560"/>
                <a:ext cx="936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8270640" y="479916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8276400" y="4794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8286480" y="47944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8296560" y="4799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8301240" y="47991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8311320" y="47840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8316720" y="4784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326800" y="4784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337240" y="478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2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8341920" y="47739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8352000" y="477396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357400" y="47840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367840" y="47840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8377920" y="477900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8382600" y="47736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392680" y="47739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398080" y="47682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8408520" y="47682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0"/>
                    </a:moveTo>
                    <a:lnTo>
                      <a:pt x="0" y="14"/>
                    </a:lnTo>
                    <a:lnTo>
                      <a:pt x="12" y="2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8413200" y="47790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8423280" y="47682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4994640" y="4748760"/>
              <a:ext cx="3564000" cy="1445400"/>
              <a:chOff x="4994640" y="4748760"/>
              <a:chExt cx="3564000" cy="1445400"/>
            </a:xfrm>
          </p:grpSpPr>
          <p:sp>
            <p:nvSpPr>
              <p:cNvPr id="1880" name=""/>
              <p:cNvSpPr/>
              <p:nvPr/>
            </p:nvSpPr>
            <p:spPr>
              <a:xfrm>
                <a:off x="8432280" y="47678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437680" y="47678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4"/>
                    </a:lnTo>
                    <a:lnTo>
                      <a:pt x="26" y="2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8447760" y="4773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8452800" y="476784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8462880" y="47588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8472960" y="475884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47764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14" y="14"/>
                    </a:lnTo>
                    <a:lnTo>
                      <a:pt x="25" y="1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8487720" y="47588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8493120" y="4758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8503560" y="4758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8508240" y="47638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518320" y="4758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528400" y="4758840"/>
                <a:ext cx="504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533800" y="4758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544240" y="4748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548560" y="47487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994640" y="5907960"/>
                <a:ext cx="432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998960" y="5918760"/>
                <a:ext cx="9360" cy="151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008320" y="5934240"/>
                <a:ext cx="5400" cy="212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014080" y="5955480"/>
                <a:ext cx="9360" cy="20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023440" y="5975640"/>
                <a:ext cx="5400" cy="212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028840" y="5996880"/>
                <a:ext cx="10080" cy="20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038920" y="6017040"/>
                <a:ext cx="10080" cy="262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049360" y="6043320"/>
                <a:ext cx="4320" cy="20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053680" y="6063840"/>
                <a:ext cx="10080" cy="262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063760" y="6090120"/>
                <a:ext cx="5400" cy="20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069520" y="61102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12" y="26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079600" y="61315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089680" y="6141600"/>
                <a:ext cx="432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094360" y="615204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104800" y="6157800"/>
                <a:ext cx="504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109840" y="61578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120280" y="61578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124960" y="61520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135040" y="61520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145120" y="615204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150880" y="61416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5160960" y="613152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5165640" y="61214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5175720" y="61102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5185800" y="610524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5191200" y="60998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5201280" y="609012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V="1">
                <a:off x="5206320" y="608472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5216400" y="60796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5226480" y="6074640"/>
                <a:ext cx="432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231160" y="60746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241240" y="60688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247000" y="60688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257080" y="606888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261760" y="60688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271840" y="60688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281920" y="6068880"/>
                <a:ext cx="504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287320" y="60688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297760" y="607464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302440" y="60746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312520" y="60800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322600" y="608472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328000" y="60901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338440" y="6095160"/>
                <a:ext cx="46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343120" y="61002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353200" y="61052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363280" y="6110280"/>
                <a:ext cx="540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368680" y="61160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378760" y="6121440"/>
                <a:ext cx="46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383800" y="612648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393880" y="613152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399280" y="6136560"/>
                <a:ext cx="936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408640" y="61416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418720" y="614664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424120" y="615204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434560" y="6157800"/>
                <a:ext cx="4320" cy="39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439240" y="61621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449320" y="61671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459400" y="617220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465160" y="617220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475240" y="617724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479560" y="61822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490000" y="61822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495400" y="61873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505480" y="6187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515560" y="619344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520600" y="61934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30680" y="619344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536080" y="61934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546160" y="61934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556240" y="619344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60920" y="6187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571000" y="61873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576760" y="6182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586840" y="6182280"/>
                <a:ext cx="936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596200" y="617688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601600" y="617220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612040" y="616680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5616360" y="61617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800" y="6157440"/>
                <a:ext cx="5400" cy="39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5632200" y="615204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5642280" y="61466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5652360" y="614124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5657040" y="61315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5667480" y="6126480"/>
                <a:ext cx="504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5672880" y="61160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5682960" y="611028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5693040" y="610020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697720" y="60901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5707800" y="608004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5713560" y="60688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5723640" y="6058440"/>
                <a:ext cx="468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5728320" y="6048720"/>
                <a:ext cx="90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5737680" y="603828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5747760" y="6027120"/>
                <a:ext cx="540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753520" y="6012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5763600" y="6001920"/>
                <a:ext cx="432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V="1">
                <a:off x="5767920" y="59918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778360" y="59756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5788440" y="596556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93120" y="59500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5803200" y="5939280"/>
                <a:ext cx="540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808960" y="59238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5819040" y="5913720"/>
                <a:ext cx="1008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829120" y="58978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38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5833800" y="588780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5843880" y="5872320"/>
                <a:ext cx="5400" cy="151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5849280" y="5856480"/>
                <a:ext cx="1008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V="1">
                <a:off x="5859360" y="584604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5864400" y="5830920"/>
                <a:ext cx="10080" cy="151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5874480" y="5814720"/>
                <a:ext cx="1008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5884560" y="5804640"/>
                <a:ext cx="504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89960" y="57891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5900400" y="5778360"/>
                <a:ext cx="432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904720" y="57632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915160" y="5757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5925240" y="574776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930640" y="57265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2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940720" y="570636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48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945400" y="57002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955840" y="569628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965920" y="56811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5971320" y="5664960"/>
                <a:ext cx="936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5980680" y="565452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986080" y="56394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5996160" y="562932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6001200" y="562320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6011280" y="56131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6021360" y="5598000"/>
                <a:ext cx="5400" cy="151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6026760" y="5581800"/>
                <a:ext cx="1008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V="1">
                <a:off x="6036840" y="557172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6041520" y="55616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6051960" y="555120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6062040" y="5540400"/>
                <a:ext cx="504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067440" y="55249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V="1">
                <a:off x="6077520" y="5514840"/>
                <a:ext cx="432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6082200" y="550476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V="1">
                <a:off x="6092640" y="5499000"/>
                <a:ext cx="504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6098040" y="54889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108120" y="5473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6118200" y="5463000"/>
                <a:ext cx="432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6122880" y="545220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6132960" y="544212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6138720" y="54320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6148800" y="54208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6158880" y="541080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V="1">
                <a:off x="6163560" y="54007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6173640" y="539028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6178680" y="53852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6188760" y="537444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198840" y="53589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V="1">
                <a:off x="6204240" y="534888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6214320" y="5343480"/>
                <a:ext cx="46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219000" y="53380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229080" y="53229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234840" y="5317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6244920" y="530748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6255000" y="530208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6259680" y="52912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6270120" y="5281200"/>
                <a:ext cx="504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6275160" y="5270760"/>
                <a:ext cx="1008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6285600" y="52610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6295680" y="5254920"/>
                <a:ext cx="432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6300360" y="524988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6310440" y="523980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6316200" y="522936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6326280" y="5225040"/>
                <a:ext cx="4320" cy="39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6330600" y="521424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6341040" y="52088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6351120" y="520416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6356520" y="5194080"/>
                <a:ext cx="936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6365880" y="518364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371640" y="517788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6381720" y="51724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391800" y="516276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6396480" y="51573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406560" y="515232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6411960" y="51472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422040" y="51364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432480" y="513108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V="1">
                <a:off x="6437160" y="51260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6447240" y="5120640"/>
                <a:ext cx="504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6452640" y="51109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463080" y="510552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6468120" y="4602960"/>
              <a:ext cx="1610280" cy="502920"/>
              <a:chOff x="6468120" y="4602960"/>
              <a:chExt cx="1610280" cy="502920"/>
            </a:xfrm>
          </p:grpSpPr>
          <p:sp>
            <p:nvSpPr>
              <p:cNvPr id="2081" name=""/>
              <p:cNvSpPr/>
              <p:nvPr/>
            </p:nvSpPr>
            <p:spPr>
              <a:xfrm flipV="1">
                <a:off x="6468120" y="5100840"/>
                <a:ext cx="936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6477480" y="50896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487560" y="508464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492960" y="5074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503040" y="507420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507720" y="50691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6517800" y="50641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6528240" y="5053320"/>
                <a:ext cx="540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6533640" y="50479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6543720" y="504828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6548400" y="50432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6558840" y="503280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6568920" y="50227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573600" y="50227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583680" y="50227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589080" y="50119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6599160" y="500652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6603840" y="500148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614280" y="50014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6624360" y="499608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6629760" y="498636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6639840" y="4981320"/>
                <a:ext cx="46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6644520" y="497556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54960" y="49755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6665040" y="497016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670440" y="49600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680520" y="496008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6685200" y="49546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V="1">
                <a:off x="6695280" y="495000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701040" y="49500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6711120" y="49446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721200" y="49338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725880" y="4933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736320" y="49338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V="1">
                <a:off x="6740640" y="49284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6750720" y="49233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761160" y="491364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66560" y="49136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776640" y="491364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6781320" y="490860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6791760" y="49032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6801840" y="489816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07240" y="48981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817320" y="4892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822000" y="48924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6832440" y="488700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6837840" y="488232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847920" y="48823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858000" y="48722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23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862680" y="4872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872760" y="48722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6878520" y="48668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V="1">
                <a:off x="6888600" y="48618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898680" y="48621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903360" y="48621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913800" y="48510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919200" y="48510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929280" y="4845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933960" y="48459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944040" y="4840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54120" y="48405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958800" y="48351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V="1">
                <a:off x="6969240" y="483048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974640" y="4825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984720" y="4825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994800" y="4825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999480" y="48200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009560" y="482040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015320" y="4815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1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025400" y="48153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7035480" y="4809240"/>
                <a:ext cx="432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7040160" y="48042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050240" y="48045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055640" y="4799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066080" y="47991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070760" y="47991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7080840" y="47937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7090920" y="478908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096680" y="47890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106760" y="478908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7111440" y="47836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7121520" y="477900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131600" y="47790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136280" y="4773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146720" y="47739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152120" y="47739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16220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172280" y="476784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176960" y="47635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187040" y="47635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192800" y="4763520"/>
                <a:ext cx="936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202160" y="4758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206840" y="47588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216920" y="47588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227000" y="4753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232400" y="47534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242840" y="475344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7247520" y="47480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257600" y="474336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267680" y="47433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273080" y="4738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283520" y="473832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288200" y="47325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298280" y="47325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303680" y="473256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2" y="14"/>
                    </a:lnTo>
                    <a:lnTo>
                      <a:pt x="24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313040" y="47325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323120" y="47271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32852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338960" y="47221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7343640" y="47167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353720" y="4717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363800" y="47221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369560" y="4717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379640" y="471708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384320" y="4712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394400" y="47120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404480" y="471204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409880" y="4707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420320" y="470700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425000" y="47070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7435080" y="470196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7440480" y="46965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450560" y="4696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461000" y="469692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465680" y="4696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475760" y="46908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481160" y="46908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491240" y="46908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501680" y="46857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506000" y="46857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516440" y="46857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521120" y="46857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531200" y="46857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536600" y="4680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547040" y="4680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557120" y="4680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561440" y="46807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571880" y="46756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577280" y="4675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587360" y="4675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597440" y="467568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602480" y="466560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612560" y="46656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617960" y="46656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7628040" y="466056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638480" y="46605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643160" y="46605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653240" y="46605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658640" y="46605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668720" y="46605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673400" y="46605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683480" y="4655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693920" y="465552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698600" y="46555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708680" y="4649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714080" y="46494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724520" y="46494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734600" y="46494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738920" y="46494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749360" y="464940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754760" y="4644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764840" y="46443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774920" y="464436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779960" y="46443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790040" y="46393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795440" y="46393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805520" y="463932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10200" y="46393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820280" y="4633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830720" y="46339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836120" y="4633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846200" y="463392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850880" y="4633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7860960" y="46288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7871400" y="4623840"/>
                <a:ext cx="504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7876800" y="46184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886880" y="46188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891560" y="46188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02000" y="462924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7906320" y="46238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V="1">
                <a:off x="7916400" y="46184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V="1">
                <a:off x="7926840" y="461340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32240" y="4613760"/>
                <a:ext cx="936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941600" y="46137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946280" y="461376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956360" y="46137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966800" y="46137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972200" y="46080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982280" y="46080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986960" y="4613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997040" y="4613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8007480" y="4608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8012880" y="4608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8022960" y="461376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027640" y="4608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037720" y="4608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0"/>
                    </a:lnTo>
                    <a:lnTo>
                      <a:pt x="14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043480" y="4608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053560" y="46080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063640" y="4602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068320" y="46029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281" name=""/>
            <p:cNvGrpSpPr/>
            <p:nvPr/>
          </p:nvGrpSpPr>
          <p:grpSpPr>
            <a:xfrm>
              <a:off x="4994640" y="4515120"/>
              <a:ext cx="3564000" cy="1911600"/>
              <a:chOff x="4994640" y="4515120"/>
              <a:chExt cx="3564000" cy="1911600"/>
            </a:xfrm>
          </p:grpSpPr>
          <p:sp>
            <p:nvSpPr>
              <p:cNvPr id="2282" name=""/>
              <p:cNvSpPr/>
              <p:nvPr/>
            </p:nvSpPr>
            <p:spPr>
              <a:xfrm>
                <a:off x="8077320" y="460296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082360" y="4597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92440" y="4597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102520" y="45979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107920" y="45979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0" y="0"/>
                    </a:moveTo>
                    <a:lnTo>
                      <a:pt x="12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118360" y="458784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8122680" y="45878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8133120" y="458784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8138520" y="45928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8148600" y="4587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158680" y="458784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8163360" y="4582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8173800" y="4582440"/>
                <a:ext cx="5040" cy="201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14" y="36"/>
                    </a:lnTo>
                    <a:lnTo>
                      <a:pt x="14" y="48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8179200" y="46029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8189280" y="458784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2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8199360" y="457272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8204040" y="457272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6" y="36"/>
                    </a:lnTo>
                    <a:lnTo>
                      <a:pt x="26" y="48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8214120" y="459288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219880" y="45774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8229960" y="4577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8240040" y="458244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12"/>
                    </a:lnTo>
                    <a:lnTo>
                      <a:pt x="12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8244720" y="4597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8254800" y="45878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260200" y="4587840"/>
                <a:ext cx="9360" cy="72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0" y="0"/>
                    </a:move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269920" y="458784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8275320" y="4572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8285400" y="45727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8295480" y="4572720"/>
                <a:ext cx="4320" cy="3024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0"/>
                    </a:moveTo>
                    <a:lnTo>
                      <a:pt x="0" y="12"/>
                    </a:lnTo>
                    <a:lnTo>
                      <a:pt x="0" y="36"/>
                    </a:lnTo>
                    <a:lnTo>
                      <a:pt x="12" y="60"/>
                    </a:lnTo>
                    <a:lnTo>
                      <a:pt x="12" y="7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8300160" y="45878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0" y="36"/>
                    </a:ln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8310240" y="4561560"/>
                <a:ext cx="5400" cy="26280"/>
              </a:xfrm>
              <a:custGeom>
                <a:avLst/>
                <a:gdLst/>
                <a:ahLst/>
                <a:rect l="l" t="t" r="r" b="b"/>
                <a:pathLst>
                  <a:path w="14" h="62">
                    <a:moveTo>
                      <a:pt x="0" y="62"/>
                    </a:moveTo>
                    <a:lnTo>
                      <a:pt x="0" y="26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8316000" y="4561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8326080" y="4566600"/>
                <a:ext cx="1008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8336160" y="4582440"/>
                <a:ext cx="4320" cy="25200"/>
              </a:xfrm>
              <a:custGeom>
                <a:avLst/>
                <a:gdLst/>
                <a:ahLst/>
                <a:rect l="l" t="t" r="r" b="b"/>
                <a:pathLst>
                  <a:path w="12" h="60">
                    <a:moveTo>
                      <a:pt x="0" y="0"/>
                    </a:moveTo>
                    <a:lnTo>
                      <a:pt x="0" y="12"/>
                    </a:lnTo>
                    <a:lnTo>
                      <a:pt x="0" y="36"/>
                    </a:lnTo>
                    <a:lnTo>
                      <a:pt x="12" y="48"/>
                    </a:lnTo>
                    <a:lnTo>
                      <a:pt x="12" y="6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340840" y="4577400"/>
                <a:ext cx="10080" cy="30240"/>
              </a:xfrm>
              <a:custGeom>
                <a:avLst/>
                <a:gdLst/>
                <a:ahLst/>
                <a:rect l="l" t="t" r="r" b="b"/>
                <a:pathLst>
                  <a:path w="26" h="72">
                    <a:moveTo>
                      <a:pt x="0" y="72"/>
                    </a:moveTo>
                    <a:lnTo>
                      <a:pt x="0" y="60"/>
                    </a:lnTo>
                    <a:lnTo>
                      <a:pt x="14" y="36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V="1">
                <a:off x="8351280" y="4572360"/>
                <a:ext cx="504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356320" y="45727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366760" y="45727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376840" y="457272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12"/>
                    </a:lnTo>
                    <a:lnTo>
                      <a:pt x="12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381520" y="4587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391600" y="4556520"/>
                <a:ext cx="5400" cy="30960"/>
              </a:xfrm>
              <a:custGeom>
                <a:avLst/>
                <a:gdLst/>
                <a:ahLst/>
                <a:rect l="l" t="t" r="r" b="b"/>
                <a:pathLst>
                  <a:path w="14" h="74">
                    <a:moveTo>
                      <a:pt x="0" y="74"/>
                    </a:moveTo>
                    <a:lnTo>
                      <a:pt x="0" y="62"/>
                    </a:lnTo>
                    <a:lnTo>
                      <a:pt x="0" y="38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397360" y="45565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6" y="50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8407440" y="4536000"/>
                <a:ext cx="4680" cy="4140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0" y="98"/>
                    </a:moveTo>
                    <a:lnTo>
                      <a:pt x="0" y="86"/>
                    </a:lnTo>
                    <a:lnTo>
                      <a:pt x="0" y="48"/>
                    </a:lnTo>
                    <a:lnTo>
                      <a:pt x="12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412120" y="4536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422200" y="455112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14" y="24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8432280" y="45727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437680" y="4572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6" y="36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447760" y="4556520"/>
                <a:ext cx="4680" cy="30960"/>
              </a:xfrm>
              <a:custGeom>
                <a:avLst/>
                <a:gdLst/>
                <a:ahLst/>
                <a:rect l="l" t="t" r="r" b="b"/>
                <a:pathLst>
                  <a:path w="12" h="74">
                    <a:moveTo>
                      <a:pt x="0" y="74"/>
                    </a:moveTo>
                    <a:lnTo>
                      <a:pt x="0" y="62"/>
                    </a:lnTo>
                    <a:lnTo>
                      <a:pt x="0" y="5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452800" y="4515120"/>
                <a:ext cx="10080" cy="4140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0" y="98"/>
                    </a:moveTo>
                    <a:lnTo>
                      <a:pt x="0" y="74"/>
                    </a:lnTo>
                    <a:lnTo>
                      <a:pt x="14" y="38"/>
                    </a:ln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462880" y="4515120"/>
                <a:ext cx="10080" cy="46440"/>
              </a:xfrm>
              <a:custGeom>
                <a:avLst/>
                <a:gdLst/>
                <a:ahLst/>
                <a:rect l="l" t="t" r="r" b="b"/>
                <a:pathLst>
                  <a:path w="26" h="110">
                    <a:moveTo>
                      <a:pt x="0" y="0"/>
                    </a:moveTo>
                    <a:lnTo>
                      <a:pt x="12" y="12"/>
                    </a:lnTo>
                    <a:lnTo>
                      <a:pt x="12" y="50"/>
                    </a:lnTo>
                    <a:lnTo>
                      <a:pt x="26" y="86"/>
                    </a:lnTo>
                    <a:lnTo>
                      <a:pt x="26" y="11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472960" y="4561560"/>
                <a:ext cx="4320" cy="3636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0" y="0"/>
                    </a:moveTo>
                    <a:lnTo>
                      <a:pt x="0" y="50"/>
                    </a:lnTo>
                    <a:lnTo>
                      <a:pt x="12" y="74"/>
                    </a:lnTo>
                    <a:lnTo>
                      <a:pt x="12" y="8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477640" y="457740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0" y="48"/>
                    </a:moveTo>
                    <a:lnTo>
                      <a:pt x="0" y="48"/>
                    </a:lnTo>
                    <a:lnTo>
                      <a:pt x="14" y="36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487720" y="4546080"/>
                <a:ext cx="5400" cy="30960"/>
              </a:xfrm>
              <a:custGeom>
                <a:avLst/>
                <a:gdLst/>
                <a:ahLst/>
                <a:rect l="l" t="t" r="r" b="b"/>
                <a:pathLst>
                  <a:path w="14" h="74">
                    <a:moveTo>
                      <a:pt x="0" y="74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493120" y="45460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  <a:lnTo>
                      <a:pt x="26" y="24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503560" y="45460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508240" y="454608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0" y="12"/>
                    </a:lnTo>
                    <a:lnTo>
                      <a:pt x="14" y="36"/>
                    </a:lnTo>
                    <a:lnTo>
                      <a:pt x="14" y="48"/>
                    </a:lnTo>
                    <a:lnTo>
                      <a:pt x="26" y="6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518320" y="455112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4" y="50"/>
                    </a:lnTo>
                    <a:lnTo>
                      <a:pt x="14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528400" y="4551120"/>
                <a:ext cx="504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533800" y="45511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544240" y="45511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548560" y="454104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994640" y="641088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998960" y="6415920"/>
                <a:ext cx="936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008320" y="64209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014080" y="6420960"/>
                <a:ext cx="936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023440" y="64209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028840" y="64260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5038920" y="641592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049360" y="639576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48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053680" y="6353280"/>
                <a:ext cx="10080" cy="42120"/>
              </a:xfrm>
              <a:custGeom>
                <a:avLst/>
                <a:gdLst/>
                <a:ahLst/>
                <a:rect l="l" t="t" r="r" b="b"/>
                <a:pathLst>
                  <a:path w="26" h="100">
                    <a:moveTo>
                      <a:pt x="0" y="100"/>
                    </a:moveTo>
                    <a:lnTo>
                      <a:pt x="0" y="74"/>
                    </a:lnTo>
                    <a:lnTo>
                      <a:pt x="14" y="50"/>
                    </a:lnTo>
                    <a:lnTo>
                      <a:pt x="26" y="26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063760" y="634320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069520" y="63432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0"/>
                    </a:moveTo>
                    <a:lnTo>
                      <a:pt x="12" y="12"/>
                    </a:lnTo>
                    <a:lnTo>
                      <a:pt x="26" y="38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079600" y="63594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2" y="24"/>
                    </a:lnTo>
                    <a:lnTo>
                      <a:pt x="26" y="36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089680" y="637452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94360" y="63795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104800" y="6384600"/>
                <a:ext cx="504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109840" y="6389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120280" y="63896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124960" y="63896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135040" y="6395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145120" y="63957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150880" y="6395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160960" y="639576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165640" y="6395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175720" y="6400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185800" y="64008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191200" y="6400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201280" y="640080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206320" y="6400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216400" y="6395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226480" y="63957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231160" y="6395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241240" y="63957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247000" y="6395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257080" y="63896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261760" y="6389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271840" y="6389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281920" y="63846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287320" y="63846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297760" y="638460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V="1">
                <a:off x="5302440" y="63792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V="1">
                <a:off x="5312520" y="63745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322600" y="637452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328000" y="6369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338440" y="636948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V="1">
                <a:off x="5343120" y="63644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V="1">
                <a:off x="5353200" y="63590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363280" y="63594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V="1">
                <a:off x="5368680" y="635328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V="1">
                <a:off x="5378760" y="634788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V="1">
                <a:off x="5383800" y="63432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393880" y="63432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V="1">
                <a:off x="5399280" y="6337800"/>
                <a:ext cx="936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5408640" y="63331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V="1">
                <a:off x="5418720" y="632772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5424120" y="6322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434560" y="631728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439240" y="6317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449320" y="631188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5459400" y="630648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65160" y="63018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5475240" y="629640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479560" y="62913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5490000" y="6285960"/>
                <a:ext cx="504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5495400" y="62812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5505480" y="62758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5515560" y="6270480"/>
                <a:ext cx="46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5520600" y="62650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5530680" y="626004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5536080" y="624996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5546160" y="62445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5556240" y="623988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5560920" y="62344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5571000" y="6228720"/>
                <a:ext cx="540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V="1">
                <a:off x="5576760" y="6223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5586840" y="6218280"/>
                <a:ext cx="936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V="1">
                <a:off x="5596200" y="621324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V="1">
                <a:off x="5601600" y="620352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5612040" y="619848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5616360" y="61930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626800" y="6187320"/>
                <a:ext cx="540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632200" y="61822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642280" y="61768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652360" y="6167160"/>
                <a:ext cx="432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657040" y="61617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667480" y="6157440"/>
                <a:ext cx="5040" cy="39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672880" y="61520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82960" y="61466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693040" y="6136560"/>
                <a:ext cx="46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697720" y="61311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707800" y="612648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713560" y="61210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723640" y="611604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728320" y="6105240"/>
                <a:ext cx="9000" cy="1080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737680" y="60998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747760" y="609516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753520" y="60897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763600" y="6080040"/>
                <a:ext cx="432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67920" y="60746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78360" y="606888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788440" y="606348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793120" y="605340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803200" y="604836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5808960" y="60433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5819040" y="60379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5829120" y="6027120"/>
                <a:ext cx="4680" cy="1080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5833800" y="60217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5843880" y="601704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5849280" y="60116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5859360" y="6001920"/>
                <a:ext cx="46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5864400" y="59965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874480" y="59918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5884560" y="5985720"/>
                <a:ext cx="504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5889960" y="597564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5900400" y="597024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904720" y="5965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915160" y="59443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0" y="50"/>
                    </a:moveTo>
                    <a:lnTo>
                      <a:pt x="13" y="26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925240" y="59392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930640" y="593928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2"/>
                    </a:lnTo>
                    <a:lnTo>
                      <a:pt x="26" y="26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940720" y="593928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945400" y="5929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955840" y="59292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5965920" y="592380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5971320" y="5913720"/>
                <a:ext cx="9360" cy="9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5980680" y="5907960"/>
                <a:ext cx="540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5986080" y="59029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5996160" y="589752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001200" y="58824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011280" y="5877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6021360" y="58723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026760" y="58723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036840" y="586116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6041520" y="58561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6051960" y="58510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6062040" y="5845680"/>
                <a:ext cx="504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6067440" y="583596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6077520" y="583092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6082200" y="582480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6092640" y="5819400"/>
                <a:ext cx="504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6098040" y="58143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6108120" y="5809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6118200" y="5064480"/>
              <a:ext cx="1604880" cy="744120"/>
              <a:chOff x="6118200" y="5064480"/>
              <a:chExt cx="1604880" cy="744120"/>
            </a:xfrm>
          </p:grpSpPr>
          <p:sp>
            <p:nvSpPr>
              <p:cNvPr id="2483" name=""/>
              <p:cNvSpPr/>
              <p:nvPr/>
            </p:nvSpPr>
            <p:spPr>
              <a:xfrm flipV="1">
                <a:off x="6118200" y="580392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6122520" y="579420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6132960" y="578880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138360" y="57830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6148440" y="57776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6158520" y="5767920"/>
                <a:ext cx="46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6163560" y="57625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6173640" y="575748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6178320" y="57524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6188400" y="57474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198480" y="57366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203880" y="57366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6213960" y="573120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6219000" y="57261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6229080" y="5716080"/>
                <a:ext cx="540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6234480" y="57106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6244560" y="57060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6255000" y="5699880"/>
                <a:ext cx="432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6259320" y="5695560"/>
                <a:ext cx="10080" cy="39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6269760" y="5690520"/>
                <a:ext cx="504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6275160" y="56854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6285240" y="56804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V="1">
                <a:off x="6295320" y="567540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6300000" y="5664600"/>
                <a:ext cx="10080" cy="1080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6310440" y="565920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6315840" y="56545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325920" y="565452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V="1">
                <a:off x="6330600" y="56491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340680" y="5639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350760" y="563904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356520" y="56289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365880" y="562896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371280" y="56181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6381360" y="56127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6391440" y="560736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6396120" y="5602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V="1">
                <a:off x="6406560" y="559728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V="1">
                <a:off x="6411960" y="55926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6422040" y="55872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432120" y="55875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6436800" y="55814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6447240" y="5576400"/>
                <a:ext cx="504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6452640" y="55710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6462720" y="556596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6467400" y="5561280"/>
                <a:ext cx="936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6476760" y="55558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6486840" y="555120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6492240" y="55458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V="1">
                <a:off x="6502680" y="5540040"/>
                <a:ext cx="432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6507360" y="55350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6517440" y="55296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6527520" y="55249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533280" y="55195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543360" y="551988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6547680" y="55144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V="1">
                <a:off x="6558120" y="55094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6568200" y="550440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6572880" y="54986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6582960" y="549360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6588720" y="54882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6598800" y="548316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6603120" y="54777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613560" y="54781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6623640" y="547308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6629040" y="54676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V="1">
                <a:off x="6639120" y="546264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6644160" y="54572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6654240" y="54518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664320" y="545184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V="1">
                <a:off x="6669720" y="54468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6680160" y="544176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6684480" y="54363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694920" y="543672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6700320" y="5431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6710400" y="54262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6720480" y="5420520"/>
                <a:ext cx="432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6725160" y="54154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735600" y="54158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6740280" y="54104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6750360" y="54050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6760440" y="540036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765840" y="54003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6776280" y="539496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V="1">
                <a:off x="6780600" y="53902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791040" y="53902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801120" y="537912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806520" y="53791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816600" y="537912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6821640" y="53737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6831720" y="536904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6837120" y="53636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6847200" y="53589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857280" y="53589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6861960" y="53535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6872040" y="53485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877800" y="53485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6887880" y="53434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6897960" y="5337720"/>
                <a:ext cx="432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902640" y="53377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6913080" y="533268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V="1">
                <a:off x="6918480" y="53272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928560" y="53276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6933240" y="53222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V="1">
                <a:off x="6943320" y="53172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953400" y="531720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V="1">
                <a:off x="6958080" y="53121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968520" y="53071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973920" y="53071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984000" y="5302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994080" y="530208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V="1">
                <a:off x="6998760" y="529632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7008840" y="52909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014600" y="52909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V="1">
                <a:off x="7024680" y="52858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 flipV="1">
                <a:off x="7034760" y="528084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039440" y="52808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049520" y="52758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054920" y="5275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7065360" y="527040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7070040" y="52657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080120" y="52657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090200" y="52606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095960" y="52606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106040" y="5254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110720" y="52549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V="1">
                <a:off x="7120800" y="52495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7130880" y="524412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135560" y="52444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146000" y="5239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151400" y="52394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161480" y="5234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171560" y="523440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7176240" y="52293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V="1">
                <a:off x="7186320" y="5224680"/>
                <a:ext cx="5400" cy="39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192080" y="5225040"/>
                <a:ext cx="936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201440" y="52192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205760" y="52192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7216200" y="52142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7226280" y="520884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231680" y="5209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241760" y="520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246800" y="5203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256880" y="519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266960" y="51987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272360" y="51937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282800" y="519372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287120" y="5188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297200" y="51886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302960" y="51836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12"/>
                    </a:move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312320" y="5183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322400" y="51775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327800" y="51775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338240" y="5172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342560" y="51724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353000" y="5167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363080" y="516744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368480" y="51624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378560" y="516240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383240" y="5157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393680" y="51573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403760" y="51523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409160" y="51523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419240" y="5147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423920" y="51472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434360" y="51422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439760" y="51422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449840" y="5136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459920" y="513612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464600" y="5131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474680" y="51310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480440" y="5126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90520" y="51260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500600" y="51260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7505280" y="51206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7515720" y="511560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20040" y="51159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530120" y="51159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535880" y="5110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545960" y="51109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556040" y="5105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560720" y="51058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571160" y="51058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576560" y="510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586640" y="51004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596720" y="5094720"/>
                <a:ext cx="46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V="1">
                <a:off x="7601400" y="50893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611480" y="50896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617240" y="50896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627320" y="50846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637400" y="50846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642080" y="50796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652160" y="50796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657560" y="50796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668000" y="5074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672680" y="5074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682760" y="5069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692840" y="50691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697520" y="5064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707600" y="50644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713000" y="50644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683" name=""/>
            <p:cNvGrpSpPr/>
            <p:nvPr/>
          </p:nvGrpSpPr>
          <p:grpSpPr>
            <a:xfrm>
              <a:off x="4994640" y="4887360"/>
              <a:ext cx="3564000" cy="1083600"/>
              <a:chOff x="4994640" y="4887360"/>
              <a:chExt cx="3564000" cy="1083600"/>
            </a:xfrm>
          </p:grpSpPr>
          <p:sp>
            <p:nvSpPr>
              <p:cNvPr id="2684" name=""/>
              <p:cNvSpPr/>
              <p:nvPr/>
            </p:nvSpPr>
            <p:spPr>
              <a:xfrm>
                <a:off x="7723440" y="5059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733520" y="505908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738200" y="50590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748640" y="505296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14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754040" y="50529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764120" y="5047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774200" y="504792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778880" y="50479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788960" y="504792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7794720" y="50428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7804800" y="503748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09480" y="50378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819560" y="50378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829640" y="50328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835040" y="5032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845480" y="503280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850160" y="5027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860240" y="5027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870320" y="50227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875720" y="50227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886160" y="502272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890840" y="50227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00920" y="5017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05600" y="50176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915680" y="50115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926120" y="50115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931520" y="50065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940880" y="50065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945560" y="5006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955640" y="50065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965720" y="5006520"/>
                <a:ext cx="504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971120" y="5001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981560" y="500148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85880" y="4996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96320" y="4996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8006400" y="49964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8011800" y="49964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8021880" y="4991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8026920" y="49914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8037000" y="49863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8042400" y="49863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8052480" y="49863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8062560" y="498636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8067240" y="49809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 flipV="1">
                <a:off x="8077320" y="4975200"/>
                <a:ext cx="46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8082360" y="4975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092440" y="49752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14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102520" y="49752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8107920" y="4975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118360" y="4970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8122680" y="49701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8133120" y="49701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flipV="1">
                <a:off x="8138520" y="49647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V="1">
                <a:off x="8148600" y="49600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58680" y="496008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8163360" y="49600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8173800" y="4960080"/>
                <a:ext cx="504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9200" y="49600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8189280" y="4955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199360" y="495504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8204040" y="49496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214120" y="49496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19880" y="49496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229960" y="4949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40040" y="4949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2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244720" y="4944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54800" y="493956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260200" y="49395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0"/>
                    </a:lnTo>
                    <a:lnTo>
                      <a:pt x="24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8269920" y="49395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75320" y="49395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8285400" y="49395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8295480" y="49395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00160" y="49338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8310240" y="49338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316000" y="49338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4"/>
                    </a:lnTo>
                    <a:lnTo>
                      <a:pt x="26" y="26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8326080" y="49338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8336160" y="493380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40840" y="492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8351280" y="49287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56320" y="492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366760" y="4923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376840" y="492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1520" y="4928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391600" y="49287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flipV="1">
                <a:off x="8397360" y="49233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V="1">
                <a:off x="8407440" y="491832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8412120" y="49183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22200" y="4918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432280" y="49183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37680" y="49183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447760" y="49183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452800" y="49136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0" y="36"/>
                    </a:ln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462880" y="49136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472960" y="49136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477640" y="4913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14" y="12"/>
                    </a:lnTo>
                    <a:lnTo>
                      <a:pt x="25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487720" y="490320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493120" y="4903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503560" y="4903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508240" y="4903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518320" y="4903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528400" y="4903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533800" y="4903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544240" y="489816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V="1">
                <a:off x="8548560" y="4887360"/>
                <a:ext cx="10080" cy="1080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994640" y="551484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12" h="157">
                    <a:moveTo>
                      <a:pt x="0" y="0"/>
                    </a:moveTo>
                    <a:lnTo>
                      <a:pt x="0" y="74"/>
                    </a:lnTo>
                    <a:lnTo>
                      <a:pt x="12" y="157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998960" y="5581440"/>
                <a:ext cx="9360" cy="77760"/>
              </a:xfrm>
              <a:custGeom>
                <a:avLst/>
                <a:gdLst/>
                <a:ahLst/>
                <a:rect l="l" t="t" r="r" b="b"/>
                <a:pathLst>
                  <a:path w="26" h="184">
                    <a:moveTo>
                      <a:pt x="0" y="0"/>
                    </a:moveTo>
                    <a:lnTo>
                      <a:pt x="14" y="98"/>
                    </a:lnTo>
                    <a:lnTo>
                      <a:pt x="26" y="18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008320" y="5659560"/>
                <a:ext cx="5400" cy="61560"/>
              </a:xfrm>
              <a:custGeom>
                <a:avLst/>
                <a:gdLst/>
                <a:ahLst/>
                <a:rect l="l" t="t" r="r" b="b"/>
                <a:pathLst>
                  <a:path w="14" h="148">
                    <a:moveTo>
                      <a:pt x="0" y="0"/>
                    </a:moveTo>
                    <a:lnTo>
                      <a:pt x="0" y="74"/>
                    </a:lnTo>
                    <a:lnTo>
                      <a:pt x="14" y="148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014080" y="5721120"/>
                <a:ext cx="9360" cy="51480"/>
              </a:xfrm>
              <a:custGeom>
                <a:avLst/>
                <a:gdLst/>
                <a:ahLst/>
                <a:rect l="l" t="t" r="r" b="b"/>
                <a:pathLst>
                  <a:path w="24" h="122">
                    <a:moveTo>
                      <a:pt x="0" y="0"/>
                    </a:moveTo>
                    <a:lnTo>
                      <a:pt x="12" y="62"/>
                    </a:lnTo>
                    <a:lnTo>
                      <a:pt x="24" y="12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023440" y="5772960"/>
                <a:ext cx="5400" cy="36360"/>
              </a:xfrm>
              <a:custGeom>
                <a:avLst/>
                <a:gdLst/>
                <a:ahLst/>
                <a:rect l="l" t="t" r="r" b="b"/>
                <a:pathLst>
                  <a:path w="14" h="86">
                    <a:moveTo>
                      <a:pt x="0" y="0"/>
                    </a:moveTo>
                    <a:lnTo>
                      <a:pt x="0" y="50"/>
                    </a:lnTo>
                    <a:lnTo>
                      <a:pt x="14" y="8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028840" y="5809320"/>
                <a:ext cx="10080" cy="309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038920" y="5840640"/>
                <a:ext cx="10080" cy="25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049360" y="5866200"/>
                <a:ext cx="4320" cy="25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053680" y="5892120"/>
                <a:ext cx="10080" cy="26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063760" y="5918400"/>
                <a:ext cx="5400" cy="201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069520" y="59389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12" y="26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079600" y="59601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089680" y="597024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094360" y="5970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V="1">
                <a:off x="5104800" y="5964840"/>
                <a:ext cx="504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5109840" y="59598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5120280" y="5949720"/>
                <a:ext cx="432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5124960" y="594396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5135040" y="59335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5145120" y="592848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V="1">
                <a:off x="5150880" y="59184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5160960" y="5902560"/>
                <a:ext cx="468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V="1">
                <a:off x="5165640" y="588708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5175720" y="58770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5185800" y="5866200"/>
                <a:ext cx="540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5191200" y="58557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5201280" y="5850720"/>
                <a:ext cx="46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5206320" y="584064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5216400" y="583524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5226480" y="583056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5231160" y="582444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241240" y="58244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247000" y="5819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257080" y="58194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261760" y="5819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271840" y="5819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281920" y="5819400"/>
                <a:ext cx="504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287320" y="5819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297760" y="582444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302440" y="582444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312520" y="583056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322600" y="583560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328000" y="584064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338440" y="5845680"/>
                <a:ext cx="46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343120" y="58507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353200" y="58557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363280" y="586080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368680" y="58662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378760" y="5871960"/>
                <a:ext cx="46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383800" y="58770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393880" y="588708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5399280" y="5892120"/>
                <a:ext cx="936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408640" y="589752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418720" y="590256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5424120" y="59076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5434560" y="591336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439240" y="59184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449320" y="592344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459400" y="59288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465160" y="592884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475240" y="593352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479560" y="59389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490000" y="5938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495400" y="59439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505480" y="59439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515560" y="594396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520600" y="59497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530680" y="59497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536080" y="59439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546160" y="59439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556240" y="59439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V="1">
                <a:off x="5560920" y="59385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571000" y="593352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5576760" y="592848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5586840" y="5923440"/>
                <a:ext cx="936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V="1">
                <a:off x="5596200" y="591804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5601600" y="59130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5612040" y="5902560"/>
                <a:ext cx="432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5616360" y="58971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5626800" y="5887080"/>
                <a:ext cx="540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5632200" y="58770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5642280" y="586620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V="1">
                <a:off x="5652360" y="5855760"/>
                <a:ext cx="432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V="1">
                <a:off x="5657040" y="584568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5667480" y="5835600"/>
                <a:ext cx="504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672880" y="58194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V="1">
                <a:off x="5682960" y="58093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693040" y="579420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5697720" y="578304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5707800" y="5767920"/>
                <a:ext cx="540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5713560" y="575244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5723640" y="5736600"/>
                <a:ext cx="468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5728320" y="5721120"/>
                <a:ext cx="900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5737680" y="570600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5747760" y="5690880"/>
                <a:ext cx="540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5753520" y="567540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884" name=""/>
            <p:cNvGrpSpPr/>
            <p:nvPr/>
          </p:nvGrpSpPr>
          <p:grpSpPr>
            <a:xfrm>
              <a:off x="5763600" y="4624200"/>
              <a:ext cx="1605240" cy="1051560"/>
              <a:chOff x="5763600" y="4624200"/>
              <a:chExt cx="1605240" cy="1051560"/>
            </a:xfrm>
          </p:grpSpPr>
          <p:sp>
            <p:nvSpPr>
              <p:cNvPr id="2885" name=""/>
              <p:cNvSpPr/>
              <p:nvPr/>
            </p:nvSpPr>
            <p:spPr>
              <a:xfrm flipV="1">
                <a:off x="5763600" y="5659920"/>
                <a:ext cx="432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5767920" y="563940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5778360" y="5623200"/>
                <a:ext cx="1008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5788440" y="5608080"/>
                <a:ext cx="46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5793120" y="559296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5803200" y="5576760"/>
                <a:ext cx="540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5808960" y="556164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819040" y="554040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2" y="26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829120" y="55303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5833800" y="551520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5843880" y="5499000"/>
                <a:ext cx="540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5849280" y="548352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5859360" y="5473440"/>
                <a:ext cx="46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864400" y="54572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5874480" y="54471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884560" y="543204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5889960" y="542088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5900400" y="5410800"/>
                <a:ext cx="432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904720" y="53956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5915160" y="538524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925240" y="536940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930640" y="53694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  <a:lnTo>
                      <a:pt x="26" y="24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940720" y="536940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5945400" y="53589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5955840" y="534888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5965920" y="5338080"/>
                <a:ext cx="540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5971320" y="5327640"/>
                <a:ext cx="936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5980680" y="532260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5986080" y="53125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5996160" y="5302440"/>
                <a:ext cx="46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6001200" y="529632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6011280" y="52912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6021360" y="5281200"/>
                <a:ext cx="540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6026760" y="5270760"/>
                <a:ext cx="10080" cy="9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6036840" y="5261040"/>
                <a:ext cx="46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6041520" y="525492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6051960" y="52498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6062040" y="5239800"/>
                <a:ext cx="504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6067440" y="52293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6077520" y="5225040"/>
                <a:ext cx="4320" cy="39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6082200" y="521424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6092640" y="5204160"/>
                <a:ext cx="504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6098040" y="51987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6108120" y="518904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6118200" y="518364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6122880" y="517284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6132960" y="516744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6138720" y="51577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6148800" y="514764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6158880" y="5142240"/>
                <a:ext cx="46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6163560" y="513648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6173640" y="5126040"/>
                <a:ext cx="46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6178680" y="5115960"/>
                <a:ext cx="10080" cy="9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6188760" y="51109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6198840" y="510552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6204240" y="509472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6214320" y="5089680"/>
                <a:ext cx="46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6219000" y="50796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6229080" y="507456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6234840" y="5064120"/>
                <a:ext cx="10080" cy="9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6244920" y="505944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6255000" y="5053320"/>
                <a:ext cx="432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6259680" y="504792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6270120" y="5038200"/>
                <a:ext cx="504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6275160" y="503316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6285600" y="50277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6295680" y="5018040"/>
                <a:ext cx="432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6300360" y="501192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6310440" y="500652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6316200" y="500184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6326280" y="499644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6330600" y="49867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6341040" y="49813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6351120" y="4975560"/>
                <a:ext cx="540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6356520" y="4970520"/>
                <a:ext cx="936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6365880" y="496512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V="1">
                <a:off x="6371640" y="49600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V="1">
                <a:off x="6381720" y="495504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6391800" y="4950000"/>
                <a:ext cx="46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6396480" y="49446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6406560" y="493992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411960" y="49291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422040" y="49291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6432480" y="492372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6437160" y="49186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447240" y="49086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452640" y="49086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6463080" y="490320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6467760" y="4898520"/>
                <a:ext cx="936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6477120" y="48924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6487200" y="488700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6492600" y="48823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6502680" y="487692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6507360" y="487188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517440" y="4872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6527880" y="486720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6533280" y="48618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6543360" y="485712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548040" y="48571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6558480" y="48510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6568560" y="484560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6572880" y="48409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583320" y="48409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V="1">
                <a:off x="6588720" y="483552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6598800" y="483048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603480" y="48304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6613920" y="482544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6624000" y="482040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6629400" y="481536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639480" y="48153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6644160" y="48096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6654240" y="48042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664320" y="480456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6670080" y="47995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6680160" y="479412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684840" y="47944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694920" y="47890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700320" y="47890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6710760" y="478368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6720840" y="477900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725520" y="47790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6735600" y="477360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6740280" y="47682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750360" y="47682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760800" y="476388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766200" y="47638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776280" y="4758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780960" y="47588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791400" y="47538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801480" y="47538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806880" y="474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816960" y="47487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6821640" y="474336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6831720" y="473796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837480" y="47383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6847560" y="47383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857640" y="47325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862320" y="4732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72400" y="47271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877800" y="47271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88240" y="4722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898320" y="472248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903000" y="4717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6913080" y="47174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6918480" y="47174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928920" y="47120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33240" y="47120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943680" y="4707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953760" y="47070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958440" y="47070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968520" y="47019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974280" y="47019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984360" y="4696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994440" y="469692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999120" y="46969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009200" y="469116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014600" y="46911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024680" y="46911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035120" y="46857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039800" y="46857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049880" y="468576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055280" y="4680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065720" y="468072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070040" y="46807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080120" y="4675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090560" y="467568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095960" y="46756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106040" y="4670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110720" y="46706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121160" y="46706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131240" y="46656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135920" y="4665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146000" y="46656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151400" y="4660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161480" y="4660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171920" y="46605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176600" y="4655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186680" y="46555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192080" y="464940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201440" y="46494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206120" y="4649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216560" y="4649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26640" y="46494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232040" y="4644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242120" y="46443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246800" y="46443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256880" y="4639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266960" y="46393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272720" y="46393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282800" y="463932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287480" y="463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297560" y="463428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302960" y="4634280"/>
                <a:ext cx="936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312320" y="4629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322760" y="46292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328160" y="4629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338240" y="462924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342920" y="4629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353000" y="4624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363440" y="46242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085" name=""/>
            <p:cNvGrpSpPr/>
            <p:nvPr/>
          </p:nvGrpSpPr>
          <p:grpSpPr>
            <a:xfrm>
              <a:off x="4994640" y="4509720"/>
              <a:ext cx="3564000" cy="1869480"/>
              <a:chOff x="4994640" y="4509720"/>
              <a:chExt cx="3564000" cy="1869480"/>
            </a:xfrm>
          </p:grpSpPr>
          <p:sp>
            <p:nvSpPr>
              <p:cNvPr id="3086" name=""/>
              <p:cNvSpPr/>
              <p:nvPr/>
            </p:nvSpPr>
            <p:spPr>
              <a:xfrm>
                <a:off x="7368840" y="46238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378920" y="4618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383600" y="46188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393680" y="46188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403760" y="46188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409160" y="4613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419600" y="46137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424280" y="46137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434360" y="461376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439760" y="46137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449840" y="4608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460280" y="46080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464960" y="46080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475040" y="46080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480440" y="46026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490520" y="4602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500960" y="46026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505280" y="4602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515720" y="46026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520400" y="4597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530480" y="459756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35880" y="4597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546320" y="4597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556400" y="459756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560720" y="4597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571160" y="45925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576560" y="45925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586640" y="45925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596720" y="459252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601760" y="45925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611840" y="45874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617240" y="45874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627320" y="45874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637760" y="4582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642080" y="45824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652160" y="4582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57920" y="4582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668000" y="458244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672680" y="4582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682760" y="4582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693200" y="4577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697520" y="4577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707960" y="45774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13360" y="4577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723440" y="4577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733520" y="45774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738200" y="4577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748640" y="45723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754040" y="4572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764120" y="4572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774200" y="45723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778880" y="45723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788960" y="45662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794720" y="4566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804800" y="456624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809480" y="4566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819560" y="4566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829640" y="45662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835040" y="4561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845480" y="45612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850160" y="45612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860240" y="45612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870320" y="4561200"/>
                <a:ext cx="504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875720" y="45612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886160" y="45612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7890840" y="4556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900920" y="4556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905600" y="4556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915680" y="4556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926120" y="45561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931520" y="4556160"/>
                <a:ext cx="936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940880" y="4551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945560" y="45511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955640" y="45511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965720" y="4551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71120" y="45561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981560" y="455616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985880" y="45511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996320" y="45511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8006400" y="45511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8011800" y="4546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8021880" y="454608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8026920" y="45460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8037000" y="45460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8042400" y="4546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8052480" y="45460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8062560" y="4540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8067240" y="45406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8077320" y="454068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8082360" y="4546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8092440" y="45406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8102520" y="45406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8107920" y="45306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8118360" y="4530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8122680" y="45360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8133120" y="453600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8138520" y="45360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8148600" y="45360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8158680" y="4536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8163360" y="45406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8173800" y="4540680"/>
                <a:ext cx="504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8179200" y="45406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8189280" y="4536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199360" y="453600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204040" y="45360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214120" y="45360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19880" y="4536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8229960" y="453060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8240040" y="453060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8244720" y="4530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8254800" y="45306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8260200" y="45306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12"/>
                    </a:lnTo>
                    <a:lnTo>
                      <a:pt x="2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8269920" y="451980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26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8275320" y="4519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8285400" y="45198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2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8295480" y="453060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8300160" y="45306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8310240" y="45306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8316000" y="45306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8326080" y="4530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8336160" y="45248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8340840" y="45248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4" y="14"/>
                    </a:lnTo>
                    <a:lnTo>
                      <a:pt x="26" y="26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351280" y="45198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38"/>
                    </a:lnTo>
                    <a:lnTo>
                      <a:pt x="0" y="26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8356320" y="4519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8366760" y="4514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8376840" y="45147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8381520" y="452484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8391600" y="45306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8397360" y="45306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407440" y="4509720"/>
                <a:ext cx="4680" cy="208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50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412120" y="4509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8422200" y="45248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4" y="14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8432280" y="4514760"/>
                <a:ext cx="5400" cy="2088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50"/>
                    </a:moveTo>
                    <a:lnTo>
                      <a:pt x="0" y="38"/>
                    </a:lnTo>
                    <a:lnTo>
                      <a:pt x="0" y="24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8437680" y="45147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8447760" y="45147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8452800" y="45198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8462880" y="4509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8472960" y="4509720"/>
                <a:ext cx="4320" cy="208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2" y="5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477640" y="453060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487720" y="45248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flipV="1">
                <a:off x="8493120" y="451980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8503560" y="45198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2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8508240" y="45147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8518320" y="4514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8528400" y="450972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8533800" y="45097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8544240" y="45097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8548560" y="4519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4994640" y="6311520"/>
                <a:ext cx="432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V="1">
                <a:off x="4998960" y="6306120"/>
                <a:ext cx="936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V="1">
                <a:off x="5008320" y="630108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014080" y="6301080"/>
                <a:ext cx="936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023440" y="630108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028840" y="6306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038920" y="631152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12" y="26"/>
                    </a:lnTo>
                    <a:lnTo>
                      <a:pt x="26" y="6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049360" y="6337800"/>
                <a:ext cx="4320" cy="4140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0" y="0"/>
                    </a:moveTo>
                    <a:lnTo>
                      <a:pt x="0" y="24"/>
                    </a:lnTo>
                    <a:lnTo>
                      <a:pt x="0" y="50"/>
                    </a:lnTo>
                    <a:lnTo>
                      <a:pt x="12" y="86"/>
                    </a:lnTo>
                    <a:lnTo>
                      <a:pt x="12" y="98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053680" y="6363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063760" y="6275880"/>
                <a:ext cx="5400" cy="87840"/>
              </a:xfrm>
              <a:custGeom>
                <a:avLst/>
                <a:gdLst/>
                <a:ahLst/>
                <a:rect l="l" t="t" r="r" b="b"/>
                <a:pathLst>
                  <a:path w="14" h="207">
                    <a:moveTo>
                      <a:pt x="0" y="207"/>
                    </a:moveTo>
                    <a:lnTo>
                      <a:pt x="0" y="169"/>
                    </a:lnTo>
                    <a:lnTo>
                      <a:pt x="0" y="109"/>
                    </a:lnTo>
                    <a:lnTo>
                      <a:pt x="14" y="47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069520" y="6213240"/>
                <a:ext cx="10080" cy="62280"/>
              </a:xfrm>
              <a:custGeom>
                <a:avLst/>
                <a:gdLst/>
                <a:ahLst/>
                <a:rect l="l" t="t" r="r" b="b"/>
                <a:pathLst>
                  <a:path w="26" h="148">
                    <a:moveTo>
                      <a:pt x="0" y="148"/>
                    </a:moveTo>
                    <a:lnTo>
                      <a:pt x="12" y="6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079600" y="6171480"/>
                <a:ext cx="10080" cy="4140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0" y="98"/>
                    </a:moveTo>
                    <a:lnTo>
                      <a:pt x="12" y="5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V="1">
                <a:off x="5089680" y="6141240"/>
                <a:ext cx="4320" cy="302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5094360" y="6115680"/>
                <a:ext cx="10080" cy="252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V="1">
                <a:off x="5104800" y="6094800"/>
                <a:ext cx="5040" cy="208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V="1">
                <a:off x="5109840" y="6074280"/>
                <a:ext cx="10080" cy="201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 flipV="1">
                <a:off x="5120280" y="6058440"/>
                <a:ext cx="4320" cy="158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 flipV="1">
                <a:off x="5124960" y="6048000"/>
                <a:ext cx="1008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V="1">
                <a:off x="5135040" y="604296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V="1">
                <a:off x="5145120" y="603756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 flipV="1">
                <a:off x="5150880" y="60328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V="1">
                <a:off x="5160960" y="6021720"/>
                <a:ext cx="468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 flipV="1">
                <a:off x="5165640" y="60166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V="1">
                <a:off x="5175720" y="6006240"/>
                <a:ext cx="10080" cy="9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V="1">
                <a:off x="5185800" y="5996520"/>
                <a:ext cx="540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 flipV="1">
                <a:off x="5191200" y="5985360"/>
                <a:ext cx="1008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V="1">
                <a:off x="5201280" y="5975280"/>
                <a:ext cx="468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V="1">
                <a:off x="5206320" y="59698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V="1">
                <a:off x="5216400" y="5960160"/>
                <a:ext cx="1008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V="1">
                <a:off x="5226480" y="5949720"/>
                <a:ext cx="432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5231160" y="5938920"/>
                <a:ext cx="1008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V="1">
                <a:off x="5241240" y="593388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V="1">
                <a:off x="5247000" y="59284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V="1">
                <a:off x="5257080" y="5918400"/>
                <a:ext cx="432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V="1">
                <a:off x="5261760" y="591336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V="1">
                <a:off x="5271840" y="590760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V="1">
                <a:off x="5281920" y="5897520"/>
                <a:ext cx="504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 flipV="1">
                <a:off x="5287320" y="589212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 flipV="1">
                <a:off x="5297760" y="5886720"/>
                <a:ext cx="432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5302440" y="588204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V="1">
                <a:off x="5312520" y="587664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V="1">
                <a:off x="5322600" y="5866200"/>
                <a:ext cx="540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V="1">
                <a:off x="5328000" y="58608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5338440" y="5855760"/>
                <a:ext cx="46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V="1">
                <a:off x="5343120" y="585072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5353200" y="584532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V="1">
                <a:off x="5363280" y="584064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 flipV="1">
                <a:off x="5368680" y="583524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V="1">
                <a:off x="5378760" y="5830560"/>
                <a:ext cx="46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5383800" y="58244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V="1">
                <a:off x="5393880" y="581904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V="1">
                <a:off x="5399280" y="5814000"/>
                <a:ext cx="936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286" name=""/>
            <p:cNvGrpSpPr/>
            <p:nvPr/>
          </p:nvGrpSpPr>
          <p:grpSpPr>
            <a:xfrm>
              <a:off x="5408640" y="5327640"/>
              <a:ext cx="1605960" cy="486720"/>
              <a:chOff x="5408640" y="5327640"/>
              <a:chExt cx="1605960" cy="486720"/>
            </a:xfrm>
          </p:grpSpPr>
          <p:sp>
            <p:nvSpPr>
              <p:cNvPr id="3287" name=""/>
              <p:cNvSpPr/>
              <p:nvPr/>
            </p:nvSpPr>
            <p:spPr>
              <a:xfrm flipV="1">
                <a:off x="5408640" y="580932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 flipV="1">
                <a:off x="5418720" y="580392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V="1">
                <a:off x="5424120" y="57988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V="1">
                <a:off x="5434200" y="5793480"/>
                <a:ext cx="432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5438880" y="57888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V="1">
                <a:off x="5448960" y="57830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 flipV="1">
                <a:off x="5459400" y="577764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V="1">
                <a:off x="5464800" y="57726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5474880" y="5767200"/>
                <a:ext cx="432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V="1">
                <a:off x="5479560" y="576252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V="1">
                <a:off x="5489640" y="5757480"/>
                <a:ext cx="504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V="1">
                <a:off x="5495040" y="57520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5505480" y="57474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V="1">
                <a:off x="5515560" y="5741280"/>
                <a:ext cx="46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V="1">
                <a:off x="5520240" y="57358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530320" y="57362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 flipV="1">
                <a:off x="5535720" y="57312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V="1">
                <a:off x="5546160" y="572580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 flipV="1">
                <a:off x="5556240" y="5721120"/>
                <a:ext cx="46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V="1">
                <a:off x="5560920" y="571572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V="1">
                <a:off x="5571000" y="571068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576400" y="5711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 flipV="1">
                <a:off x="5586480" y="5706000"/>
                <a:ext cx="936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V="1">
                <a:off x="5595840" y="5699880"/>
                <a:ext cx="540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601600" y="5699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 flipV="1">
                <a:off x="5611680" y="5695200"/>
                <a:ext cx="4320" cy="39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V="1">
                <a:off x="5616360" y="569052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 flipV="1">
                <a:off x="5626440" y="568548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631840" y="5685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V="1">
                <a:off x="5642280" y="56800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 flipV="1">
                <a:off x="5652360" y="5675400"/>
                <a:ext cx="432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 flipV="1">
                <a:off x="5657040" y="567000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667120" y="567036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 flipV="1">
                <a:off x="5672520" y="56642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 flipV="1">
                <a:off x="5682960" y="565920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693040" y="565956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flipV="1">
                <a:off x="5697720" y="565416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flipV="1">
                <a:off x="5707800" y="564876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713200" y="5649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723280" y="5644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728320" y="5644080"/>
                <a:ext cx="90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V="1">
                <a:off x="5737320" y="56386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flipV="1">
                <a:off x="5747760" y="563400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753160" y="5634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763240" y="562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767920" y="56289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 flipV="1">
                <a:off x="5778360" y="56228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V="1">
                <a:off x="5788440" y="5617440"/>
                <a:ext cx="46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793120" y="56178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5803200" y="56127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5808600" y="56127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5818680" y="560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5828760" y="560772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V="1">
                <a:off x="5833800" y="56026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V="1">
                <a:off x="5843880" y="559728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849280" y="5597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859360" y="5592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864040" y="5592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874120" y="5592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V="1">
                <a:off x="5884560" y="5587200"/>
                <a:ext cx="504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V="1">
                <a:off x="5889960" y="55814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900040" y="55814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904720" y="55814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915160" y="55814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0"/>
                    </a:moveTo>
                    <a:lnTo>
                      <a:pt x="13" y="14"/>
                    </a:lnTo>
                    <a:lnTo>
                      <a:pt x="25" y="26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925240" y="557640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0" y="37"/>
                    </a:moveTo>
                    <a:lnTo>
                      <a:pt x="0" y="37"/>
                    </a:lnTo>
                    <a:lnTo>
                      <a:pt x="0" y="25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930640" y="55764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940720" y="55663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945400" y="55663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26" y="35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955480" y="55814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965560" y="55713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V="1">
                <a:off x="5971320" y="5565960"/>
                <a:ext cx="936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980680" y="55663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986080" y="5556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996160" y="55562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000840" y="5556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010920" y="5556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V="1">
                <a:off x="6021000" y="555084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026760" y="5550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6036840" y="554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6041520" y="55458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6051600" y="55400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062040" y="5540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1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067080" y="55346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077520" y="55346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082200" y="5529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092280" y="552996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097680" y="5524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108120" y="55245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118200" y="55245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V="1">
                <a:off x="6122880" y="551916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 flipV="1">
                <a:off x="6132960" y="551412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138360" y="5514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148440" y="5509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158880" y="55094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163560" y="5504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173640" y="550440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178320" y="54986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188400" y="5498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198480" y="54932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204240" y="5493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214320" y="5488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219000" y="54882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229080" y="548820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234480" y="54882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244560" y="5483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255000" y="54831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259680" y="54781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269760" y="547812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275160" y="5473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2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285600" y="5473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295680" y="5468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300000" y="5468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310440" y="54630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315840" y="5463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325920" y="546300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330600" y="5463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 flipV="1">
                <a:off x="6341040" y="545688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V="1">
                <a:off x="6351120" y="545184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356520" y="5451840"/>
                <a:ext cx="936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365880" y="54518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371280" y="5446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381360" y="54468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391440" y="544680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396480" y="5441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406560" y="544176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411960" y="54417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422040" y="5436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432480" y="54367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436800" y="5436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447240" y="5431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452640" y="54316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462720" y="5426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467400" y="5426640"/>
                <a:ext cx="936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6476760" y="5426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486840" y="54266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492600" y="54205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502680" y="54205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507360" y="5415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517440" y="5415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527880" y="54154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533280" y="5410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543360" y="54104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548040" y="54104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558120" y="54104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568200" y="5405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572880" y="54054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583320" y="54003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588720" y="54003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598800" y="54003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603480" y="54003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613560" y="5395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623640" y="53953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629400" y="53953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639480" y="539532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644160" y="5389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4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654240" y="53899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664320" y="53899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669720" y="53848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680160" y="53848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684840" y="5384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694920" y="5379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700320" y="5379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710760" y="5379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720840" y="53791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725520" y="5379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V="1">
                <a:off x="6735600" y="5373720"/>
                <a:ext cx="432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740280" y="5369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750360" y="5369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760440" y="53740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766200" y="5369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776280" y="53690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780960" y="5364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791040" y="5364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801120" y="536400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6806880" y="5364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816960" y="5358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821640" y="53586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831720" y="535860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837120" y="53586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847200" y="5353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857640" y="53539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862320" y="53539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872400" y="53485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877800" y="53485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887880" y="53485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898320" y="53485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902640" y="5343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913080" y="53434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918480" y="5343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928560" y="53434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933240" y="53377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943680" y="5337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953760" y="53377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958080" y="5332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968520" y="53323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973920" y="53323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984000" y="53323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994080" y="533232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999120" y="5327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009200" y="53276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4994640" y="5121000"/>
              <a:ext cx="3564000" cy="232920"/>
              <a:chOff x="4994640" y="5121000"/>
              <a:chExt cx="3564000" cy="232920"/>
            </a:xfrm>
          </p:grpSpPr>
          <p:sp>
            <p:nvSpPr>
              <p:cNvPr id="3488" name=""/>
              <p:cNvSpPr/>
              <p:nvPr/>
            </p:nvSpPr>
            <p:spPr>
              <a:xfrm>
                <a:off x="7014600" y="5328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7024680" y="5328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7035120" y="5322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7039800" y="53229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7049880" y="532296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7055280" y="53229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065360" y="53179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070040" y="53179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7080120" y="53179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7090560" y="53179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095960" y="53128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106040" y="53128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110720" y="5312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7121160" y="5312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131240" y="530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135560" y="5307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7146000" y="53074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151400" y="5307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161480" y="5307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171560" y="5302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176600" y="53024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7186680" y="53024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192080" y="5302440"/>
                <a:ext cx="936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201440" y="5296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206120" y="52966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216200" y="52966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226280" y="52966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232040" y="5291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242120" y="529128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7246800" y="52912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256880" y="52912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266960" y="52912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272360" y="52912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282800" y="52866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287480" y="52866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297560" y="52812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302960" y="52812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0"/>
                    </a:lnTo>
                    <a:lnTo>
                      <a:pt x="24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7312320" y="5281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7322400" y="528120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328160" y="52812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7338240" y="528120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342920" y="5276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353000" y="5276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363440" y="527616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368840" y="5276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378920" y="5271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383600" y="5271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7393680" y="5271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7403760" y="52711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409160" y="5271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419600" y="527112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424280" y="5266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434360" y="52660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439760" y="5266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449840" y="5266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460280" y="52660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464960" y="5261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7475040" y="52610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480440" y="5261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7490520" y="5261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500960" y="52610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505280" y="52552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7515720" y="52552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7520400" y="52498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530480" y="52498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535880" y="5249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7546320" y="5249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556400" y="5244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560720" y="5244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571160" y="52448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576560" y="5249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586640" y="5244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596720" y="52448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601760" y="5244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611840" y="52398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617240" y="52398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627320" y="5234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637760" y="52347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642080" y="52347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652160" y="52297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657920" y="5229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668000" y="52297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672680" y="5229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682760" y="52254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693200" y="522540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697520" y="52254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707960" y="52297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713360" y="52254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723440" y="52254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733520" y="522540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738200" y="52254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748640" y="52196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14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754040" y="5219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764120" y="5219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774200" y="52196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778880" y="5219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788960" y="52142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794720" y="5214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804800" y="52142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809480" y="5214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7819560" y="5214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829640" y="52142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7835040" y="5209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845480" y="52095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850160" y="52095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860240" y="52095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7870320" y="5204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875720" y="5204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7886160" y="52041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890840" y="5204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900920" y="52041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905600" y="5204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915680" y="51991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926120" y="51991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931520" y="51940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940880" y="51940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945560" y="5194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955640" y="5194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965720" y="519408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971120" y="5194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981560" y="51940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985880" y="5194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996320" y="5189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8006400" y="51890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8011800" y="5189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8021880" y="5184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8026920" y="5184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8037000" y="51840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8042400" y="5184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 flipV="1">
                <a:off x="8052480" y="517788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8062560" y="517788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8067240" y="5177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8077320" y="51778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14"/>
                    </a:lnTo>
                    <a:lnTo>
                      <a:pt x="12" y="1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8082360" y="51778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8092440" y="5177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8102520" y="51778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8107920" y="5177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8118360" y="5172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8122680" y="5172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8133120" y="51678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8138520" y="5167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8148600" y="5172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8158680" y="5172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V="1">
                <a:off x="8163360" y="516744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173800" y="5162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8179200" y="51627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8189280" y="5172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8199360" y="515772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8204040" y="5157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8214120" y="516780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8219880" y="5167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8229960" y="5172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8240040" y="51728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8244720" y="51627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8254800" y="516276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8260200" y="51627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0"/>
                    </a:lnTo>
                    <a:lnTo>
                      <a:pt x="24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8269920" y="516780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8275320" y="51526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8285400" y="5152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8295480" y="51577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8300160" y="515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8310240" y="51577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8316000" y="5157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8326080" y="515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8336160" y="5157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8340840" y="51526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8351280" y="515268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8356320" y="51526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8366760" y="5142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8376840" y="5142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8381520" y="5147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8391600" y="514224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8397360" y="5142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8407440" y="515268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8412120" y="5142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8422200" y="51314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8432280" y="5131440"/>
                <a:ext cx="5400" cy="2088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0"/>
                    </a:moveTo>
                    <a:lnTo>
                      <a:pt x="0" y="12"/>
                    </a:lnTo>
                    <a:lnTo>
                      <a:pt x="0" y="26"/>
                    </a:lnTo>
                    <a:lnTo>
                      <a:pt x="14" y="38"/>
                    </a:lnTo>
                    <a:lnTo>
                      <a:pt x="14" y="5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8437680" y="51526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V="1">
                <a:off x="8447760" y="5147280"/>
                <a:ext cx="46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452800" y="513648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462880" y="51364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472960" y="51314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477640" y="51314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  <a:lnTo>
                      <a:pt x="25" y="26"/>
                    </a:lnTo>
                    <a:lnTo>
                      <a:pt x="25" y="38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8487720" y="51422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8493120" y="51314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8503560" y="51314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8508240" y="51314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8518320" y="5126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8528400" y="512604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8533800" y="5126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8544240" y="51260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8548560" y="512100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4994640" y="5219640"/>
                <a:ext cx="4320" cy="25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4998960" y="5244840"/>
                <a:ext cx="9360" cy="20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008320" y="5266080"/>
                <a:ext cx="5400" cy="201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0"/>
                    </a:moveTo>
                    <a:lnTo>
                      <a:pt x="0" y="24"/>
                    </a:lnTo>
                    <a:lnTo>
                      <a:pt x="14" y="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014080" y="52866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0"/>
                    </a:moveTo>
                    <a:lnTo>
                      <a:pt x="12" y="12"/>
                    </a:lnTo>
                    <a:lnTo>
                      <a:pt x="24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5023440" y="529668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0"/>
                    </a:moveTo>
                    <a:lnTo>
                      <a:pt x="0" y="14"/>
                    </a:lnTo>
                    <a:lnTo>
                      <a:pt x="14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028840" y="531288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5038920" y="5322960"/>
                <a:ext cx="100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5049360" y="5338080"/>
                <a:ext cx="432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688" name=""/>
            <p:cNvGrpSpPr/>
            <p:nvPr/>
          </p:nvGrpSpPr>
          <p:grpSpPr>
            <a:xfrm>
              <a:off x="5054040" y="4541040"/>
              <a:ext cx="1611360" cy="916920"/>
              <a:chOff x="5054040" y="4541040"/>
              <a:chExt cx="1611360" cy="916920"/>
            </a:xfrm>
          </p:grpSpPr>
          <p:sp>
            <p:nvSpPr>
              <p:cNvPr id="3689" name=""/>
              <p:cNvSpPr/>
              <p:nvPr/>
            </p:nvSpPr>
            <p:spPr>
              <a:xfrm>
                <a:off x="5054040" y="535392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0"/>
                    </a:moveTo>
                    <a:lnTo>
                      <a:pt x="14" y="24"/>
                    </a:lnTo>
                    <a:lnTo>
                      <a:pt x="26" y="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5064120" y="5374080"/>
                <a:ext cx="540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069520" y="53902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2" y="24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079600" y="54054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5089680" y="54104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5094360" y="54003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V="1">
                <a:off x="5104800" y="5385240"/>
                <a:ext cx="504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 flipV="1">
                <a:off x="5110200" y="536904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V="1">
                <a:off x="5120280" y="5353920"/>
                <a:ext cx="432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V="1">
                <a:off x="5124960" y="534384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135400" y="53276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5145480" y="531756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V="1">
                <a:off x="5150880" y="5302080"/>
                <a:ext cx="100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V="1">
                <a:off x="5160960" y="5280480"/>
                <a:ext cx="4680" cy="21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 flipV="1">
                <a:off x="5165640" y="5260680"/>
                <a:ext cx="1008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V="1">
                <a:off x="5175720" y="524448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185800" y="523440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5191560" y="5225040"/>
                <a:ext cx="10080" cy="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5201640" y="5219280"/>
                <a:ext cx="46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5206320" y="520920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5216400" y="520380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5226840" y="520380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5231520" y="519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5241600" y="51987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247000" y="5198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5257080" y="51987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5261760" y="5198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5271840" y="5198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282280" y="5198760"/>
                <a:ext cx="504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287680" y="520380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297760" y="520920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302440" y="521424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312880" y="521928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322960" y="5225040"/>
                <a:ext cx="5400" cy="3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328360" y="522936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338440" y="5239440"/>
                <a:ext cx="46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343120" y="524448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353200" y="525492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363640" y="526572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369040" y="527580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379120" y="528624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5383800" y="529092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393880" y="530208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399640" y="5312520"/>
                <a:ext cx="936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409000" y="53226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419080" y="532764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424480" y="533772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434920" y="5348520"/>
                <a:ext cx="432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439240" y="535392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449320" y="53640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459760" y="536904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465160" y="537912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475240" y="5385240"/>
                <a:ext cx="432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479920" y="53953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490360" y="5400360"/>
                <a:ext cx="504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495760" y="54054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505840" y="541044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515920" y="541584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520600" y="5420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531040" y="5420520"/>
                <a:ext cx="540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536440" y="54266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546520" y="54316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556600" y="5431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561280" y="54367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571360" y="54367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577120" y="5436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587200" y="5441760"/>
                <a:ext cx="936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596560" y="54417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601960" y="5441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612400" y="54471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616720" y="5447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626800" y="54518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632560" y="5451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642640" y="5457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652720" y="54572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657400" y="5457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667840" y="5457240"/>
                <a:ext cx="504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673240" y="5457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 flipV="1">
                <a:off x="5683320" y="545184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 flipV="1">
                <a:off x="5693400" y="544680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 flipV="1">
                <a:off x="5698440" y="543672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 flipV="1">
                <a:off x="5708520" y="542664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flipV="1">
                <a:off x="5713920" y="541044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flipV="1">
                <a:off x="5724000" y="5395320"/>
                <a:ext cx="46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V="1">
                <a:off x="5728680" y="5374080"/>
                <a:ext cx="9000" cy="20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flipV="1">
                <a:off x="5738040" y="5353920"/>
                <a:ext cx="1008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flipV="1">
                <a:off x="5748120" y="5337720"/>
                <a:ext cx="540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flipV="1">
                <a:off x="5753880" y="5317560"/>
                <a:ext cx="1008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flipV="1">
                <a:off x="5763960" y="5296320"/>
                <a:ext cx="4320" cy="20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V="1">
                <a:off x="5768640" y="5275800"/>
                <a:ext cx="1008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flipV="1">
                <a:off x="5778720" y="5254920"/>
                <a:ext cx="10080" cy="20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flipV="1">
                <a:off x="5788800" y="5239440"/>
                <a:ext cx="46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5793840" y="521928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4" y="26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flipV="1">
                <a:off x="5803920" y="5203800"/>
                <a:ext cx="540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flipV="1">
                <a:off x="5809320" y="5188680"/>
                <a:ext cx="100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V="1">
                <a:off x="5819400" y="517248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V="1">
                <a:off x="5829480" y="5157360"/>
                <a:ext cx="46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flipV="1">
                <a:off x="5834160" y="514728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V="1">
                <a:off x="5844240" y="5136120"/>
                <a:ext cx="540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850000" y="5121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V="1">
                <a:off x="5860080" y="5110920"/>
                <a:ext cx="46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864760" y="509472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 flipV="1">
                <a:off x="5874840" y="508464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 flipV="1">
                <a:off x="5885280" y="5074200"/>
                <a:ext cx="504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 flipV="1">
                <a:off x="5890320" y="50688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V="1">
                <a:off x="5900760" y="5059080"/>
                <a:ext cx="432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 flipV="1">
                <a:off x="5905440" y="504288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915520" y="502272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0" y="48"/>
                    </a:moveTo>
                    <a:lnTo>
                      <a:pt x="13" y="24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925600" y="50227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931360" y="50227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941440" y="502272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946120" y="5017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956200" y="499140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62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966280" y="49863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972040" y="49755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981400" y="497556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986800" y="49651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996880" y="495000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 flipV="1">
                <a:off x="6001560" y="493956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 flipV="1">
                <a:off x="6011640" y="493380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V="1">
                <a:off x="6021720" y="492840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027480" y="4923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037560" y="490824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042240" y="4903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 flipV="1">
                <a:off x="6052320" y="489240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V="1">
                <a:off x="6062760" y="4887000"/>
                <a:ext cx="504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 flipV="1">
                <a:off x="6068160" y="488196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 flipV="1">
                <a:off x="6078240" y="4871880"/>
                <a:ext cx="4320" cy="9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V="1">
                <a:off x="6082920" y="486180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 flipV="1">
                <a:off x="6093000" y="4856760"/>
                <a:ext cx="504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 flipV="1">
                <a:off x="6098400" y="484596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 flipV="1">
                <a:off x="6108840" y="484056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V="1">
                <a:off x="6118920" y="4830480"/>
                <a:ext cx="432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V="1">
                <a:off x="6123600" y="482508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V="1">
                <a:off x="6133680" y="481536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V="1">
                <a:off x="6139440" y="480924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V="1">
                <a:off x="6149520" y="48038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V="1">
                <a:off x="6159600" y="4794120"/>
                <a:ext cx="46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V="1">
                <a:off x="6164280" y="478908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V="1">
                <a:off x="6174360" y="478368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V="1">
                <a:off x="6179040" y="477396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V="1">
                <a:off x="6189120" y="476784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V="1">
                <a:off x="6199560" y="4763160"/>
                <a:ext cx="5400" cy="3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 flipV="1">
                <a:off x="6204960" y="47581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V="1">
                <a:off x="6215040" y="4748400"/>
                <a:ext cx="46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 flipV="1">
                <a:off x="6219720" y="474336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 flipV="1">
                <a:off x="6229800" y="473796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V="1">
                <a:off x="6235560" y="473220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 flipV="1">
                <a:off x="6245640" y="472716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 flipV="1">
                <a:off x="6255720" y="472176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V="1">
                <a:off x="6260400" y="47167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 flipV="1">
                <a:off x="6270840" y="4712040"/>
                <a:ext cx="504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 flipV="1">
                <a:off x="6275880" y="47066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V="1">
                <a:off x="6286320" y="470160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 flipV="1">
                <a:off x="6296400" y="469656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 flipV="1">
                <a:off x="6301080" y="469080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V="1">
                <a:off x="6311160" y="4685760"/>
                <a:ext cx="540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V="1">
                <a:off x="6316920" y="468036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 flipV="1">
                <a:off x="6327000" y="4675320"/>
                <a:ext cx="432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V="1">
                <a:off x="6331320" y="467028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 flipV="1">
                <a:off x="6341760" y="46652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flipV="1">
                <a:off x="6351840" y="4660200"/>
                <a:ext cx="540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357240" y="4660200"/>
                <a:ext cx="936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flipV="1">
                <a:off x="6366960" y="465480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V="1">
                <a:off x="6372360" y="464940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V="1">
                <a:off x="6382440" y="464400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V="1">
                <a:off x="6392520" y="463896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397200" y="4639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V="1">
                <a:off x="6407280" y="4633920"/>
                <a:ext cx="540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flipV="1">
                <a:off x="6413040" y="46285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6423120" y="46288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V="1">
                <a:off x="6433200" y="4623840"/>
                <a:ext cx="432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flipV="1">
                <a:off x="6437880" y="46184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6448320" y="4613400"/>
                <a:ext cx="504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6453360" y="4613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 flipV="1">
                <a:off x="6463800" y="4608000"/>
                <a:ext cx="432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 flipV="1">
                <a:off x="6468480" y="4602600"/>
                <a:ext cx="936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6477840" y="46026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flipV="1">
                <a:off x="6487920" y="459720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flipV="1">
                <a:off x="6493320" y="459252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6503760" y="459252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6508440" y="4592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V="1">
                <a:off x="6518520" y="45871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V="1">
                <a:off x="6528600" y="4582440"/>
                <a:ext cx="540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6534360" y="4582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flipV="1">
                <a:off x="6544440" y="457704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V="1">
                <a:off x="6548760" y="45720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6559200" y="45723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569280" y="4566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6573960" y="4566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584040" y="45612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6589800" y="45612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599880" y="4556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6604560" y="4556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614640" y="45511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6624720" y="45511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6630120" y="4546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6640560" y="454608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645240" y="4541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4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655320" y="45410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889" name=""/>
            <p:cNvGrpSpPr/>
            <p:nvPr/>
          </p:nvGrpSpPr>
          <p:grpSpPr>
            <a:xfrm>
              <a:off x="6665400" y="4358880"/>
              <a:ext cx="1605240" cy="181440"/>
              <a:chOff x="6665400" y="4358880"/>
              <a:chExt cx="1605240" cy="181440"/>
            </a:xfrm>
          </p:grpSpPr>
          <p:sp>
            <p:nvSpPr>
              <p:cNvPr id="3890" name=""/>
              <p:cNvSpPr/>
              <p:nvPr/>
            </p:nvSpPr>
            <p:spPr>
              <a:xfrm>
                <a:off x="6665400" y="45356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6670800" y="45356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680880" y="45356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6685560" y="45306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6695640" y="453060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701040" y="45306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6711480" y="452484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721560" y="45248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726240" y="4524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736320" y="4519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6741000" y="4519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751080" y="4519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6761520" y="45194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V="1">
                <a:off x="6766920" y="45140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V="1">
                <a:off x="6777000" y="4509360"/>
                <a:ext cx="432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781680" y="45093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792120" y="4504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802200" y="45043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807600" y="4504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817680" y="450432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822360" y="4499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6832440" y="449928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6838200" y="4499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6848280" y="4499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6858360" y="4494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863040" y="4494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873120" y="44942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6878520" y="4488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888960" y="44881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899040" y="448812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903720" y="4483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913800" y="44830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919200" y="4483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 flipV="1">
                <a:off x="6929640" y="447768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933960" y="44780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6944400" y="44780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6954480" y="44780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6959160" y="44780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6969240" y="44730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975000" y="44730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985080" y="44730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6995160" y="447300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999840" y="44679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009920" y="44679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015320" y="44679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7025400" y="44679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7035840" y="44679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7040520" y="4462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7050600" y="44629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056000" y="44629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066440" y="44578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070760" y="44578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081200" y="44578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091280" y="445788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096680" y="4452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106760" y="44528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111440" y="4452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121880" y="44467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131960" y="44467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136640" y="44467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146720" y="44467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152120" y="44467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162200" y="44467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172640" y="444672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177320" y="44467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7187400" y="44467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7192800" y="44416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202160" y="444168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206840" y="44416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217280" y="44416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227360" y="444168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232760" y="4436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242840" y="443664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247520" y="44366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257600" y="44366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267680" y="44366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273440" y="44366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283520" y="4431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288200" y="44316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298280" y="443160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303680" y="4431600"/>
                <a:ext cx="936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313040" y="4426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323480" y="44265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32888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338960" y="44265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34364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35372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364160" y="44265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36956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379640" y="44265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38432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39440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404480" y="44215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410240" y="4421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420320" y="442152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425000" y="4421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435080" y="44215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440480" y="4421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450560" y="44161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461000" y="441612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465680" y="44161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475760" y="44161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481160" y="44161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491600" y="44161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501680" y="44114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1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506360" y="4411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516440" y="44114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521120" y="4411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531200" y="44114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536600" y="4411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547040" y="4411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557120" y="44053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561800" y="4405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571880" y="44053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57764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58772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597800" y="440532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60248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612560" y="44053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61796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62804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638480" y="4400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643160" y="4400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653240" y="44002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658640" y="4400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669080" y="440028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673400" y="4400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683480" y="4400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693920" y="440028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698600" y="4400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708680" y="440028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714080" y="4395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72452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734600" y="43952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739280" y="4395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749360" y="43952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12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75476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76484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774920" y="439524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77996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790040" y="43952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795440" y="4389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805520" y="438984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810200" y="4389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820280" y="4389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830720" y="43952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83612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846200" y="43898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850880" y="4389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860960" y="4385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871400" y="4385160"/>
                <a:ext cx="504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876800" y="4385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886880" y="43851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891560" y="4379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901640" y="43797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7906320" y="438516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7916400" y="4389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7926840" y="43898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32240" y="43851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41600" y="43851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946280" y="4379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7956360" y="4379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966800" y="4385160"/>
                <a:ext cx="504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971840" y="4385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982280" y="4385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986960" y="4385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997040" y="4385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8007120" y="43797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8012880" y="4379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8022960" y="4379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8027640" y="4385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8037720" y="43851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8043120" y="4374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053200" y="4374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063280" y="4374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068320" y="4369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8078400" y="436968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8083080" y="43797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8093160" y="4379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8103240" y="43797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8109000" y="4379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8119080" y="43797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8123760" y="436968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8133840" y="436968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8139240" y="4374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8149320" y="4374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8159760" y="43639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38"/>
                    </a:moveTo>
                    <a:lnTo>
                      <a:pt x="0" y="26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8164440" y="43639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8174520" y="4369680"/>
                <a:ext cx="5040" cy="1980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0"/>
                    </a:moveTo>
                    <a:lnTo>
                      <a:pt x="0" y="24"/>
                    </a:lnTo>
                    <a:lnTo>
                      <a:pt x="14" y="36"/>
                    </a:lnTo>
                    <a:lnTo>
                      <a:pt x="14" y="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8179920" y="4385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8190000" y="43639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2" y="26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8200440" y="435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8205120" y="43588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0" y="12"/>
                    </a:lnTo>
                    <a:lnTo>
                      <a:pt x="14" y="26"/>
                    </a:lnTo>
                    <a:lnTo>
                      <a:pt x="26" y="38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8215200" y="437976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8220600" y="436968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8230680" y="4369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8240760" y="43639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8245800" y="43639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4" y="14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8255880" y="437472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8261280" y="4379760"/>
                <a:ext cx="936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sp>
          <p:nvSpPr>
            <p:cNvPr id="4090" name=""/>
            <p:cNvSpPr/>
            <p:nvPr/>
          </p:nvSpPr>
          <p:spPr>
            <a:xfrm>
              <a:off x="8270640" y="4370040"/>
              <a:ext cx="4680" cy="97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12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8275680" y="4370040"/>
              <a:ext cx="10080" cy="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8285760" y="4370040"/>
              <a:ext cx="10080" cy="46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lnTo>
                    <a:pt x="12" y="12"/>
                  </a:lnTo>
                  <a:lnTo>
                    <a:pt x="26" y="1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8296200" y="4370040"/>
              <a:ext cx="5040" cy="46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8301240" y="4364280"/>
              <a:ext cx="10080" cy="57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4"/>
                  </a:moveTo>
                  <a:lnTo>
                    <a:pt x="14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8311320" y="4364280"/>
              <a:ext cx="4680" cy="5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0"/>
                  </a:lnTo>
                  <a:lnTo>
                    <a:pt x="14" y="1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8316360" y="4370040"/>
              <a:ext cx="10080" cy="46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lnTo>
                    <a:pt x="12" y="12"/>
                  </a:lnTo>
                  <a:lnTo>
                    <a:pt x="26" y="1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8326440" y="4354200"/>
              <a:ext cx="10080" cy="2088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50"/>
                  </a:moveTo>
                  <a:lnTo>
                    <a:pt x="12" y="38"/>
                  </a:lnTo>
                  <a:lnTo>
                    <a:pt x="12" y="24"/>
                  </a:lnTo>
                  <a:lnTo>
                    <a:pt x="26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8336880" y="4354200"/>
              <a:ext cx="4680" cy="100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8341920" y="4364280"/>
              <a:ext cx="10080" cy="2592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0" y="0"/>
                  </a:moveTo>
                  <a:lnTo>
                    <a:pt x="0" y="14"/>
                  </a:lnTo>
                  <a:lnTo>
                    <a:pt x="14" y="38"/>
                  </a:lnTo>
                  <a:lnTo>
                    <a:pt x="26" y="50"/>
                  </a:lnTo>
                  <a:lnTo>
                    <a:pt x="26" y="6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8352000" y="4380120"/>
              <a:ext cx="5040" cy="10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24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8357040" y="4354200"/>
              <a:ext cx="10080" cy="2592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0" y="62"/>
                  </a:moveTo>
                  <a:lnTo>
                    <a:pt x="12" y="24"/>
                  </a:lnTo>
                  <a:lnTo>
                    <a:pt x="12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8367120" y="4354200"/>
              <a:ext cx="10080" cy="72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2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8377560" y="4354200"/>
              <a:ext cx="4680" cy="100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382600" y="4364280"/>
              <a:ext cx="10080" cy="72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4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392680" y="4364280"/>
              <a:ext cx="4680" cy="108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0"/>
                  </a:moveTo>
                  <a:lnTo>
                    <a:pt x="0" y="14"/>
                  </a:lnTo>
                  <a:lnTo>
                    <a:pt x="14" y="2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97720" y="4364280"/>
              <a:ext cx="10080" cy="10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26"/>
                  </a:moveTo>
                  <a:lnTo>
                    <a:pt x="12" y="14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407800" y="4364280"/>
              <a:ext cx="5040" cy="108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0"/>
                  </a:moveTo>
                  <a:lnTo>
                    <a:pt x="0" y="14"/>
                  </a:lnTo>
                  <a:lnTo>
                    <a:pt x="12" y="2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412840" y="4375080"/>
              <a:ext cx="10080" cy="4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8423280" y="4380120"/>
              <a:ext cx="10080" cy="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8433360" y="4370040"/>
              <a:ext cx="4680" cy="97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12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8438400" y="4370040"/>
              <a:ext cx="10080" cy="46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lnTo>
                    <a:pt x="12" y="0"/>
                  </a:lnTo>
                  <a:lnTo>
                    <a:pt x="26" y="1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8448480" y="4364280"/>
              <a:ext cx="4680" cy="108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lnTo>
                    <a:pt x="0" y="14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8453520" y="4364280"/>
              <a:ext cx="10080" cy="72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4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8463600" y="4348800"/>
              <a:ext cx="10080" cy="1512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0" y="36"/>
                  </a:moveTo>
                  <a:lnTo>
                    <a:pt x="12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8473680" y="4348800"/>
              <a:ext cx="3960" cy="72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8478000" y="4348800"/>
              <a:ext cx="10080" cy="3096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0" y="0"/>
                  </a:moveTo>
                  <a:lnTo>
                    <a:pt x="0" y="12"/>
                  </a:lnTo>
                  <a:lnTo>
                    <a:pt x="14" y="36"/>
                  </a:lnTo>
                  <a:lnTo>
                    <a:pt x="25" y="62"/>
                  </a:lnTo>
                  <a:lnTo>
                    <a:pt x="25" y="7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8488080" y="4370040"/>
              <a:ext cx="5760" cy="97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24"/>
                  </a:lnTo>
                  <a:lnTo>
                    <a:pt x="0" y="12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8494200" y="4358880"/>
              <a:ext cx="10080" cy="10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26"/>
                  </a:moveTo>
                  <a:lnTo>
                    <a:pt x="12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8504280" y="4358880"/>
              <a:ext cx="3960" cy="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8508600" y="4358880"/>
              <a:ext cx="10080" cy="72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4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8518680" y="4358880"/>
              <a:ext cx="10080" cy="2088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lnTo>
                    <a:pt x="14" y="12"/>
                  </a:lnTo>
                  <a:lnTo>
                    <a:pt x="14" y="26"/>
                  </a:lnTo>
                  <a:lnTo>
                    <a:pt x="26" y="38"/>
                  </a:lnTo>
                  <a:lnTo>
                    <a:pt x="26" y="5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8529120" y="4370040"/>
              <a:ext cx="5760" cy="97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12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8534880" y="4358880"/>
              <a:ext cx="10080" cy="10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26"/>
                  </a:moveTo>
                  <a:lnTo>
                    <a:pt x="12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8544960" y="4358880"/>
              <a:ext cx="3960" cy="72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8549280" y="4312440"/>
              <a:ext cx="10080" cy="46440"/>
            </a:xfrm>
            <a:custGeom>
              <a:avLst/>
              <a:gdLst/>
              <a:ahLst/>
              <a:rect l="l" t="t" r="r" b="b"/>
              <a:pathLst>
                <a:path w="26" h="110">
                  <a:moveTo>
                    <a:pt x="0" y="110"/>
                  </a:moveTo>
                  <a:lnTo>
                    <a:pt x="0" y="86"/>
                  </a:lnTo>
                  <a:lnTo>
                    <a:pt x="14" y="6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4943160" y="4121280"/>
              <a:ext cx="54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Reflectance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730760" y="63802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730760" y="6161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730760" y="59436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730760" y="5720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730760" y="55072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730760" y="5284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730760" y="50688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730760" y="48502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730760" y="46292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730760" y="44118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730760" y="4194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.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862880" y="6525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2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262840" y="6525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667840" y="6525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7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03828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0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43680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2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84288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5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24464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7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64676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804672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22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845100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25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384960" y="6688440"/>
              <a:ext cx="79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wavelength in nm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8826840" y="425304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75,S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8826840" y="437508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60,S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8826840" y="450216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45,S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8826840" y="462564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30,S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8901000" y="4746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826840" y="487368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30,P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8826840" y="499428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45,P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8826840" y="512136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60,P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8826840" y="524664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75,P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8" name=""/>
            <p:cNvSpPr/>
            <p:nvPr/>
          </p:nvSpPr>
          <p:spPr>
            <a:xfrm flipH="1" flipV="1">
              <a:off x="8610120" y="4597560"/>
              <a:ext cx="197280" cy="4644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569800" y="4587840"/>
              <a:ext cx="66600" cy="30960"/>
            </a:xfrm>
            <a:custGeom>
              <a:avLst/>
              <a:gdLst/>
              <a:ahLst/>
              <a:rect l="l" t="t" r="r" b="b"/>
              <a:pathLst>
                <a:path w="170" h="74">
                  <a:moveTo>
                    <a:pt x="0" y="0"/>
                  </a:moveTo>
                  <a:lnTo>
                    <a:pt x="144" y="74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0" name=""/>
            <p:cNvSpPr/>
            <p:nvPr/>
          </p:nvSpPr>
          <p:spPr>
            <a:xfrm flipH="1">
              <a:off x="8610120" y="4536000"/>
              <a:ext cx="207360" cy="46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8569800" y="4530960"/>
              <a:ext cx="60840" cy="25200"/>
            </a:xfrm>
            <a:custGeom>
              <a:avLst/>
              <a:gdLst/>
              <a:ahLst/>
              <a:rect l="l" t="t" r="r" b="b"/>
              <a:pathLst>
                <a:path w="156" h="60">
                  <a:moveTo>
                    <a:pt x="0" y="36"/>
                  </a:moveTo>
                  <a:lnTo>
                    <a:pt x="156" y="60"/>
                  </a:lnTo>
                  <a:lnTo>
                    <a:pt x="156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2" name=""/>
            <p:cNvSpPr/>
            <p:nvPr/>
          </p:nvSpPr>
          <p:spPr>
            <a:xfrm flipH="1">
              <a:off x="8589960" y="4437000"/>
              <a:ext cx="217440" cy="676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8555400" y="4483440"/>
              <a:ext cx="60840" cy="3132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74"/>
                  </a:moveTo>
                  <a:lnTo>
                    <a:pt x="156" y="74"/>
                  </a:lnTo>
                  <a:lnTo>
                    <a:pt x="142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H="1">
              <a:off x="8585640" y="4317480"/>
              <a:ext cx="216720" cy="262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8544960" y="4328640"/>
              <a:ext cx="64800" cy="25200"/>
            </a:xfrm>
            <a:custGeom>
              <a:avLst/>
              <a:gdLst/>
              <a:ahLst/>
              <a:rect l="l" t="t" r="r" b="b"/>
              <a:pathLst>
                <a:path w="168" h="60">
                  <a:moveTo>
                    <a:pt x="0" y="48"/>
                  </a:moveTo>
                  <a:lnTo>
                    <a:pt x="168" y="60"/>
                  </a:lnTo>
                  <a:lnTo>
                    <a:pt x="156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6" name=""/>
            <p:cNvSpPr/>
            <p:nvPr/>
          </p:nvSpPr>
          <p:spPr>
            <a:xfrm flipH="1" flipV="1">
              <a:off x="8599680" y="4644000"/>
              <a:ext cx="258120" cy="1090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8565120" y="4634280"/>
              <a:ext cx="60840" cy="36360"/>
            </a:xfrm>
            <a:custGeom>
              <a:avLst/>
              <a:gdLst/>
              <a:ahLst/>
              <a:rect l="l" t="t" r="r" b="b"/>
              <a:pathLst>
                <a:path w="156" h="85">
                  <a:moveTo>
                    <a:pt x="0" y="0"/>
                  </a:moveTo>
                  <a:lnTo>
                    <a:pt x="130" y="85"/>
                  </a:lnTo>
                  <a:lnTo>
                    <a:pt x="15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8" name=""/>
            <p:cNvSpPr/>
            <p:nvPr/>
          </p:nvSpPr>
          <p:spPr>
            <a:xfrm flipH="1" flipV="1">
              <a:off x="8595720" y="4706640"/>
              <a:ext cx="221760" cy="14364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8559360" y="4685760"/>
              <a:ext cx="60840" cy="46440"/>
            </a:xfrm>
            <a:custGeom>
              <a:avLst/>
              <a:gdLst/>
              <a:ahLst/>
              <a:rect l="l" t="t" r="r" b="b"/>
              <a:pathLst>
                <a:path w="156" h="110">
                  <a:moveTo>
                    <a:pt x="0" y="0"/>
                  </a:moveTo>
                  <a:lnTo>
                    <a:pt x="118" y="110"/>
                  </a:lnTo>
                  <a:lnTo>
                    <a:pt x="156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0" name=""/>
            <p:cNvSpPr/>
            <p:nvPr/>
          </p:nvSpPr>
          <p:spPr>
            <a:xfrm flipH="1" flipV="1">
              <a:off x="8595720" y="4794120"/>
              <a:ext cx="211680" cy="1918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8565120" y="4768200"/>
              <a:ext cx="55080" cy="52560"/>
            </a:xfrm>
            <a:custGeom>
              <a:avLst/>
              <a:gdLst/>
              <a:ahLst/>
              <a:rect l="l" t="t" r="r" b="b"/>
              <a:pathLst>
                <a:path w="142" h="124">
                  <a:moveTo>
                    <a:pt x="0" y="0"/>
                  </a:moveTo>
                  <a:lnTo>
                    <a:pt x="90" y="124"/>
                  </a:lnTo>
                  <a:lnTo>
                    <a:pt x="142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2" name=""/>
            <p:cNvSpPr/>
            <p:nvPr/>
          </p:nvSpPr>
          <p:spPr>
            <a:xfrm flipH="1" flipV="1">
              <a:off x="8600040" y="4924080"/>
              <a:ext cx="207360" cy="15552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8569800" y="4898520"/>
              <a:ext cx="60840" cy="51480"/>
            </a:xfrm>
            <a:custGeom>
              <a:avLst/>
              <a:gdLst/>
              <a:ahLst/>
              <a:rect l="l" t="t" r="r" b="b"/>
              <a:pathLst>
                <a:path w="156" h="122">
                  <a:moveTo>
                    <a:pt x="0" y="0"/>
                  </a:moveTo>
                  <a:lnTo>
                    <a:pt x="104" y="122"/>
                  </a:lnTo>
                  <a:lnTo>
                    <a:pt x="156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4" name=""/>
            <p:cNvSpPr/>
            <p:nvPr/>
          </p:nvSpPr>
          <p:spPr>
            <a:xfrm flipH="1" flipV="1">
              <a:off x="8609760" y="5126040"/>
              <a:ext cx="181800" cy="8280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8575560" y="5116320"/>
              <a:ext cx="60840" cy="3600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0" y="0"/>
                  </a:moveTo>
                  <a:lnTo>
                    <a:pt x="130" y="86"/>
                  </a:lnTo>
                  <a:lnTo>
                    <a:pt x="15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"/>
          <p:cNvSpPr/>
          <p:nvPr/>
        </p:nvSpPr>
        <p:spPr>
          <a:xfrm>
            <a:off x="651960" y="216000"/>
            <a:ext cx="78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torized directional reflectance / transmittance analyser</a:t>
            </a:r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221" name="" descr=""/>
          <p:cNvPicPr/>
          <p:nvPr/>
        </p:nvPicPr>
        <p:blipFill>
          <a:blip r:embed="rId1"/>
          <a:stretch/>
        </p:blipFill>
        <p:spPr>
          <a:xfrm>
            <a:off x="1973160" y="673200"/>
            <a:ext cx="5380200" cy="2560680"/>
          </a:xfrm>
          <a:prstGeom prst="rect">
            <a:avLst/>
          </a:prstGeom>
          <a:ln w="0">
            <a:noFill/>
          </a:ln>
        </p:spPr>
      </p:pic>
      <p:pic>
        <p:nvPicPr>
          <p:cNvPr id="4222" name="" descr=""/>
          <p:cNvPicPr/>
          <p:nvPr/>
        </p:nvPicPr>
        <p:blipFill>
          <a:blip r:embed="rId2"/>
          <a:stretch/>
        </p:blipFill>
        <p:spPr>
          <a:xfrm>
            <a:off x="4884840" y="3444840"/>
            <a:ext cx="3520800" cy="2644920"/>
          </a:xfrm>
          <a:prstGeom prst="rect">
            <a:avLst/>
          </a:prstGeom>
          <a:ln w="0">
            <a:noFill/>
          </a:ln>
        </p:spPr>
      </p:pic>
      <p:pic>
        <p:nvPicPr>
          <p:cNvPr id="4223" name="" descr=""/>
          <p:cNvPicPr/>
          <p:nvPr/>
        </p:nvPicPr>
        <p:blipFill>
          <a:blip r:embed="rId3"/>
          <a:stretch/>
        </p:blipFill>
        <p:spPr>
          <a:xfrm>
            <a:off x="811080" y="3467160"/>
            <a:ext cx="3559320" cy="261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E3C-BC69-460B-A6C4-21A2EF735B73}" type="slidenum">
              <a:t>1</a:t>
            </a:fld>
          </a:p>
        </p:txBody>
      </p:sp>
    </p:spTree>
  </p:cSld>
  <p:transition advTm="6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"/>
          <p:cNvSpPr/>
          <p:nvPr/>
        </p:nvSpPr>
        <p:spPr>
          <a:xfrm>
            <a:off x="965160" y="378000"/>
            <a:ext cx="72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Angular resolved scattering measurements on diffuse samples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(example : 2mm window glass, one side sandblasted)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578" name="" descr=""/>
          <p:cNvPicPr/>
          <p:nvPr/>
        </p:nvPicPr>
        <p:blipFill>
          <a:blip r:embed="rId1"/>
          <a:stretch/>
        </p:blipFill>
        <p:spPr>
          <a:xfrm>
            <a:off x="114480" y="1230480"/>
            <a:ext cx="8915400" cy="5010120"/>
          </a:xfrm>
          <a:prstGeom prst="rect">
            <a:avLst/>
          </a:prstGeom>
          <a:ln w="0">
            <a:noFill/>
          </a:ln>
        </p:spPr>
      </p:pic>
      <p:sp>
        <p:nvSpPr>
          <p:cNvPr id="4579" name=""/>
          <p:cNvSpPr/>
          <p:nvPr/>
        </p:nvSpPr>
        <p:spPr>
          <a:xfrm>
            <a:off x="1140120" y="1766880"/>
            <a:ext cx="1029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50 nm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80" name=""/>
          <p:cNvSpPr/>
          <p:nvPr/>
        </p:nvSpPr>
        <p:spPr>
          <a:xfrm>
            <a:off x="768240" y="11984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grpSp>
        <p:nvGrpSpPr>
          <p:cNvPr id="4581" name=""/>
          <p:cNvGrpSpPr/>
          <p:nvPr/>
        </p:nvGrpSpPr>
        <p:grpSpPr>
          <a:xfrm>
            <a:off x="4029120" y="3832200"/>
            <a:ext cx="1625400" cy="1558800"/>
            <a:chOff x="4029120" y="3832200"/>
            <a:chExt cx="1625400" cy="1558800"/>
          </a:xfrm>
        </p:grpSpPr>
        <p:sp>
          <p:nvSpPr>
            <p:cNvPr id="4582" name=""/>
            <p:cNvSpPr/>
            <p:nvPr/>
          </p:nvSpPr>
          <p:spPr>
            <a:xfrm>
              <a:off x="4029120" y="3832200"/>
              <a:ext cx="1625400" cy="155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583" name=""/>
            <p:cNvSpPr/>
            <p:nvPr/>
          </p:nvSpPr>
          <p:spPr>
            <a:xfrm rot="1770600">
              <a:off x="4817880" y="4145760"/>
              <a:ext cx="117720" cy="942120"/>
            </a:xfrm>
            <a:prstGeom prst="rect">
              <a:avLst/>
            </a:prstGeom>
            <a:solidFill>
              <a:srgbClr val="98b5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154400" y="4601520"/>
              <a:ext cx="67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grpSp>
          <p:nvGrpSpPr>
            <p:cNvPr id="4585" name=""/>
            <p:cNvGrpSpPr/>
            <p:nvPr/>
          </p:nvGrpSpPr>
          <p:grpSpPr>
            <a:xfrm>
              <a:off x="4297320" y="3939120"/>
              <a:ext cx="1221840" cy="1329120"/>
              <a:chOff x="4297320" y="3939120"/>
              <a:chExt cx="1221840" cy="1329120"/>
            </a:xfrm>
          </p:grpSpPr>
          <p:grpSp>
            <p:nvGrpSpPr>
              <p:cNvPr id="4586" name=""/>
              <p:cNvGrpSpPr/>
              <p:nvPr/>
            </p:nvGrpSpPr>
            <p:grpSpPr>
              <a:xfrm>
                <a:off x="4330080" y="3939120"/>
                <a:ext cx="1189080" cy="684720"/>
                <a:chOff x="4330080" y="3939120"/>
                <a:chExt cx="1189080" cy="684720"/>
              </a:xfrm>
            </p:grpSpPr>
            <p:grpSp>
              <p:nvGrpSpPr>
                <p:cNvPr id="4587" name=""/>
                <p:cNvGrpSpPr/>
                <p:nvPr/>
              </p:nvGrpSpPr>
              <p:grpSpPr>
                <a:xfrm>
                  <a:off x="4860720" y="4010760"/>
                  <a:ext cx="658440" cy="609840"/>
                  <a:chOff x="4860720" y="4010760"/>
                  <a:chExt cx="658440" cy="609840"/>
                </a:xfrm>
              </p:grpSpPr>
              <p:sp>
                <p:nvSpPr>
                  <p:cNvPr id="4588" name=""/>
                  <p:cNvSpPr/>
                  <p:nvPr/>
                </p:nvSpPr>
                <p:spPr>
                  <a:xfrm flipV="1">
                    <a:off x="4860720" y="4491360"/>
                    <a:ext cx="658440" cy="12924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 flipV="1">
                    <a:off x="4869720" y="4204080"/>
                    <a:ext cx="534240" cy="40572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0" name=""/>
                  <p:cNvSpPr/>
                  <p:nvPr/>
                </p:nvSpPr>
                <p:spPr>
                  <a:xfrm flipV="1">
                    <a:off x="4869720" y="4010760"/>
                    <a:ext cx="303480" cy="59832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</p:grpSp>
            <p:grpSp>
              <p:nvGrpSpPr>
                <p:cNvPr id="4591" name=""/>
                <p:cNvGrpSpPr/>
                <p:nvPr/>
              </p:nvGrpSpPr>
              <p:grpSpPr>
                <a:xfrm>
                  <a:off x="4330080" y="3939120"/>
                  <a:ext cx="550080" cy="684720"/>
                  <a:chOff x="4330080" y="3939120"/>
                  <a:chExt cx="550080" cy="684720"/>
                </a:xfrm>
              </p:grpSpPr>
              <p:sp>
                <p:nvSpPr>
                  <p:cNvPr id="4592" name=""/>
                  <p:cNvSpPr/>
                  <p:nvPr/>
                </p:nvSpPr>
                <p:spPr>
                  <a:xfrm flipH="1" flipV="1">
                    <a:off x="4330080" y="4239360"/>
                    <a:ext cx="550080" cy="38448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 flipH="1" flipV="1">
                    <a:off x="4551480" y="4023360"/>
                    <a:ext cx="324720" cy="58716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 flipH="1" flipV="1">
                    <a:off x="4840920" y="3939120"/>
                    <a:ext cx="35640" cy="67032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</p:grpSp>
          </p:grpSp>
          <p:grpSp>
            <p:nvGrpSpPr>
              <p:cNvPr id="4595" name=""/>
              <p:cNvGrpSpPr/>
              <p:nvPr/>
            </p:nvGrpSpPr>
            <p:grpSpPr>
              <a:xfrm>
                <a:off x="4297320" y="4592520"/>
                <a:ext cx="1209960" cy="675720"/>
                <a:chOff x="4297320" y="4592520"/>
                <a:chExt cx="1209960" cy="675720"/>
              </a:xfrm>
            </p:grpSpPr>
            <p:grpSp>
              <p:nvGrpSpPr>
                <p:cNvPr id="4596" name=""/>
                <p:cNvGrpSpPr/>
                <p:nvPr/>
              </p:nvGrpSpPr>
              <p:grpSpPr>
                <a:xfrm>
                  <a:off x="4868280" y="4593600"/>
                  <a:ext cx="639000" cy="642600"/>
                  <a:chOff x="4868280" y="4593600"/>
                  <a:chExt cx="639000" cy="642600"/>
                </a:xfrm>
              </p:grpSpPr>
              <p:sp>
                <p:nvSpPr>
                  <p:cNvPr id="4597" name=""/>
                  <p:cNvSpPr/>
                  <p:nvPr/>
                </p:nvSpPr>
                <p:spPr>
                  <a:xfrm>
                    <a:off x="4868280" y="4593600"/>
                    <a:ext cx="639000" cy="20484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>
                    <a:off x="4875840" y="4605480"/>
                    <a:ext cx="484200" cy="46476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9" name=""/>
                  <p:cNvSpPr/>
                  <p:nvPr/>
                </p:nvSpPr>
                <p:spPr>
                  <a:xfrm>
                    <a:off x="4875840" y="4606560"/>
                    <a:ext cx="232560" cy="62964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</p:grpSp>
            <p:grpSp>
              <p:nvGrpSpPr>
                <p:cNvPr id="4600" name=""/>
                <p:cNvGrpSpPr/>
                <p:nvPr/>
              </p:nvGrpSpPr>
              <p:grpSpPr>
                <a:xfrm>
                  <a:off x="4297320" y="4592520"/>
                  <a:ext cx="591120" cy="675720"/>
                  <a:chOff x="4297320" y="4592520"/>
                  <a:chExt cx="591120" cy="675720"/>
                </a:xfrm>
              </p:grpSpPr>
              <p:sp>
                <p:nvSpPr>
                  <p:cNvPr id="4601" name=""/>
                  <p:cNvSpPr/>
                  <p:nvPr/>
                </p:nvSpPr>
                <p:spPr>
                  <a:xfrm flipH="1">
                    <a:off x="4297320" y="4592520"/>
                    <a:ext cx="591120" cy="31860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 flipH="1">
                    <a:off x="4492440" y="4605480"/>
                    <a:ext cx="390600" cy="54576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603" name=""/>
                  <p:cNvSpPr/>
                  <p:nvPr/>
                </p:nvSpPr>
                <p:spPr>
                  <a:xfrm flipH="1">
                    <a:off x="4770360" y="4606560"/>
                    <a:ext cx="113040" cy="66168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E8C-E524-4098-B1DD-712CED942FBC}" type="slidenum">
              <a:t>10</a:t>
            </a:fld>
          </a:p>
        </p:txBody>
      </p:sp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4" name="" descr=""/>
          <p:cNvPicPr/>
          <p:nvPr/>
        </p:nvPicPr>
        <p:blipFill>
          <a:blip r:embed="rId1"/>
          <a:stretch/>
        </p:blipFill>
        <p:spPr>
          <a:xfrm>
            <a:off x="544680" y="1146240"/>
            <a:ext cx="5317920" cy="5121360"/>
          </a:xfrm>
          <a:prstGeom prst="rect">
            <a:avLst/>
          </a:prstGeom>
          <a:ln w="0">
            <a:noFill/>
          </a:ln>
        </p:spPr>
      </p:pic>
      <p:pic>
        <p:nvPicPr>
          <p:cNvPr id="4605" name="" descr=""/>
          <p:cNvPicPr/>
          <p:nvPr/>
        </p:nvPicPr>
        <p:blipFill>
          <a:blip r:embed="rId2"/>
          <a:stretch/>
        </p:blipFill>
        <p:spPr>
          <a:xfrm>
            <a:off x="4944960" y="1419120"/>
            <a:ext cx="3902040" cy="2621160"/>
          </a:xfrm>
          <a:prstGeom prst="rect">
            <a:avLst/>
          </a:prstGeom>
          <a:ln w="28440">
            <a:solidFill>
              <a:srgbClr val="ff6932"/>
            </a:solidFill>
            <a:miter/>
          </a:ln>
        </p:spPr>
      </p:pic>
      <p:sp>
        <p:nvSpPr>
          <p:cNvPr id="4606" name=""/>
          <p:cNvSpPr/>
          <p:nvPr/>
        </p:nvSpPr>
        <p:spPr>
          <a:xfrm>
            <a:off x="919080" y="444600"/>
            <a:ext cx="73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The entrance port of the integrating sphere detector is equipped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with a variable slit to set a well defined acceptance angle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07" name=""/>
          <p:cNvSpPr/>
          <p:nvPr/>
        </p:nvSpPr>
        <p:spPr>
          <a:xfrm>
            <a:off x="5740560" y="1943280"/>
            <a:ext cx="0" cy="371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08" name=""/>
          <p:cNvSpPr/>
          <p:nvPr/>
        </p:nvSpPr>
        <p:spPr>
          <a:xfrm>
            <a:off x="7854840" y="2147760"/>
            <a:ext cx="0" cy="371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09" name=""/>
          <p:cNvSpPr/>
          <p:nvPr/>
        </p:nvSpPr>
        <p:spPr>
          <a:xfrm>
            <a:off x="5876280" y="22906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lit adjustment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0" name=""/>
          <p:cNvSpPr/>
          <p:nvPr/>
        </p:nvSpPr>
        <p:spPr>
          <a:xfrm>
            <a:off x="6762600" y="3295800"/>
            <a:ext cx="0" cy="3711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1" name=""/>
          <p:cNvSpPr/>
          <p:nvPr/>
        </p:nvSpPr>
        <p:spPr>
          <a:xfrm>
            <a:off x="5865120" y="3654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ance port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325-C280-428A-B828-40000C114295}" type="slidenum">
              <a:t>11</a:t>
            </a:fld>
          </a:p>
        </p:txBody>
      </p:sp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"/>
          <p:cNvSpPr/>
          <p:nvPr/>
        </p:nvSpPr>
        <p:spPr>
          <a:xfrm>
            <a:off x="2664000" y="193680"/>
            <a:ext cx="6419520" cy="91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3" name=""/>
          <p:cNvSpPr/>
          <p:nvPr/>
        </p:nvSpPr>
        <p:spPr>
          <a:xfrm>
            <a:off x="71280" y="1111320"/>
            <a:ext cx="2594160" cy="304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4" name=""/>
          <p:cNvSpPr/>
          <p:nvPr/>
        </p:nvSpPr>
        <p:spPr>
          <a:xfrm>
            <a:off x="2664000" y="1111320"/>
            <a:ext cx="6419520" cy="304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5" name=""/>
          <p:cNvSpPr/>
          <p:nvPr/>
        </p:nvSpPr>
        <p:spPr>
          <a:xfrm>
            <a:off x="71280" y="4456080"/>
            <a:ext cx="2594160" cy="1301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6" name=""/>
          <p:cNvSpPr/>
          <p:nvPr/>
        </p:nvSpPr>
        <p:spPr>
          <a:xfrm>
            <a:off x="2664000" y="4456080"/>
            <a:ext cx="6419520" cy="130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7" name=""/>
          <p:cNvSpPr/>
          <p:nvPr/>
        </p:nvSpPr>
        <p:spPr>
          <a:xfrm>
            <a:off x="747720" y="1251000"/>
            <a:ext cx="136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E Part number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8" name=""/>
          <p:cNvSpPr/>
          <p:nvPr/>
        </p:nvSpPr>
        <p:spPr>
          <a:xfrm>
            <a:off x="2984400" y="125100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RA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9" name=""/>
          <p:cNvSpPr/>
          <p:nvPr/>
        </p:nvSpPr>
        <p:spPr>
          <a:xfrm>
            <a:off x="3930840" y="1138320"/>
            <a:ext cx="131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utomated R/T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0" name=""/>
          <p:cNvSpPr/>
          <p:nvPr/>
        </p:nvSpPr>
        <p:spPr>
          <a:xfrm>
            <a:off x="4060440" y="1363680"/>
            <a:ext cx="100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r  2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1" name=""/>
          <p:cNvSpPr/>
          <p:nvPr/>
        </p:nvSpPr>
        <p:spPr>
          <a:xfrm>
            <a:off x="5558400" y="125100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6310201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2" name=""/>
          <p:cNvSpPr/>
          <p:nvPr/>
        </p:nvSpPr>
        <p:spPr>
          <a:xfrm>
            <a:off x="6596280" y="1138320"/>
            <a:ext cx="113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6310201 or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3" name=""/>
          <p:cNvSpPr/>
          <p:nvPr/>
        </p:nvSpPr>
        <p:spPr>
          <a:xfrm>
            <a:off x="6598440" y="1363680"/>
            <a:ext cx="90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6310205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4" name=""/>
          <p:cNvSpPr/>
          <p:nvPr/>
        </p:nvSpPr>
        <p:spPr>
          <a:xfrm>
            <a:off x="7471440" y="13636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5" name=""/>
          <p:cNvSpPr/>
          <p:nvPr/>
        </p:nvSpPr>
        <p:spPr>
          <a:xfrm>
            <a:off x="7762680" y="1138320"/>
            <a:ext cx="129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V Reflectance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6" name=""/>
          <p:cNvSpPr/>
          <p:nvPr/>
        </p:nvSpPr>
        <p:spPr>
          <a:xfrm>
            <a:off x="7852320" y="1363680"/>
            <a:ext cx="119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ccessory   2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7" name=""/>
          <p:cNvSpPr/>
          <p:nvPr/>
        </p:nvSpPr>
        <p:spPr>
          <a:xfrm>
            <a:off x="449640" y="1660680"/>
            <a:ext cx="196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bsolute measurement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8" name=""/>
          <p:cNvSpPr/>
          <p:nvPr/>
        </p:nvSpPr>
        <p:spPr>
          <a:xfrm>
            <a:off x="3126240" y="16606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9" name=""/>
          <p:cNvSpPr/>
          <p:nvPr/>
        </p:nvSpPr>
        <p:spPr>
          <a:xfrm>
            <a:off x="4494600" y="16606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0" name=""/>
          <p:cNvSpPr/>
          <p:nvPr/>
        </p:nvSpPr>
        <p:spPr>
          <a:xfrm>
            <a:off x="5944320" y="16606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1" name=""/>
          <p:cNvSpPr/>
          <p:nvPr/>
        </p:nvSpPr>
        <p:spPr>
          <a:xfrm>
            <a:off x="7067880" y="16606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2" name=""/>
          <p:cNvSpPr/>
          <p:nvPr/>
        </p:nvSpPr>
        <p:spPr>
          <a:xfrm>
            <a:off x="8380800" y="16606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3" name=""/>
          <p:cNvSpPr/>
          <p:nvPr/>
        </p:nvSpPr>
        <p:spPr>
          <a:xfrm>
            <a:off x="451080" y="1986120"/>
            <a:ext cx="19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rectional Reflectance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4" name=""/>
          <p:cNvSpPr/>
          <p:nvPr/>
        </p:nvSpPr>
        <p:spPr>
          <a:xfrm>
            <a:off x="312624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5" name=""/>
          <p:cNvSpPr/>
          <p:nvPr/>
        </p:nvSpPr>
        <p:spPr>
          <a:xfrm>
            <a:off x="449460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6" name=""/>
          <p:cNvSpPr/>
          <p:nvPr/>
        </p:nvSpPr>
        <p:spPr>
          <a:xfrm>
            <a:off x="592020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7" name=""/>
          <p:cNvSpPr/>
          <p:nvPr/>
        </p:nvSpPr>
        <p:spPr>
          <a:xfrm>
            <a:off x="706788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8" name=""/>
          <p:cNvSpPr/>
          <p:nvPr/>
        </p:nvSpPr>
        <p:spPr>
          <a:xfrm>
            <a:off x="838080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9" name=""/>
          <p:cNvSpPr/>
          <p:nvPr/>
        </p:nvSpPr>
        <p:spPr>
          <a:xfrm>
            <a:off x="383400" y="2301840"/>
            <a:ext cx="21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rectional transmittance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0" name=""/>
          <p:cNvSpPr/>
          <p:nvPr/>
        </p:nvSpPr>
        <p:spPr>
          <a:xfrm>
            <a:off x="3150360" y="23018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1" name=""/>
          <p:cNvSpPr/>
          <p:nvPr/>
        </p:nvSpPr>
        <p:spPr>
          <a:xfrm>
            <a:off x="4494600" y="230184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2" name=""/>
          <p:cNvSpPr/>
          <p:nvPr/>
        </p:nvSpPr>
        <p:spPr>
          <a:xfrm>
            <a:off x="5920200" y="230184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3" name=""/>
          <p:cNvSpPr/>
          <p:nvPr/>
        </p:nvSpPr>
        <p:spPr>
          <a:xfrm>
            <a:off x="7092360" y="23018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4" name=""/>
          <p:cNvSpPr/>
          <p:nvPr/>
        </p:nvSpPr>
        <p:spPr>
          <a:xfrm>
            <a:off x="8405280" y="23018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5" name=""/>
          <p:cNvSpPr/>
          <p:nvPr/>
        </p:nvSpPr>
        <p:spPr>
          <a:xfrm>
            <a:off x="784080" y="2639880"/>
            <a:ext cx="111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RDF/BTDF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6" name=""/>
          <p:cNvSpPr/>
          <p:nvPr/>
        </p:nvSpPr>
        <p:spPr>
          <a:xfrm>
            <a:off x="1872360" y="26398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7" name=""/>
          <p:cNvSpPr/>
          <p:nvPr/>
        </p:nvSpPr>
        <p:spPr>
          <a:xfrm>
            <a:off x="3150360" y="26398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8" name=""/>
          <p:cNvSpPr/>
          <p:nvPr/>
        </p:nvSpPr>
        <p:spPr>
          <a:xfrm>
            <a:off x="4494600" y="26398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9" name=""/>
          <p:cNvSpPr/>
          <p:nvPr/>
        </p:nvSpPr>
        <p:spPr>
          <a:xfrm>
            <a:off x="5944320" y="26398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0" name=""/>
          <p:cNvSpPr/>
          <p:nvPr/>
        </p:nvSpPr>
        <p:spPr>
          <a:xfrm>
            <a:off x="7092360" y="26398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1" name=""/>
          <p:cNvSpPr/>
          <p:nvPr/>
        </p:nvSpPr>
        <p:spPr>
          <a:xfrm>
            <a:off x="8405280" y="26398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2" name=""/>
          <p:cNvSpPr/>
          <p:nvPr/>
        </p:nvSpPr>
        <p:spPr>
          <a:xfrm>
            <a:off x="658080" y="3287880"/>
            <a:ext cx="15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gle of incidence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3" name=""/>
          <p:cNvSpPr/>
          <p:nvPr/>
        </p:nvSpPr>
        <p:spPr>
          <a:xfrm>
            <a:off x="2875320" y="3286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4" name=""/>
          <p:cNvSpPr/>
          <p:nvPr/>
        </p:nvSpPr>
        <p:spPr>
          <a:xfrm>
            <a:off x="2980800" y="3265560"/>
            <a:ext cx="14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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5" name=""/>
          <p:cNvSpPr/>
          <p:nvPr/>
        </p:nvSpPr>
        <p:spPr>
          <a:xfrm>
            <a:off x="3093480" y="32860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 68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6" name=""/>
          <p:cNvSpPr/>
          <p:nvPr/>
        </p:nvSpPr>
        <p:spPr>
          <a:xfrm>
            <a:off x="3440880" y="32655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7" name=""/>
          <p:cNvSpPr/>
          <p:nvPr/>
        </p:nvSpPr>
        <p:spPr>
          <a:xfrm>
            <a:off x="3996360" y="3062160"/>
            <a:ext cx="163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°-85° (T)          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8" name=""/>
          <p:cNvSpPr/>
          <p:nvPr/>
        </p:nvSpPr>
        <p:spPr>
          <a:xfrm>
            <a:off x="4012920" y="3287880"/>
            <a:ext cx="186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.5°-85° (R)               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9" name=""/>
          <p:cNvSpPr/>
          <p:nvPr/>
        </p:nvSpPr>
        <p:spPr>
          <a:xfrm>
            <a:off x="3741480" y="3511440"/>
            <a:ext cx="165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° - 355° (ARS) 1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0" name=""/>
          <p:cNvSpPr/>
          <p:nvPr/>
        </p:nvSpPr>
        <p:spPr>
          <a:xfrm>
            <a:off x="5514840" y="3174840"/>
            <a:ext cx="104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°-80° (T) 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1" name=""/>
          <p:cNvSpPr/>
          <p:nvPr/>
        </p:nvSpPr>
        <p:spPr>
          <a:xfrm>
            <a:off x="5504400" y="3398760"/>
            <a:ext cx="96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°-75° (R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2" name=""/>
          <p:cNvSpPr/>
          <p:nvPr/>
        </p:nvSpPr>
        <p:spPr>
          <a:xfrm>
            <a:off x="6808320" y="3287880"/>
            <a:ext cx="64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° - 75°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3" name=""/>
          <p:cNvSpPr/>
          <p:nvPr/>
        </p:nvSpPr>
        <p:spPr>
          <a:xfrm>
            <a:off x="8083440" y="3287880"/>
            <a:ext cx="64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° - 80°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4" name=""/>
          <p:cNvSpPr/>
          <p:nvPr/>
        </p:nvSpPr>
        <p:spPr>
          <a:xfrm>
            <a:off x="1039320" y="3903840"/>
            <a:ext cx="76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5" name=""/>
          <p:cNvSpPr/>
          <p:nvPr/>
        </p:nvSpPr>
        <p:spPr>
          <a:xfrm>
            <a:off x="3126240" y="390384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6" name=""/>
          <p:cNvSpPr/>
          <p:nvPr/>
        </p:nvSpPr>
        <p:spPr>
          <a:xfrm>
            <a:off x="4439880" y="390384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7" name=""/>
          <p:cNvSpPr/>
          <p:nvPr/>
        </p:nvSpPr>
        <p:spPr>
          <a:xfrm>
            <a:off x="5810400" y="3903840"/>
            <a:ext cx="33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8" name=""/>
          <p:cNvSpPr/>
          <p:nvPr/>
        </p:nvSpPr>
        <p:spPr>
          <a:xfrm>
            <a:off x="7013160" y="390384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9" name=""/>
          <p:cNvSpPr/>
          <p:nvPr/>
        </p:nvSpPr>
        <p:spPr>
          <a:xfrm>
            <a:off x="8271000" y="3903840"/>
            <a:ext cx="33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0" name=""/>
          <p:cNvSpPr/>
          <p:nvPr/>
        </p:nvSpPr>
        <p:spPr>
          <a:xfrm>
            <a:off x="384120" y="4511520"/>
            <a:ext cx="21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reflectance samples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1" name=""/>
          <p:cNvSpPr/>
          <p:nvPr/>
        </p:nvSpPr>
        <p:spPr>
          <a:xfrm>
            <a:off x="3126240" y="45115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2" name=""/>
          <p:cNvSpPr/>
          <p:nvPr/>
        </p:nvSpPr>
        <p:spPr>
          <a:xfrm>
            <a:off x="4494600" y="45115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3" name=""/>
          <p:cNvSpPr/>
          <p:nvPr/>
        </p:nvSpPr>
        <p:spPr>
          <a:xfrm>
            <a:off x="5944320" y="45115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4" name=""/>
          <p:cNvSpPr/>
          <p:nvPr/>
        </p:nvSpPr>
        <p:spPr>
          <a:xfrm>
            <a:off x="7092360" y="45115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5" name=""/>
          <p:cNvSpPr/>
          <p:nvPr/>
        </p:nvSpPr>
        <p:spPr>
          <a:xfrm>
            <a:off x="8405280" y="45115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6" name=""/>
          <p:cNvSpPr/>
          <p:nvPr/>
        </p:nvSpPr>
        <p:spPr>
          <a:xfrm>
            <a:off x="861480" y="4816440"/>
            <a:ext cx="113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er mirrors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7" name=""/>
          <p:cNvSpPr/>
          <p:nvPr/>
        </p:nvSpPr>
        <p:spPr>
          <a:xfrm>
            <a:off x="3150360" y="48164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8" name=""/>
          <p:cNvSpPr/>
          <p:nvPr/>
        </p:nvSpPr>
        <p:spPr>
          <a:xfrm>
            <a:off x="4519080" y="48164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9" name=""/>
          <p:cNvSpPr/>
          <p:nvPr/>
        </p:nvSpPr>
        <p:spPr>
          <a:xfrm>
            <a:off x="5944320" y="48164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0" name=""/>
          <p:cNvSpPr/>
          <p:nvPr/>
        </p:nvSpPr>
        <p:spPr>
          <a:xfrm>
            <a:off x="7067880" y="481644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1" name=""/>
          <p:cNvSpPr/>
          <p:nvPr/>
        </p:nvSpPr>
        <p:spPr>
          <a:xfrm>
            <a:off x="8326080" y="481644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2" name=""/>
          <p:cNvSpPr/>
          <p:nvPr/>
        </p:nvSpPr>
        <p:spPr>
          <a:xfrm>
            <a:off x="748800" y="5135400"/>
            <a:ext cx="136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ating analysis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3" name=""/>
          <p:cNvSpPr/>
          <p:nvPr/>
        </p:nvSpPr>
        <p:spPr>
          <a:xfrm>
            <a:off x="3126240" y="513540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4" name=""/>
          <p:cNvSpPr/>
          <p:nvPr/>
        </p:nvSpPr>
        <p:spPr>
          <a:xfrm>
            <a:off x="4439880" y="513540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5" name=""/>
          <p:cNvSpPr/>
          <p:nvPr/>
        </p:nvSpPr>
        <p:spPr>
          <a:xfrm>
            <a:off x="5865480" y="513540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6" name=""/>
          <p:cNvSpPr/>
          <p:nvPr/>
        </p:nvSpPr>
        <p:spPr>
          <a:xfrm>
            <a:off x="7067880" y="513540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7" name=""/>
          <p:cNvSpPr/>
          <p:nvPr/>
        </p:nvSpPr>
        <p:spPr>
          <a:xfrm>
            <a:off x="8380800" y="513540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8" name=""/>
          <p:cNvSpPr/>
          <p:nvPr/>
        </p:nvSpPr>
        <p:spPr>
          <a:xfrm>
            <a:off x="289440" y="5481720"/>
            <a:ext cx="230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gular resolved scattering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9" name=""/>
          <p:cNvSpPr/>
          <p:nvPr/>
        </p:nvSpPr>
        <p:spPr>
          <a:xfrm>
            <a:off x="315036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0" name=""/>
          <p:cNvSpPr/>
          <p:nvPr/>
        </p:nvSpPr>
        <p:spPr>
          <a:xfrm>
            <a:off x="4494600" y="54817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1" name=""/>
          <p:cNvSpPr/>
          <p:nvPr/>
        </p:nvSpPr>
        <p:spPr>
          <a:xfrm>
            <a:off x="594432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2" name=""/>
          <p:cNvSpPr/>
          <p:nvPr/>
        </p:nvSpPr>
        <p:spPr>
          <a:xfrm>
            <a:off x="709236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3" name=""/>
          <p:cNvSpPr/>
          <p:nvPr/>
        </p:nvSpPr>
        <p:spPr>
          <a:xfrm>
            <a:off x="840528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4" name=""/>
          <p:cNvSpPr/>
          <p:nvPr/>
        </p:nvSpPr>
        <p:spPr>
          <a:xfrm>
            <a:off x="3602160" y="203040"/>
            <a:ext cx="144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5" name=""/>
          <p:cNvSpPr/>
          <p:nvPr/>
        </p:nvSpPr>
        <p:spPr>
          <a:xfrm>
            <a:off x="3602160" y="203040"/>
            <a:ext cx="936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6" name=""/>
          <p:cNvSpPr/>
          <p:nvPr/>
        </p:nvSpPr>
        <p:spPr>
          <a:xfrm>
            <a:off x="5397480" y="203040"/>
            <a:ext cx="144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7" name=""/>
          <p:cNvSpPr/>
          <p:nvPr/>
        </p:nvSpPr>
        <p:spPr>
          <a:xfrm>
            <a:off x="5397480" y="203040"/>
            <a:ext cx="972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8" name=""/>
          <p:cNvSpPr/>
          <p:nvPr/>
        </p:nvSpPr>
        <p:spPr>
          <a:xfrm>
            <a:off x="6451560" y="203040"/>
            <a:ext cx="180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9" name=""/>
          <p:cNvSpPr/>
          <p:nvPr/>
        </p:nvSpPr>
        <p:spPr>
          <a:xfrm>
            <a:off x="6451560" y="203040"/>
            <a:ext cx="1116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0" name=""/>
          <p:cNvSpPr/>
          <p:nvPr/>
        </p:nvSpPr>
        <p:spPr>
          <a:xfrm>
            <a:off x="7693200" y="203040"/>
            <a:ext cx="144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1" name=""/>
          <p:cNvSpPr/>
          <p:nvPr/>
        </p:nvSpPr>
        <p:spPr>
          <a:xfrm>
            <a:off x="7693200" y="203040"/>
            <a:ext cx="936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2" name=""/>
          <p:cNvSpPr/>
          <p:nvPr/>
        </p:nvSpPr>
        <p:spPr>
          <a:xfrm>
            <a:off x="9077400" y="203040"/>
            <a:ext cx="144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3" name=""/>
          <p:cNvSpPr/>
          <p:nvPr/>
        </p:nvSpPr>
        <p:spPr>
          <a:xfrm>
            <a:off x="9077400" y="203040"/>
            <a:ext cx="936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4" name=""/>
          <p:cNvSpPr/>
          <p:nvPr/>
        </p:nvSpPr>
        <p:spPr>
          <a:xfrm>
            <a:off x="81000" y="158760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5" name=""/>
          <p:cNvSpPr/>
          <p:nvPr/>
        </p:nvSpPr>
        <p:spPr>
          <a:xfrm>
            <a:off x="81000" y="1587600"/>
            <a:ext cx="2573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6" name=""/>
          <p:cNvSpPr/>
          <p:nvPr/>
        </p:nvSpPr>
        <p:spPr>
          <a:xfrm>
            <a:off x="81000" y="192564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7" name=""/>
          <p:cNvSpPr/>
          <p:nvPr/>
        </p:nvSpPr>
        <p:spPr>
          <a:xfrm>
            <a:off x="81000" y="1925640"/>
            <a:ext cx="2573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8" name=""/>
          <p:cNvSpPr/>
          <p:nvPr/>
        </p:nvSpPr>
        <p:spPr>
          <a:xfrm>
            <a:off x="81000" y="224172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9" name=""/>
          <p:cNvSpPr/>
          <p:nvPr/>
        </p:nvSpPr>
        <p:spPr>
          <a:xfrm>
            <a:off x="81000" y="2241720"/>
            <a:ext cx="2573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0" name=""/>
          <p:cNvSpPr/>
          <p:nvPr/>
        </p:nvSpPr>
        <p:spPr>
          <a:xfrm>
            <a:off x="81000" y="255744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1" name=""/>
          <p:cNvSpPr/>
          <p:nvPr/>
        </p:nvSpPr>
        <p:spPr>
          <a:xfrm>
            <a:off x="81000" y="255744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2" name=""/>
          <p:cNvSpPr/>
          <p:nvPr/>
        </p:nvSpPr>
        <p:spPr>
          <a:xfrm>
            <a:off x="81000" y="291780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3" name=""/>
          <p:cNvSpPr/>
          <p:nvPr/>
        </p:nvSpPr>
        <p:spPr>
          <a:xfrm>
            <a:off x="81000" y="291780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4" name=""/>
          <p:cNvSpPr/>
          <p:nvPr/>
        </p:nvSpPr>
        <p:spPr>
          <a:xfrm>
            <a:off x="81000" y="384984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5" name=""/>
          <p:cNvSpPr/>
          <p:nvPr/>
        </p:nvSpPr>
        <p:spPr>
          <a:xfrm>
            <a:off x="81000" y="3849840"/>
            <a:ext cx="25732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6" name=""/>
          <p:cNvSpPr/>
          <p:nvPr/>
        </p:nvSpPr>
        <p:spPr>
          <a:xfrm>
            <a:off x="2654280" y="184320"/>
            <a:ext cx="20520" cy="39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7" name=""/>
          <p:cNvSpPr/>
          <p:nvPr/>
        </p:nvSpPr>
        <p:spPr>
          <a:xfrm>
            <a:off x="3602160" y="1122480"/>
            <a:ext cx="144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8" name=""/>
          <p:cNvSpPr/>
          <p:nvPr/>
        </p:nvSpPr>
        <p:spPr>
          <a:xfrm>
            <a:off x="3602160" y="1122480"/>
            <a:ext cx="936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9" name=""/>
          <p:cNvSpPr/>
          <p:nvPr/>
        </p:nvSpPr>
        <p:spPr>
          <a:xfrm>
            <a:off x="5397480" y="1122480"/>
            <a:ext cx="144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0" name=""/>
          <p:cNvSpPr/>
          <p:nvPr/>
        </p:nvSpPr>
        <p:spPr>
          <a:xfrm>
            <a:off x="5397480" y="1122480"/>
            <a:ext cx="972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1" name=""/>
          <p:cNvSpPr/>
          <p:nvPr/>
        </p:nvSpPr>
        <p:spPr>
          <a:xfrm>
            <a:off x="6451560" y="1122480"/>
            <a:ext cx="180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2" name=""/>
          <p:cNvSpPr/>
          <p:nvPr/>
        </p:nvSpPr>
        <p:spPr>
          <a:xfrm>
            <a:off x="6451560" y="1122480"/>
            <a:ext cx="1116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3" name=""/>
          <p:cNvSpPr/>
          <p:nvPr/>
        </p:nvSpPr>
        <p:spPr>
          <a:xfrm>
            <a:off x="7693200" y="1122480"/>
            <a:ext cx="144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4" name=""/>
          <p:cNvSpPr/>
          <p:nvPr/>
        </p:nvSpPr>
        <p:spPr>
          <a:xfrm>
            <a:off x="7693200" y="1122480"/>
            <a:ext cx="936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5" name=""/>
          <p:cNvSpPr/>
          <p:nvPr/>
        </p:nvSpPr>
        <p:spPr>
          <a:xfrm>
            <a:off x="9077400" y="1122480"/>
            <a:ext cx="144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6" name=""/>
          <p:cNvSpPr/>
          <p:nvPr/>
        </p:nvSpPr>
        <p:spPr>
          <a:xfrm>
            <a:off x="9077400" y="1122480"/>
            <a:ext cx="936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7" name=""/>
          <p:cNvSpPr/>
          <p:nvPr/>
        </p:nvSpPr>
        <p:spPr>
          <a:xfrm>
            <a:off x="81000" y="4767120"/>
            <a:ext cx="2573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8" name=""/>
          <p:cNvSpPr/>
          <p:nvPr/>
        </p:nvSpPr>
        <p:spPr>
          <a:xfrm>
            <a:off x="81000" y="476712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9" name=""/>
          <p:cNvSpPr/>
          <p:nvPr/>
        </p:nvSpPr>
        <p:spPr>
          <a:xfrm>
            <a:off x="81000" y="5060880"/>
            <a:ext cx="2573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0" name=""/>
          <p:cNvSpPr/>
          <p:nvPr/>
        </p:nvSpPr>
        <p:spPr>
          <a:xfrm>
            <a:off x="81000" y="506088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1" name=""/>
          <p:cNvSpPr/>
          <p:nvPr/>
        </p:nvSpPr>
        <p:spPr>
          <a:xfrm>
            <a:off x="81000" y="5405400"/>
            <a:ext cx="2573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2" name=""/>
          <p:cNvSpPr/>
          <p:nvPr/>
        </p:nvSpPr>
        <p:spPr>
          <a:xfrm>
            <a:off x="81000" y="540540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3" name=""/>
          <p:cNvSpPr/>
          <p:nvPr/>
        </p:nvSpPr>
        <p:spPr>
          <a:xfrm>
            <a:off x="2654280" y="4467240"/>
            <a:ext cx="20520" cy="12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4" name=""/>
          <p:cNvSpPr/>
          <p:nvPr/>
        </p:nvSpPr>
        <p:spPr>
          <a:xfrm>
            <a:off x="3602160" y="4467240"/>
            <a:ext cx="144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5" name=""/>
          <p:cNvSpPr/>
          <p:nvPr/>
        </p:nvSpPr>
        <p:spPr>
          <a:xfrm>
            <a:off x="3602160" y="4467240"/>
            <a:ext cx="936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6" name=""/>
          <p:cNvSpPr/>
          <p:nvPr/>
        </p:nvSpPr>
        <p:spPr>
          <a:xfrm>
            <a:off x="5397480" y="4467240"/>
            <a:ext cx="144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7" name=""/>
          <p:cNvSpPr/>
          <p:nvPr/>
        </p:nvSpPr>
        <p:spPr>
          <a:xfrm>
            <a:off x="5397480" y="4467240"/>
            <a:ext cx="972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8" name=""/>
          <p:cNvSpPr/>
          <p:nvPr/>
        </p:nvSpPr>
        <p:spPr>
          <a:xfrm>
            <a:off x="6451560" y="4467240"/>
            <a:ext cx="180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9" name=""/>
          <p:cNvSpPr/>
          <p:nvPr/>
        </p:nvSpPr>
        <p:spPr>
          <a:xfrm>
            <a:off x="6451560" y="4467240"/>
            <a:ext cx="1116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0" name=""/>
          <p:cNvSpPr/>
          <p:nvPr/>
        </p:nvSpPr>
        <p:spPr>
          <a:xfrm>
            <a:off x="7693200" y="4467240"/>
            <a:ext cx="144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1" name=""/>
          <p:cNvSpPr/>
          <p:nvPr/>
        </p:nvSpPr>
        <p:spPr>
          <a:xfrm>
            <a:off x="7693200" y="4467240"/>
            <a:ext cx="936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2" name=""/>
          <p:cNvSpPr/>
          <p:nvPr/>
        </p:nvSpPr>
        <p:spPr>
          <a:xfrm>
            <a:off x="9077400" y="4467240"/>
            <a:ext cx="144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3" name=""/>
          <p:cNvSpPr/>
          <p:nvPr/>
        </p:nvSpPr>
        <p:spPr>
          <a:xfrm>
            <a:off x="9077400" y="4467240"/>
            <a:ext cx="936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4" name=""/>
          <p:cNvSpPr/>
          <p:nvPr/>
        </p:nvSpPr>
        <p:spPr>
          <a:xfrm>
            <a:off x="61920" y="1101600"/>
            <a:ext cx="19080" cy="466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5" name=""/>
          <p:cNvSpPr/>
          <p:nvPr/>
        </p:nvSpPr>
        <p:spPr>
          <a:xfrm>
            <a:off x="2674800" y="184320"/>
            <a:ext cx="64119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6" name=""/>
          <p:cNvSpPr/>
          <p:nvPr/>
        </p:nvSpPr>
        <p:spPr>
          <a:xfrm>
            <a:off x="81000" y="1101600"/>
            <a:ext cx="900576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7" name=""/>
          <p:cNvSpPr/>
          <p:nvPr/>
        </p:nvSpPr>
        <p:spPr>
          <a:xfrm>
            <a:off x="2674800" y="158760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8" name=""/>
          <p:cNvSpPr/>
          <p:nvPr/>
        </p:nvSpPr>
        <p:spPr>
          <a:xfrm>
            <a:off x="2674800" y="1587600"/>
            <a:ext cx="6411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9" name=""/>
          <p:cNvSpPr/>
          <p:nvPr/>
        </p:nvSpPr>
        <p:spPr>
          <a:xfrm>
            <a:off x="2674800" y="192564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0" name=""/>
          <p:cNvSpPr/>
          <p:nvPr/>
        </p:nvSpPr>
        <p:spPr>
          <a:xfrm>
            <a:off x="2674800" y="1925640"/>
            <a:ext cx="6411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1" name=""/>
          <p:cNvSpPr/>
          <p:nvPr/>
        </p:nvSpPr>
        <p:spPr>
          <a:xfrm>
            <a:off x="2674800" y="224172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2" name=""/>
          <p:cNvSpPr/>
          <p:nvPr/>
        </p:nvSpPr>
        <p:spPr>
          <a:xfrm>
            <a:off x="2674800" y="2241720"/>
            <a:ext cx="6411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3" name=""/>
          <p:cNvSpPr/>
          <p:nvPr/>
        </p:nvSpPr>
        <p:spPr>
          <a:xfrm>
            <a:off x="2674800" y="255744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4" name=""/>
          <p:cNvSpPr/>
          <p:nvPr/>
        </p:nvSpPr>
        <p:spPr>
          <a:xfrm>
            <a:off x="2674800" y="255744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5" name=""/>
          <p:cNvSpPr/>
          <p:nvPr/>
        </p:nvSpPr>
        <p:spPr>
          <a:xfrm>
            <a:off x="2674800" y="291780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6" name=""/>
          <p:cNvSpPr/>
          <p:nvPr/>
        </p:nvSpPr>
        <p:spPr>
          <a:xfrm>
            <a:off x="2674800" y="291780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7" name=""/>
          <p:cNvSpPr/>
          <p:nvPr/>
        </p:nvSpPr>
        <p:spPr>
          <a:xfrm>
            <a:off x="2674800" y="384984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8" name=""/>
          <p:cNvSpPr/>
          <p:nvPr/>
        </p:nvSpPr>
        <p:spPr>
          <a:xfrm>
            <a:off x="2674800" y="3849840"/>
            <a:ext cx="6411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9" name=""/>
          <p:cNvSpPr/>
          <p:nvPr/>
        </p:nvSpPr>
        <p:spPr>
          <a:xfrm>
            <a:off x="81000" y="4146480"/>
            <a:ext cx="90057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0" name=""/>
          <p:cNvSpPr/>
          <p:nvPr/>
        </p:nvSpPr>
        <p:spPr>
          <a:xfrm>
            <a:off x="81000" y="4446720"/>
            <a:ext cx="90057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1" name=""/>
          <p:cNvSpPr/>
          <p:nvPr/>
        </p:nvSpPr>
        <p:spPr>
          <a:xfrm>
            <a:off x="2674800" y="4767120"/>
            <a:ext cx="641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2" name=""/>
          <p:cNvSpPr/>
          <p:nvPr/>
        </p:nvSpPr>
        <p:spPr>
          <a:xfrm>
            <a:off x="2674800" y="476712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3" name=""/>
          <p:cNvSpPr/>
          <p:nvPr/>
        </p:nvSpPr>
        <p:spPr>
          <a:xfrm>
            <a:off x="2674800" y="5060880"/>
            <a:ext cx="641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4" name=""/>
          <p:cNvSpPr/>
          <p:nvPr/>
        </p:nvSpPr>
        <p:spPr>
          <a:xfrm>
            <a:off x="2674800" y="506088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5" name=""/>
          <p:cNvSpPr/>
          <p:nvPr/>
        </p:nvSpPr>
        <p:spPr>
          <a:xfrm>
            <a:off x="2674800" y="5405400"/>
            <a:ext cx="641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6" name=""/>
          <p:cNvSpPr/>
          <p:nvPr/>
        </p:nvSpPr>
        <p:spPr>
          <a:xfrm>
            <a:off x="2674800" y="540540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7" name=""/>
          <p:cNvSpPr/>
          <p:nvPr/>
        </p:nvSpPr>
        <p:spPr>
          <a:xfrm>
            <a:off x="81000" y="5746680"/>
            <a:ext cx="90057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graphicFrame>
        <p:nvGraphicFramePr>
          <p:cNvPr id="4768" name=""/>
          <p:cNvGraphicFramePr/>
          <p:nvPr/>
        </p:nvGraphicFramePr>
        <p:xfrm>
          <a:off x="2665440" y="5781600"/>
          <a:ext cx="4056120" cy="58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5781600"/>
                    <a:ext cx="40561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0" name=""/>
          <p:cNvSpPr/>
          <p:nvPr/>
        </p:nvSpPr>
        <p:spPr>
          <a:xfrm>
            <a:off x="393480" y="35892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71" name=""/>
          <p:cNvSpPr/>
          <p:nvPr/>
        </p:nvSpPr>
        <p:spPr>
          <a:xfrm>
            <a:off x="631080" y="41274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72" name=""/>
          <p:cNvSpPr/>
          <p:nvPr/>
        </p:nvSpPr>
        <p:spPr>
          <a:xfrm>
            <a:off x="5786280" y="448776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773" name="" descr=""/>
          <p:cNvPicPr/>
          <p:nvPr/>
        </p:nvPicPr>
        <p:blipFill>
          <a:blip r:embed="rId3"/>
          <a:stretch/>
        </p:blipFill>
        <p:spPr>
          <a:xfrm>
            <a:off x="2682720" y="237960"/>
            <a:ext cx="876600" cy="838440"/>
          </a:xfrm>
          <a:prstGeom prst="rect">
            <a:avLst/>
          </a:prstGeom>
          <a:ln w="0">
            <a:noFill/>
          </a:ln>
        </p:spPr>
      </p:pic>
      <p:pic>
        <p:nvPicPr>
          <p:cNvPr id="4774" name="" descr=""/>
          <p:cNvPicPr/>
          <p:nvPr/>
        </p:nvPicPr>
        <p:blipFill>
          <a:blip r:embed="rId4"/>
          <a:stretch/>
        </p:blipFill>
        <p:spPr>
          <a:xfrm>
            <a:off x="3638520" y="249120"/>
            <a:ext cx="1730520" cy="822600"/>
          </a:xfrm>
          <a:prstGeom prst="rect">
            <a:avLst/>
          </a:prstGeom>
          <a:ln w="0">
            <a:noFill/>
          </a:ln>
        </p:spPr>
      </p:pic>
      <p:pic>
        <p:nvPicPr>
          <p:cNvPr id="4775" name="" descr=""/>
          <p:cNvPicPr/>
          <p:nvPr/>
        </p:nvPicPr>
        <p:blipFill>
          <a:blip r:embed="rId5"/>
          <a:stretch/>
        </p:blipFill>
        <p:spPr>
          <a:xfrm>
            <a:off x="5446800" y="258840"/>
            <a:ext cx="968400" cy="815760"/>
          </a:xfrm>
          <a:prstGeom prst="rect">
            <a:avLst/>
          </a:prstGeom>
          <a:ln w="0">
            <a:noFill/>
          </a:ln>
        </p:spPr>
      </p:pic>
      <p:pic>
        <p:nvPicPr>
          <p:cNvPr id="4776" name="" descr=""/>
          <p:cNvPicPr/>
          <p:nvPr/>
        </p:nvPicPr>
        <p:blipFill>
          <a:blip r:embed="rId6"/>
          <a:stretch/>
        </p:blipFill>
        <p:spPr>
          <a:xfrm>
            <a:off x="6711840" y="2365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4777" name="" descr=""/>
          <p:cNvPicPr/>
          <p:nvPr/>
        </p:nvPicPr>
        <p:blipFill>
          <a:blip r:embed="rId7"/>
          <a:stretch/>
        </p:blipFill>
        <p:spPr>
          <a:xfrm>
            <a:off x="7978680" y="255600"/>
            <a:ext cx="770040" cy="77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77D-9513-441F-BB8C-34F8ACF1D6AB}" type="slidenum">
              <a:t>12</a:t>
            </a:fld>
          </a:p>
        </p:txBody>
      </p:sp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"/>
          <p:cNvSpPr/>
          <p:nvPr/>
        </p:nvSpPr>
        <p:spPr>
          <a:xfrm>
            <a:off x="205740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5" name=""/>
          <p:cNvSpPr/>
          <p:nvPr/>
        </p:nvSpPr>
        <p:spPr>
          <a:xfrm>
            <a:off x="2598840" y="5351400"/>
            <a:ext cx="184284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8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1450440" y="5573880"/>
            <a:ext cx="1148040" cy="0"/>
          </a:xfrm>
          <a:prstGeom prst="line">
            <a:avLst/>
          </a:prstGeom>
          <a:ln w="38160">
            <a:solidFill>
              <a:srgbClr val="ffff8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4441320" y="5573880"/>
            <a:ext cx="662040" cy="0"/>
          </a:xfrm>
          <a:prstGeom prst="line">
            <a:avLst/>
          </a:prstGeom>
          <a:ln w="38160">
            <a:solidFill>
              <a:srgbClr val="ffff8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8" name=""/>
          <p:cNvSpPr/>
          <p:nvPr/>
        </p:nvSpPr>
        <p:spPr>
          <a:xfrm>
            <a:off x="1459080" y="4813200"/>
            <a:ext cx="9360" cy="757440"/>
          </a:xfrm>
          <a:prstGeom prst="line">
            <a:avLst/>
          </a:prstGeom>
          <a:ln w="38160">
            <a:solidFill>
              <a:srgbClr val="ffff8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9" name=""/>
          <p:cNvSpPr/>
          <p:nvPr/>
        </p:nvSpPr>
        <p:spPr>
          <a:xfrm>
            <a:off x="2810160" y="4992840"/>
            <a:ext cx="1370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intermediat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30" name=""/>
          <p:cNvSpPr/>
          <p:nvPr/>
        </p:nvSpPr>
        <p:spPr>
          <a:xfrm>
            <a:off x="2633400" y="5421240"/>
            <a:ext cx="180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AC_trigger.ex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31" name=""/>
          <p:cNvSpPr/>
          <p:nvPr/>
        </p:nvSpPr>
        <p:spPr>
          <a:xfrm>
            <a:off x="1832760" y="6464160"/>
            <a:ext cx="5287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otorized Accessory Controller interface -  MAC200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232" name="" descr=""/>
          <p:cNvPicPr/>
          <p:nvPr/>
        </p:nvPicPr>
        <p:blipFill>
          <a:blip r:embed="rId2"/>
          <a:stretch/>
        </p:blipFill>
        <p:spPr>
          <a:xfrm>
            <a:off x="271440" y="241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233" name="" descr=""/>
          <p:cNvPicPr/>
          <p:nvPr/>
        </p:nvPicPr>
        <p:blipFill>
          <a:blip r:embed="rId3"/>
          <a:stretch/>
        </p:blipFill>
        <p:spPr>
          <a:xfrm>
            <a:off x="5103720" y="2583000"/>
            <a:ext cx="3794040" cy="343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8F5-2872-4C52-8797-3E246EB90C7C}" type="slidenum">
              <a:t>2</a:t>
            </a:fld>
          </a:p>
        </p:txBody>
      </p:sp>
    </p:spTree>
  </p:cSld>
  <p:transition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831960" y="279360"/>
            <a:ext cx="754992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f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35" name="PlaceHolder 2"/>
          <p:cNvSpPr>
            <a:spLocks noGrp="1"/>
          </p:cNvSpPr>
          <p:nvPr>
            <p:ph/>
          </p:nvPr>
        </p:nvSpPr>
        <p:spPr>
          <a:xfrm>
            <a:off x="663120" y="1022400"/>
            <a:ext cx="80391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lute measurement of reflectance and transmittance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DF/BTDF measurements (angular resolved scattering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y automated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 detection of secondary beams coming from the back of the sample and inter-reflections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uble beam advantage (reproducability &lt; 0.05%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urate (&lt; 0.2% in UV/Vis range, &lt; 0.4% in NIR range up to 2000nm and 0.6% between 2000 nm and 2500 nm)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certainty in the angular settings &lt; 0.023 degrees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stable sample spot size ( 2 – 10 mm 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ident beam angle +/- 180 degrees adjustable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ion angle adjustable in the range 15 – 345 degrees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sation degree adjustable between P and S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length range 250 nm – 2,500 nm (with larger integration times &lt; 280 nm and &gt; 2000 nm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615-AD9D-4DB7-BBF0-7C8ED4003528}" type="slidenum">
              <a:t>3</a:t>
            </a:fld>
          </a:p>
        </p:txBody>
      </p:sp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831960" y="577800"/>
            <a:ext cx="754992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f"/>
                </a:solidFill>
                <a:latin typeface="Arial"/>
              </a:rPr>
              <a:t>Main applications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701640" y="1573200"/>
            <a:ext cx="796608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bsolute measurement of directional reflectance and transmittance of specular samples</a:t>
            </a: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-339480">
              <a:lnSpc>
                <a:spcPct val="120000"/>
              </a:lnSpc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tical characterisation of coatings e.g. coating thickness, optical constants of individual layers in multi-layer coatings</a:t>
            </a: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-339480">
              <a:lnSpc>
                <a:spcPct val="120000"/>
              </a:lnSpc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asurement of color shift as function of the angle of incidence</a:t>
            </a: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-339480">
              <a:lnSpc>
                <a:spcPct val="120000"/>
              </a:lnSpc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RDF (Bidirectional Reflectance diffuse function) measurements (Angula resolved scattering) on diffuse samples (also BTDF capability)</a:t>
            </a: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B4B-B71E-4CE9-B191-2D54FECB9B92}" type="slidenum">
              <a:t>4</a:t>
            </a:fld>
          </a:p>
        </p:txBody>
      </p:sp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8" name="" descr=""/>
          <p:cNvPicPr/>
          <p:nvPr/>
        </p:nvPicPr>
        <p:blipFill>
          <a:blip r:embed="rId1"/>
          <a:srcRect l="2188" t="-728" r="2188" b="-728"/>
          <a:stretch/>
        </p:blipFill>
        <p:spPr>
          <a:xfrm>
            <a:off x="95400" y="115920"/>
            <a:ext cx="8934480" cy="6265800"/>
          </a:xfrm>
          <a:prstGeom prst="rect">
            <a:avLst/>
          </a:prstGeom>
          <a:ln w="0">
            <a:noFill/>
          </a:ln>
        </p:spPr>
      </p:pic>
      <p:sp>
        <p:nvSpPr>
          <p:cNvPr id="4239" name=""/>
          <p:cNvSpPr/>
          <p:nvPr/>
        </p:nvSpPr>
        <p:spPr>
          <a:xfrm>
            <a:off x="1472400" y="6442200"/>
            <a:ext cx="62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"/>
              </a:rPr>
              <a:t>substrate / 62.2 nm TiO2 / 12.6 nm Cr / 42.3 nm TiO2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0" name=""/>
          <p:cNvSpPr/>
          <p:nvPr/>
        </p:nvSpPr>
        <p:spPr>
          <a:xfrm>
            <a:off x="171360" y="133200"/>
            <a:ext cx="8744040" cy="2028960"/>
          </a:xfrm>
          <a:prstGeom prst="rect">
            <a:avLst/>
          </a:prstGeom>
          <a:noFill/>
          <a:ln w="28440">
            <a:solidFill>
              <a:srgbClr val="c2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1" name=""/>
          <p:cNvSpPr/>
          <p:nvPr/>
        </p:nvSpPr>
        <p:spPr>
          <a:xfrm>
            <a:off x="171360" y="2200320"/>
            <a:ext cx="8744040" cy="2028960"/>
          </a:xfrm>
          <a:prstGeom prst="rect">
            <a:avLst/>
          </a:prstGeom>
          <a:noFill/>
          <a:ln w="28440">
            <a:solidFill>
              <a:srgbClr val="c2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2" name=""/>
          <p:cNvSpPr/>
          <p:nvPr/>
        </p:nvSpPr>
        <p:spPr>
          <a:xfrm>
            <a:off x="171360" y="4267080"/>
            <a:ext cx="8744040" cy="2057400"/>
          </a:xfrm>
          <a:prstGeom prst="rect">
            <a:avLst/>
          </a:prstGeom>
          <a:noFill/>
          <a:ln w="28440">
            <a:solidFill>
              <a:srgbClr val="c2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3" name=""/>
          <p:cNvSpPr/>
          <p:nvPr/>
        </p:nvSpPr>
        <p:spPr>
          <a:xfrm>
            <a:off x="1820520" y="1349280"/>
            <a:ext cx="16041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TNO Oranda Wide"/>
              </a:rPr>
              <a:t>transmittanc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4" name=""/>
          <p:cNvSpPr/>
          <p:nvPr/>
        </p:nvSpPr>
        <p:spPr>
          <a:xfrm>
            <a:off x="1529280" y="3359160"/>
            <a:ext cx="187092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TNO Oranda Wide"/>
              </a:rPr>
              <a:t>front reflectanc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5" name=""/>
          <p:cNvSpPr/>
          <p:nvPr/>
        </p:nvSpPr>
        <p:spPr>
          <a:xfrm>
            <a:off x="1418040" y="4844880"/>
            <a:ext cx="183744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TNO Oranda Wide"/>
              </a:rPr>
              <a:t>back reflectanc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246" name="" descr=""/>
          <p:cNvPicPr/>
          <p:nvPr/>
        </p:nvPicPr>
        <p:blipFill>
          <a:blip r:embed="rId2"/>
          <a:stretch/>
        </p:blipFill>
        <p:spPr>
          <a:xfrm>
            <a:off x="3906720" y="947880"/>
            <a:ext cx="2513160" cy="78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756-9707-4D02-8501-793463DE891C}" type="slidenum">
              <a:t>5</a:t>
            </a:fld>
          </a:p>
        </p:txBody>
      </p:sp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"/>
          <p:cNvSpPr/>
          <p:nvPr/>
        </p:nvSpPr>
        <p:spPr>
          <a:xfrm>
            <a:off x="85680" y="752400"/>
            <a:ext cx="9020160" cy="551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2570040" y="923760"/>
            <a:ext cx="3927600" cy="2012760"/>
            <a:chOff x="2570040" y="923760"/>
            <a:chExt cx="3927600" cy="2012760"/>
          </a:xfrm>
        </p:grpSpPr>
        <p:sp>
          <p:nvSpPr>
            <p:cNvPr id="4249" name=""/>
            <p:cNvSpPr/>
            <p:nvPr/>
          </p:nvSpPr>
          <p:spPr>
            <a:xfrm>
              <a:off x="2657520" y="1638000"/>
              <a:ext cx="3743280" cy="459000"/>
            </a:xfrm>
            <a:prstGeom prst="rect">
              <a:avLst/>
            </a:prstGeom>
            <a:solidFill>
              <a:srgbClr val="ffff8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2819520" y="923760"/>
              <a:ext cx="3429000" cy="583920"/>
            </a:xfrm>
            <a:prstGeom prst="rect">
              <a:avLst/>
            </a:prstGeom>
            <a:solidFill>
              <a:srgbClr val="ffff8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2752560" y="1343160"/>
              <a:ext cx="3543480" cy="2944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776400" y="1725840"/>
              <a:ext cx="14896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d0f85"/>
                  </a:solidFill>
                  <a:latin typeface="Arial"/>
                </a:rPr>
                <a:t>63.3 nm TiO2</a:t>
              </a:r>
              <a:endParaRPr b="0" lang="en-US" sz="17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757320" y="991800"/>
              <a:ext cx="14896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d0f85"/>
                  </a:solidFill>
                  <a:latin typeface="Arial"/>
                </a:rPr>
                <a:t>42.3 nm TiO2</a:t>
              </a:r>
              <a:endParaRPr b="0" lang="en-US" sz="17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879000" y="1350000"/>
              <a:ext cx="12492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d0f85"/>
                  </a:solidFill>
                  <a:latin typeface="Arial"/>
                </a:rPr>
                <a:t>12.6 nm Cr</a:t>
              </a:r>
              <a:endParaRPr b="0" lang="en-US" sz="17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pic>
          <p:nvPicPr>
            <p:cNvPr id="4255" name="" descr=""/>
            <p:cNvPicPr/>
            <p:nvPr/>
          </p:nvPicPr>
          <p:blipFill>
            <a:blip r:embed="rId1"/>
            <a:srcRect l="0" t="0" r="0" b="6759"/>
            <a:stretch/>
          </p:blipFill>
          <p:spPr>
            <a:xfrm>
              <a:off x="2570040" y="2066400"/>
              <a:ext cx="392760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6" name=""/>
            <p:cNvSpPr/>
            <p:nvPr/>
          </p:nvSpPr>
          <p:spPr>
            <a:xfrm>
              <a:off x="3478680" y="2359800"/>
              <a:ext cx="2068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d0f85"/>
                  </a:solidFill>
                  <a:latin typeface="Arial"/>
                </a:rPr>
                <a:t>2 mm window glass</a:t>
              </a:r>
              <a:endParaRPr b="0" lang="en-US" sz="17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</p:grpSp>
      <p:pic>
        <p:nvPicPr>
          <p:cNvPr id="4257" name="" descr=""/>
          <p:cNvPicPr/>
          <p:nvPr/>
        </p:nvPicPr>
        <p:blipFill>
          <a:blip r:embed="rId2"/>
          <a:srcRect l="2188" t="2188" r="2188" b="47396"/>
          <a:stretch/>
        </p:blipFill>
        <p:spPr>
          <a:xfrm>
            <a:off x="152280" y="2968560"/>
            <a:ext cx="8877600" cy="3340080"/>
          </a:xfrm>
          <a:prstGeom prst="rect">
            <a:avLst/>
          </a:prstGeom>
          <a:ln w="0">
            <a:noFill/>
          </a:ln>
        </p:spPr>
      </p:pic>
      <p:sp>
        <p:nvSpPr>
          <p:cNvPr id="4258" name=""/>
          <p:cNvSpPr/>
          <p:nvPr/>
        </p:nvSpPr>
        <p:spPr>
          <a:xfrm>
            <a:off x="1278000" y="3639960"/>
            <a:ext cx="300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59" name=""/>
          <p:cNvSpPr/>
          <p:nvPr/>
        </p:nvSpPr>
        <p:spPr>
          <a:xfrm>
            <a:off x="6469200" y="3430440"/>
            <a:ext cx="300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0" name=""/>
          <p:cNvSpPr/>
          <p:nvPr/>
        </p:nvSpPr>
        <p:spPr>
          <a:xfrm>
            <a:off x="6580080" y="391644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1" name=""/>
          <p:cNvSpPr/>
          <p:nvPr/>
        </p:nvSpPr>
        <p:spPr>
          <a:xfrm>
            <a:off x="1074600" y="52783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1104840" y="253800"/>
            <a:ext cx="7664400" cy="3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"/>
              </a:rPr>
              <a:t>Optical constants determined with the TNO coating analyser</a:t>
            </a:r>
            <a:endParaRPr b="1" lang="en-US" sz="20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E9C-B830-493C-AACA-CBE589FEF36C}" type="slidenum">
              <a:t>6</a:t>
            </a:fld>
          </a:p>
        </p:txBody>
      </p:sp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3" name="" descr=""/>
          <p:cNvPicPr/>
          <p:nvPr/>
        </p:nvPicPr>
        <p:blipFill>
          <a:blip r:embed="rId1"/>
          <a:stretch/>
        </p:blipFill>
        <p:spPr>
          <a:xfrm>
            <a:off x="171360" y="190440"/>
            <a:ext cx="8848800" cy="6081840"/>
          </a:xfrm>
          <a:prstGeom prst="rect">
            <a:avLst/>
          </a:prstGeom>
          <a:ln w="0">
            <a:noFill/>
          </a:ln>
        </p:spPr>
      </p:pic>
      <p:sp>
        <p:nvSpPr>
          <p:cNvPr id="4264" name=""/>
          <p:cNvSpPr/>
          <p:nvPr/>
        </p:nvSpPr>
        <p:spPr>
          <a:xfrm>
            <a:off x="276120" y="262080"/>
            <a:ext cx="5616720" cy="5964120"/>
          </a:xfrm>
          <a:prstGeom prst="rect">
            <a:avLst/>
          </a:prstGeom>
          <a:noFill/>
          <a:ln w="2844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5" name=""/>
          <p:cNvSpPr/>
          <p:nvPr/>
        </p:nvSpPr>
        <p:spPr>
          <a:xfrm>
            <a:off x="5986440" y="254160"/>
            <a:ext cx="2960640" cy="2958840"/>
          </a:xfrm>
          <a:prstGeom prst="rect">
            <a:avLst/>
          </a:prstGeom>
          <a:noFill/>
          <a:ln w="2844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6" name=""/>
          <p:cNvSpPr/>
          <p:nvPr/>
        </p:nvSpPr>
        <p:spPr>
          <a:xfrm>
            <a:off x="5981760" y="3263760"/>
            <a:ext cx="2960640" cy="2959200"/>
          </a:xfrm>
          <a:prstGeom prst="rect">
            <a:avLst/>
          </a:prstGeom>
          <a:noFill/>
          <a:ln w="2844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7" name=""/>
          <p:cNvSpPr/>
          <p:nvPr/>
        </p:nvSpPr>
        <p:spPr>
          <a:xfrm flipH="1">
            <a:off x="7895880" y="1025640"/>
            <a:ext cx="112680" cy="453960"/>
          </a:xfrm>
          <a:prstGeom prst="line">
            <a:avLst/>
          </a:prstGeom>
          <a:ln w="3816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8" name=""/>
          <p:cNvSpPr/>
          <p:nvPr/>
        </p:nvSpPr>
        <p:spPr>
          <a:xfrm>
            <a:off x="8008920" y="1025640"/>
            <a:ext cx="112680" cy="453960"/>
          </a:xfrm>
          <a:prstGeom prst="line">
            <a:avLst/>
          </a:prstGeom>
          <a:ln w="38160">
            <a:solidFill>
              <a:srgbClr val="0d0f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9" name=""/>
          <p:cNvSpPr/>
          <p:nvPr/>
        </p:nvSpPr>
        <p:spPr>
          <a:xfrm>
            <a:off x="7753320" y="4819680"/>
            <a:ext cx="314280" cy="671400"/>
          </a:xfrm>
          <a:prstGeom prst="ellipse">
            <a:avLst/>
          </a:prstGeom>
          <a:solidFill>
            <a:srgbClr val="46ec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0" name=""/>
          <p:cNvSpPr/>
          <p:nvPr/>
        </p:nvSpPr>
        <p:spPr>
          <a:xfrm flipH="1">
            <a:off x="7489800" y="5165640"/>
            <a:ext cx="457200" cy="0"/>
          </a:xfrm>
          <a:prstGeom prst="line">
            <a:avLst/>
          </a:prstGeom>
          <a:ln w="3816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1" name=""/>
          <p:cNvSpPr/>
          <p:nvPr/>
        </p:nvSpPr>
        <p:spPr>
          <a:xfrm>
            <a:off x="7800840" y="4819680"/>
            <a:ext cx="314640" cy="671400"/>
          </a:xfrm>
          <a:prstGeom prst="ellipse">
            <a:avLst/>
          </a:prstGeom>
          <a:solidFill>
            <a:srgbClr val="c2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2" name=""/>
          <p:cNvSpPr/>
          <p:nvPr/>
        </p:nvSpPr>
        <p:spPr>
          <a:xfrm flipV="1">
            <a:off x="7942320" y="5160600"/>
            <a:ext cx="469800" cy="3240"/>
          </a:xfrm>
          <a:prstGeom prst="line">
            <a:avLst/>
          </a:prstGeom>
          <a:ln w="38160">
            <a:solidFill>
              <a:srgbClr val="0d0f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3" name=""/>
          <p:cNvSpPr/>
          <p:nvPr/>
        </p:nvSpPr>
        <p:spPr>
          <a:xfrm>
            <a:off x="7904160" y="48196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4" name=""/>
          <p:cNvSpPr/>
          <p:nvPr/>
        </p:nvSpPr>
        <p:spPr>
          <a:xfrm>
            <a:off x="7897680" y="549432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grpSp>
        <p:nvGrpSpPr>
          <p:cNvPr id="4275" name=""/>
          <p:cNvGrpSpPr/>
          <p:nvPr/>
        </p:nvGrpSpPr>
        <p:grpSpPr>
          <a:xfrm>
            <a:off x="2730960" y="2593800"/>
            <a:ext cx="1045800" cy="1163520"/>
            <a:chOff x="2730960" y="2593800"/>
            <a:chExt cx="1045800" cy="1163520"/>
          </a:xfrm>
        </p:grpSpPr>
        <p:sp>
          <p:nvSpPr>
            <p:cNvPr id="4276" name=""/>
            <p:cNvSpPr/>
            <p:nvPr/>
          </p:nvSpPr>
          <p:spPr>
            <a:xfrm>
              <a:off x="3270600" y="3230280"/>
              <a:ext cx="374760" cy="527040"/>
            </a:xfrm>
            <a:prstGeom prst="line">
              <a:avLst/>
            </a:prstGeom>
            <a:ln w="38160">
              <a:solidFill>
                <a:srgbClr val="0d0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77" name=""/>
            <p:cNvSpPr/>
            <p:nvPr/>
          </p:nvSpPr>
          <p:spPr>
            <a:xfrm rot="5400000">
              <a:off x="2933640" y="2750760"/>
              <a:ext cx="600120" cy="1000080"/>
            </a:xfrm>
            <a:prstGeom prst="parallelogram">
              <a:avLst>
                <a:gd name="adj" fmla="val 25000"/>
              </a:avLst>
            </a:prstGeom>
            <a:solidFill>
              <a:srgbClr val="46ec8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78" name=""/>
            <p:cNvSpPr/>
            <p:nvPr/>
          </p:nvSpPr>
          <p:spPr>
            <a:xfrm rot="5400000">
              <a:off x="2971800" y="2693520"/>
              <a:ext cx="600120" cy="1000440"/>
            </a:xfrm>
            <a:prstGeom prst="parallelogram">
              <a:avLst>
                <a:gd name="adj" fmla="val 25000"/>
              </a:avLst>
            </a:prstGeom>
            <a:solidFill>
              <a:srgbClr val="ff693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H="1" flipV="1">
              <a:off x="2811600" y="2606400"/>
              <a:ext cx="457200" cy="628560"/>
            </a:xfrm>
            <a:prstGeom prst="line">
              <a:avLst/>
            </a:prstGeom>
            <a:ln w="38160">
              <a:solidFill>
                <a:srgbClr val="0d0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V="1">
              <a:off x="3259080" y="2593800"/>
              <a:ext cx="457200" cy="628560"/>
            </a:xfrm>
            <a:prstGeom prst="line">
              <a:avLst/>
            </a:prstGeom>
            <a:ln w="38160">
              <a:solidFill>
                <a:srgbClr val="0d0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H="1">
              <a:off x="2733840" y="3349440"/>
              <a:ext cx="428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2" name=""/>
            <p:cNvSpPr/>
            <p:nvPr/>
          </p:nvSpPr>
          <p:spPr>
            <a:xfrm rot="5400000">
              <a:off x="3725280" y="3502440"/>
              <a:ext cx="60120" cy="42840"/>
            </a:xfrm>
            <a:prstGeom prst="triangle">
              <a:avLst>
                <a:gd name="adj" fmla="val 1787"/>
              </a:avLst>
            </a:prstGeom>
            <a:solidFill>
              <a:srgbClr val="46ec8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 rot="5400000">
              <a:off x="2721600" y="2903760"/>
              <a:ext cx="60480" cy="42840"/>
            </a:xfrm>
            <a:prstGeom prst="triangle">
              <a:avLst>
                <a:gd name="adj" fmla="val 1787"/>
              </a:avLst>
            </a:prstGeom>
            <a:solidFill>
              <a:srgbClr val="46ec8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</p:grpSp>
      <p:grpSp>
        <p:nvGrpSpPr>
          <p:cNvPr id="4284" name=""/>
          <p:cNvGrpSpPr/>
          <p:nvPr/>
        </p:nvGrpSpPr>
        <p:grpSpPr>
          <a:xfrm>
            <a:off x="7600320" y="507960"/>
            <a:ext cx="786600" cy="673200"/>
            <a:chOff x="7600320" y="507960"/>
            <a:chExt cx="786600" cy="673200"/>
          </a:xfrm>
        </p:grpSpPr>
        <p:sp>
          <p:nvSpPr>
            <p:cNvPr id="4285" name=""/>
            <p:cNvSpPr/>
            <p:nvPr/>
          </p:nvSpPr>
          <p:spPr>
            <a:xfrm>
              <a:off x="7662600" y="733320"/>
              <a:ext cx="142920" cy="257040"/>
            </a:xfrm>
            <a:custGeom>
              <a:avLst/>
              <a:gdLst/>
              <a:ahLst/>
              <a:rect l="l" t="t" r="r" b="b"/>
              <a:pathLst>
                <a:path w="90" h="162">
                  <a:moveTo>
                    <a:pt x="0" y="0"/>
                  </a:moveTo>
                  <a:lnTo>
                    <a:pt x="0" y="162"/>
                  </a:lnTo>
                  <a:lnTo>
                    <a:pt x="23" y="135"/>
                  </a:lnTo>
                  <a:lnTo>
                    <a:pt x="41" y="122"/>
                  </a:lnTo>
                  <a:lnTo>
                    <a:pt x="68" y="108"/>
                  </a:lnTo>
                  <a:lnTo>
                    <a:pt x="90" y="99"/>
                  </a:lnTo>
                  <a:lnTo>
                    <a:pt x="63" y="81"/>
                  </a:lnTo>
                  <a:lnTo>
                    <a:pt x="36" y="59"/>
                  </a:lnTo>
                  <a:lnTo>
                    <a:pt x="23" y="36"/>
                  </a:lnTo>
                  <a:lnTo>
                    <a:pt x="14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ec89">
                <a:alpha val="50000"/>
              </a:srgbClr>
            </a:solidFill>
            <a:ln w="93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8313480" y="933480"/>
              <a:ext cx="20520" cy="65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3" y="0"/>
                  </a:moveTo>
                  <a:lnTo>
                    <a:pt x="13" y="41"/>
                  </a:lnTo>
                  <a:lnTo>
                    <a:pt x="0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6e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grpSp>
          <p:nvGrpSpPr>
            <p:cNvPr id="4287" name=""/>
            <p:cNvGrpSpPr/>
            <p:nvPr/>
          </p:nvGrpSpPr>
          <p:grpSpPr>
            <a:xfrm>
              <a:off x="7600320" y="507960"/>
              <a:ext cx="786600" cy="673200"/>
              <a:chOff x="7600320" y="507960"/>
              <a:chExt cx="786600" cy="673200"/>
            </a:xfrm>
          </p:grpSpPr>
          <p:sp>
            <p:nvSpPr>
              <p:cNvPr id="4288" name=""/>
              <p:cNvSpPr/>
              <p:nvPr/>
            </p:nvSpPr>
            <p:spPr>
              <a:xfrm rot="6796200">
                <a:off x="7826760" y="445320"/>
                <a:ext cx="333360" cy="712800"/>
              </a:xfrm>
              <a:prstGeom prst="ellipse">
                <a:avLst/>
              </a:prstGeom>
              <a:solidFill>
                <a:srgbClr val="46ec8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rot="5400000">
                <a:off x="7836480" y="687960"/>
                <a:ext cx="314280" cy="671760"/>
              </a:xfrm>
              <a:prstGeom prst="ellipse">
                <a:avLst/>
              </a:prstGeom>
              <a:solidFill>
                <a:srgbClr val="c2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8329680" y="9129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657920" y="690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</p:grpSp>
      <p:sp>
        <p:nvSpPr>
          <p:cNvPr id="4292" name=""/>
          <p:cNvSpPr/>
          <p:nvPr/>
        </p:nvSpPr>
        <p:spPr>
          <a:xfrm>
            <a:off x="1616760" y="6337440"/>
            <a:ext cx="6040440" cy="398880"/>
          </a:xfrm>
          <a:prstGeom prst="rect">
            <a:avLst/>
          </a:prstGeom>
          <a:solidFill>
            <a:srgbClr val="0d0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"/>
              </a:rPr>
              <a:t>substrate / HfO2 / SiO2 / HfO2 / SiO2 / HfO2 / SiO2 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893-5432-44BD-A58D-09CEDE17CD14}" type="slidenum">
              <a:t>7</a:t>
            </a:fld>
          </a:p>
        </p:txBody>
      </p:sp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"/>
          <p:cNvSpPr/>
          <p:nvPr/>
        </p:nvSpPr>
        <p:spPr>
          <a:xfrm>
            <a:off x="85680" y="324000"/>
            <a:ext cx="902016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94" name=""/>
          <p:cNvSpPr/>
          <p:nvPr/>
        </p:nvSpPr>
        <p:spPr>
          <a:xfrm>
            <a:off x="2657520" y="2225520"/>
            <a:ext cx="3743280" cy="324000"/>
          </a:xfrm>
          <a:prstGeom prst="rect">
            <a:avLst/>
          </a:prstGeom>
          <a:solidFill>
            <a:srgbClr val="ffff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95" name=""/>
          <p:cNvSpPr/>
          <p:nvPr/>
        </p:nvSpPr>
        <p:spPr>
          <a:xfrm>
            <a:off x="2752560" y="1889280"/>
            <a:ext cx="3543480" cy="33624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96" name=""/>
          <p:cNvSpPr/>
          <p:nvPr/>
        </p:nvSpPr>
        <p:spPr>
          <a:xfrm>
            <a:off x="3697560" y="2220840"/>
            <a:ext cx="1645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210.6 nm Hf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97" name=""/>
          <p:cNvSpPr/>
          <p:nvPr/>
        </p:nvSpPr>
        <p:spPr>
          <a:xfrm>
            <a:off x="3752640" y="1887480"/>
            <a:ext cx="1501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64.4 nm Si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298" name="" descr=""/>
          <p:cNvPicPr/>
          <p:nvPr/>
        </p:nvPicPr>
        <p:blipFill>
          <a:blip r:embed="rId1"/>
          <a:srcRect l="0" t="0" r="0" b="6759"/>
          <a:stretch/>
        </p:blipFill>
        <p:spPr>
          <a:xfrm>
            <a:off x="2570040" y="2523960"/>
            <a:ext cx="3927600" cy="993960"/>
          </a:xfrm>
          <a:prstGeom prst="rect">
            <a:avLst/>
          </a:prstGeom>
          <a:ln w="0">
            <a:noFill/>
          </a:ln>
        </p:spPr>
      </p:pic>
      <p:sp>
        <p:nvSpPr>
          <p:cNvPr id="4299" name=""/>
          <p:cNvSpPr/>
          <p:nvPr/>
        </p:nvSpPr>
        <p:spPr>
          <a:xfrm>
            <a:off x="3731760" y="2859120"/>
            <a:ext cx="1563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2 mm Suprasil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0" name=""/>
          <p:cNvSpPr/>
          <p:nvPr/>
        </p:nvSpPr>
        <p:spPr>
          <a:xfrm>
            <a:off x="1525680" y="4564080"/>
            <a:ext cx="300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1" name=""/>
          <p:cNvSpPr/>
          <p:nvPr/>
        </p:nvSpPr>
        <p:spPr>
          <a:xfrm>
            <a:off x="6564600" y="5154480"/>
            <a:ext cx="300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302" name="" descr=""/>
          <p:cNvPicPr/>
          <p:nvPr/>
        </p:nvPicPr>
        <p:blipFill>
          <a:blip r:embed="rId2"/>
          <a:srcRect l="4375" t="0" r="5687" b="47396"/>
          <a:stretch/>
        </p:blipFill>
        <p:spPr>
          <a:xfrm>
            <a:off x="260280" y="3244680"/>
            <a:ext cx="8756640" cy="2978280"/>
          </a:xfrm>
          <a:prstGeom prst="rect">
            <a:avLst/>
          </a:prstGeom>
          <a:ln w="0">
            <a:noFill/>
          </a:ln>
        </p:spPr>
      </p:pic>
      <p:sp>
        <p:nvSpPr>
          <p:cNvPr id="4303" name=""/>
          <p:cNvSpPr/>
          <p:nvPr/>
        </p:nvSpPr>
        <p:spPr>
          <a:xfrm>
            <a:off x="3447720" y="3639960"/>
            <a:ext cx="53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k=0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4" name=""/>
          <p:cNvSpPr/>
          <p:nvPr/>
        </p:nvSpPr>
        <p:spPr>
          <a:xfrm>
            <a:off x="8124480" y="3763800"/>
            <a:ext cx="53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k=0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5" name=""/>
          <p:cNvSpPr/>
          <p:nvPr/>
        </p:nvSpPr>
        <p:spPr>
          <a:xfrm>
            <a:off x="2666880" y="1568520"/>
            <a:ext cx="3743280" cy="323640"/>
          </a:xfrm>
          <a:prstGeom prst="rect">
            <a:avLst/>
          </a:prstGeom>
          <a:solidFill>
            <a:srgbClr val="ffff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6" name=""/>
          <p:cNvSpPr/>
          <p:nvPr/>
        </p:nvSpPr>
        <p:spPr>
          <a:xfrm>
            <a:off x="2762280" y="1231920"/>
            <a:ext cx="3543120" cy="33660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7" name=""/>
          <p:cNvSpPr/>
          <p:nvPr/>
        </p:nvSpPr>
        <p:spPr>
          <a:xfrm>
            <a:off x="3707280" y="1563840"/>
            <a:ext cx="1645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188.8 nm Hf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8" name=""/>
          <p:cNvSpPr/>
          <p:nvPr/>
        </p:nvSpPr>
        <p:spPr>
          <a:xfrm>
            <a:off x="3701880" y="1230480"/>
            <a:ext cx="1622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196.3 nm Si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9" name=""/>
          <p:cNvSpPr/>
          <p:nvPr/>
        </p:nvSpPr>
        <p:spPr>
          <a:xfrm>
            <a:off x="2666880" y="901800"/>
            <a:ext cx="3743280" cy="323640"/>
          </a:xfrm>
          <a:prstGeom prst="rect">
            <a:avLst/>
          </a:prstGeom>
          <a:solidFill>
            <a:srgbClr val="ffff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0" name=""/>
          <p:cNvSpPr/>
          <p:nvPr/>
        </p:nvSpPr>
        <p:spPr>
          <a:xfrm>
            <a:off x="2762280" y="565200"/>
            <a:ext cx="3543120" cy="33660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1" name=""/>
          <p:cNvSpPr/>
          <p:nvPr/>
        </p:nvSpPr>
        <p:spPr>
          <a:xfrm>
            <a:off x="3767400" y="896760"/>
            <a:ext cx="1524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28.6 nm Hf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2" name=""/>
          <p:cNvSpPr/>
          <p:nvPr/>
        </p:nvSpPr>
        <p:spPr>
          <a:xfrm>
            <a:off x="3701880" y="563400"/>
            <a:ext cx="1622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195.6 nm Si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116-D1D3-4E58-9C88-3226DB67BC8D}" type="slidenum">
              <a:t>8</a:t>
            </a:fld>
          </a:p>
        </p:txBody>
      </p:sp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"/>
          <p:cNvSpPr/>
          <p:nvPr/>
        </p:nvSpPr>
        <p:spPr>
          <a:xfrm>
            <a:off x="3901320" y="1143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4" name=""/>
          <p:cNvSpPr/>
          <p:nvPr/>
        </p:nvSpPr>
        <p:spPr>
          <a:xfrm>
            <a:off x="4122720" y="1081080"/>
            <a:ext cx="219384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5" name=""/>
          <p:cNvSpPr/>
          <p:nvPr/>
        </p:nvSpPr>
        <p:spPr>
          <a:xfrm>
            <a:off x="4604760" y="114300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llipsometry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6" name=""/>
          <p:cNvSpPr/>
          <p:nvPr/>
        </p:nvSpPr>
        <p:spPr>
          <a:xfrm>
            <a:off x="5833440" y="1143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7" name=""/>
          <p:cNvSpPr/>
          <p:nvPr/>
        </p:nvSpPr>
        <p:spPr>
          <a:xfrm>
            <a:off x="4100400" y="1081080"/>
            <a:ext cx="223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8" name=""/>
          <p:cNvSpPr/>
          <p:nvPr/>
        </p:nvSpPr>
        <p:spPr>
          <a:xfrm>
            <a:off x="6316560" y="1081080"/>
            <a:ext cx="208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9" name=""/>
          <p:cNvSpPr/>
          <p:nvPr/>
        </p:nvSpPr>
        <p:spPr>
          <a:xfrm>
            <a:off x="4100400" y="1414440"/>
            <a:ext cx="2237040" cy="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0" name=""/>
          <p:cNvSpPr/>
          <p:nvPr/>
        </p:nvSpPr>
        <p:spPr>
          <a:xfrm>
            <a:off x="6375240" y="1081080"/>
            <a:ext cx="236556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1" name=""/>
          <p:cNvSpPr/>
          <p:nvPr/>
        </p:nvSpPr>
        <p:spPr>
          <a:xfrm>
            <a:off x="6980760" y="11430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photometry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2" name=""/>
          <p:cNvSpPr/>
          <p:nvPr/>
        </p:nvSpPr>
        <p:spPr>
          <a:xfrm>
            <a:off x="8133840" y="1143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3" name=""/>
          <p:cNvSpPr/>
          <p:nvPr/>
        </p:nvSpPr>
        <p:spPr>
          <a:xfrm>
            <a:off x="6351480" y="1081080"/>
            <a:ext cx="2376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4" name=""/>
          <p:cNvSpPr/>
          <p:nvPr/>
        </p:nvSpPr>
        <p:spPr>
          <a:xfrm>
            <a:off x="8740800" y="1081080"/>
            <a:ext cx="205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5" name=""/>
          <p:cNvSpPr/>
          <p:nvPr/>
        </p:nvSpPr>
        <p:spPr>
          <a:xfrm>
            <a:off x="6351480" y="1414440"/>
            <a:ext cx="2409840" cy="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6" name=""/>
          <p:cNvSpPr/>
          <p:nvPr/>
        </p:nvSpPr>
        <p:spPr>
          <a:xfrm>
            <a:off x="4086360" y="10666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7" name=""/>
          <p:cNvSpPr/>
          <p:nvPr/>
        </p:nvSpPr>
        <p:spPr>
          <a:xfrm>
            <a:off x="4086360" y="10666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8" name=""/>
          <p:cNvSpPr/>
          <p:nvPr/>
        </p:nvSpPr>
        <p:spPr>
          <a:xfrm>
            <a:off x="4100400" y="106668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9" name=""/>
          <p:cNvSpPr/>
          <p:nvPr/>
        </p:nvSpPr>
        <p:spPr>
          <a:xfrm>
            <a:off x="6337440" y="10666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0" name=""/>
          <p:cNvSpPr/>
          <p:nvPr/>
        </p:nvSpPr>
        <p:spPr>
          <a:xfrm>
            <a:off x="6351480" y="1066680"/>
            <a:ext cx="24098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1" name=""/>
          <p:cNvSpPr/>
          <p:nvPr/>
        </p:nvSpPr>
        <p:spPr>
          <a:xfrm>
            <a:off x="8761320" y="106668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2" name=""/>
          <p:cNvSpPr/>
          <p:nvPr/>
        </p:nvSpPr>
        <p:spPr>
          <a:xfrm>
            <a:off x="8761320" y="106668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3" name=""/>
          <p:cNvSpPr/>
          <p:nvPr/>
        </p:nvSpPr>
        <p:spPr>
          <a:xfrm>
            <a:off x="4086360" y="108108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4" name=""/>
          <p:cNvSpPr/>
          <p:nvPr/>
        </p:nvSpPr>
        <p:spPr>
          <a:xfrm>
            <a:off x="6337440" y="108108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5" name=""/>
          <p:cNvSpPr/>
          <p:nvPr/>
        </p:nvSpPr>
        <p:spPr>
          <a:xfrm>
            <a:off x="8761320" y="10810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6" name=""/>
          <p:cNvSpPr/>
          <p:nvPr/>
        </p:nvSpPr>
        <p:spPr>
          <a:xfrm>
            <a:off x="457200" y="1477800"/>
            <a:ext cx="360828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7" name=""/>
          <p:cNvSpPr/>
          <p:nvPr/>
        </p:nvSpPr>
        <p:spPr>
          <a:xfrm>
            <a:off x="622080" y="1539720"/>
            <a:ext cx="301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Accuracy in the measurement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8" name=""/>
          <p:cNvSpPr/>
          <p:nvPr/>
        </p:nvSpPr>
        <p:spPr>
          <a:xfrm>
            <a:off x="3561840" y="1539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9" name=""/>
          <p:cNvSpPr/>
          <p:nvPr/>
        </p:nvSpPr>
        <p:spPr>
          <a:xfrm>
            <a:off x="433440" y="1477800"/>
            <a:ext cx="2376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0" name=""/>
          <p:cNvSpPr/>
          <p:nvPr/>
        </p:nvSpPr>
        <p:spPr>
          <a:xfrm>
            <a:off x="4065480" y="1477800"/>
            <a:ext cx="2088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1" name=""/>
          <p:cNvSpPr/>
          <p:nvPr/>
        </p:nvSpPr>
        <p:spPr>
          <a:xfrm>
            <a:off x="433440" y="1859040"/>
            <a:ext cx="3652920" cy="357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2" name=""/>
          <p:cNvSpPr/>
          <p:nvPr/>
        </p:nvSpPr>
        <p:spPr>
          <a:xfrm>
            <a:off x="4122720" y="1477800"/>
            <a:ext cx="2193840" cy="39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3" name=""/>
          <p:cNvSpPr/>
          <p:nvPr/>
        </p:nvSpPr>
        <p:spPr>
          <a:xfrm>
            <a:off x="4424040" y="15177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4" name=""/>
          <p:cNvSpPr/>
          <p:nvPr/>
        </p:nvSpPr>
        <p:spPr>
          <a:xfrm>
            <a:off x="4563360" y="154296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: 0.2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5" name=""/>
          <p:cNvSpPr/>
          <p:nvPr/>
        </p:nvSpPr>
        <p:spPr>
          <a:xfrm>
            <a:off x="5349600" y="15429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6" name=""/>
          <p:cNvSpPr/>
          <p:nvPr/>
        </p:nvSpPr>
        <p:spPr>
          <a:xfrm>
            <a:off x="5425920" y="1542960"/>
            <a:ext cx="58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0.3%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7" name=""/>
          <p:cNvSpPr/>
          <p:nvPr/>
        </p:nvSpPr>
        <p:spPr>
          <a:xfrm>
            <a:off x="6015960" y="15429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8" name=""/>
          <p:cNvSpPr/>
          <p:nvPr/>
        </p:nvSpPr>
        <p:spPr>
          <a:xfrm>
            <a:off x="4122720" y="1874880"/>
            <a:ext cx="2193840" cy="341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9" name=""/>
          <p:cNvSpPr/>
          <p:nvPr/>
        </p:nvSpPr>
        <p:spPr>
          <a:xfrm>
            <a:off x="4431960" y="185580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Symbol"/>
                <a:ea typeface="Symbol"/>
              </a:rPr>
              <a:t>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0" name=""/>
          <p:cNvSpPr/>
          <p:nvPr/>
        </p:nvSpPr>
        <p:spPr>
          <a:xfrm>
            <a:off x="4617360" y="1881360"/>
            <a:ext cx="71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: 0.2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1" name=""/>
          <p:cNvSpPr/>
          <p:nvPr/>
        </p:nvSpPr>
        <p:spPr>
          <a:xfrm>
            <a:off x="5336640" y="1881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2" name=""/>
          <p:cNvSpPr/>
          <p:nvPr/>
        </p:nvSpPr>
        <p:spPr>
          <a:xfrm>
            <a:off x="5413320" y="1881360"/>
            <a:ext cx="58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0.5%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3" name=""/>
          <p:cNvSpPr/>
          <p:nvPr/>
        </p:nvSpPr>
        <p:spPr>
          <a:xfrm>
            <a:off x="6004800" y="18813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4" name=""/>
          <p:cNvSpPr/>
          <p:nvPr/>
        </p:nvSpPr>
        <p:spPr>
          <a:xfrm>
            <a:off x="4100400" y="1477800"/>
            <a:ext cx="22320" cy="73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5" name=""/>
          <p:cNvSpPr/>
          <p:nvPr/>
        </p:nvSpPr>
        <p:spPr>
          <a:xfrm>
            <a:off x="6316560" y="1477800"/>
            <a:ext cx="20880" cy="73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6" name=""/>
          <p:cNvSpPr/>
          <p:nvPr/>
        </p:nvSpPr>
        <p:spPr>
          <a:xfrm>
            <a:off x="6375240" y="1477800"/>
            <a:ext cx="236556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7" name=""/>
          <p:cNvSpPr/>
          <p:nvPr/>
        </p:nvSpPr>
        <p:spPr>
          <a:xfrm>
            <a:off x="6609240" y="1539720"/>
            <a:ext cx="121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R, R': 0.2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8" name=""/>
          <p:cNvSpPr/>
          <p:nvPr/>
        </p:nvSpPr>
        <p:spPr>
          <a:xfrm>
            <a:off x="7835400" y="15397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9" name=""/>
          <p:cNvSpPr/>
          <p:nvPr/>
        </p:nvSpPr>
        <p:spPr>
          <a:xfrm>
            <a:off x="7911720" y="153972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0.5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0" name=""/>
          <p:cNvSpPr/>
          <p:nvPr/>
        </p:nvSpPr>
        <p:spPr>
          <a:xfrm>
            <a:off x="8567280" y="1539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1" name=""/>
          <p:cNvSpPr/>
          <p:nvPr/>
        </p:nvSpPr>
        <p:spPr>
          <a:xfrm>
            <a:off x="6375240" y="1859040"/>
            <a:ext cx="236556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2" name=""/>
          <p:cNvSpPr/>
          <p:nvPr/>
        </p:nvSpPr>
        <p:spPr>
          <a:xfrm>
            <a:off x="6792120" y="1863720"/>
            <a:ext cx="8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T: 0.1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3" name=""/>
          <p:cNvSpPr/>
          <p:nvPr/>
        </p:nvSpPr>
        <p:spPr>
          <a:xfrm>
            <a:off x="7652880" y="18637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4" name=""/>
          <p:cNvSpPr/>
          <p:nvPr/>
        </p:nvSpPr>
        <p:spPr>
          <a:xfrm>
            <a:off x="7729560" y="1863720"/>
            <a:ext cx="58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0.3%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5" name=""/>
          <p:cNvSpPr/>
          <p:nvPr/>
        </p:nvSpPr>
        <p:spPr>
          <a:xfrm>
            <a:off x="8321040" y="1863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6" name=""/>
          <p:cNvSpPr/>
          <p:nvPr/>
        </p:nvSpPr>
        <p:spPr>
          <a:xfrm>
            <a:off x="6351480" y="1477800"/>
            <a:ext cx="23760" cy="70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7" name=""/>
          <p:cNvSpPr/>
          <p:nvPr/>
        </p:nvSpPr>
        <p:spPr>
          <a:xfrm>
            <a:off x="8740800" y="1477800"/>
            <a:ext cx="7920" cy="70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8" name=""/>
          <p:cNvSpPr/>
          <p:nvPr/>
        </p:nvSpPr>
        <p:spPr>
          <a:xfrm>
            <a:off x="6351480" y="2182680"/>
            <a:ext cx="2397240" cy="33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9" name=""/>
          <p:cNvSpPr/>
          <p:nvPr/>
        </p:nvSpPr>
        <p:spPr>
          <a:xfrm>
            <a:off x="420840" y="146376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0" name=""/>
          <p:cNvSpPr/>
          <p:nvPr/>
        </p:nvSpPr>
        <p:spPr>
          <a:xfrm>
            <a:off x="420840" y="146376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1" name=""/>
          <p:cNvSpPr/>
          <p:nvPr/>
        </p:nvSpPr>
        <p:spPr>
          <a:xfrm>
            <a:off x="433440" y="1463760"/>
            <a:ext cx="3652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2" name=""/>
          <p:cNvSpPr/>
          <p:nvPr/>
        </p:nvSpPr>
        <p:spPr>
          <a:xfrm>
            <a:off x="4086360" y="146376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3" name=""/>
          <p:cNvSpPr/>
          <p:nvPr/>
        </p:nvSpPr>
        <p:spPr>
          <a:xfrm>
            <a:off x="4100400" y="1463760"/>
            <a:ext cx="2237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4" name=""/>
          <p:cNvSpPr/>
          <p:nvPr/>
        </p:nvSpPr>
        <p:spPr>
          <a:xfrm>
            <a:off x="6337440" y="146376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5" name=""/>
          <p:cNvSpPr/>
          <p:nvPr/>
        </p:nvSpPr>
        <p:spPr>
          <a:xfrm>
            <a:off x="6351480" y="1463760"/>
            <a:ext cx="23972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6" name=""/>
          <p:cNvSpPr/>
          <p:nvPr/>
        </p:nvSpPr>
        <p:spPr>
          <a:xfrm>
            <a:off x="8748720" y="146376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7" name=""/>
          <p:cNvSpPr/>
          <p:nvPr/>
        </p:nvSpPr>
        <p:spPr>
          <a:xfrm>
            <a:off x="8761320" y="1463760"/>
            <a:ext cx="288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8" name=""/>
          <p:cNvSpPr/>
          <p:nvPr/>
        </p:nvSpPr>
        <p:spPr>
          <a:xfrm>
            <a:off x="420840" y="1477800"/>
            <a:ext cx="12600" cy="73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9" name=""/>
          <p:cNvSpPr/>
          <p:nvPr/>
        </p:nvSpPr>
        <p:spPr>
          <a:xfrm>
            <a:off x="4086360" y="1477800"/>
            <a:ext cx="14040" cy="73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0" name=""/>
          <p:cNvSpPr/>
          <p:nvPr/>
        </p:nvSpPr>
        <p:spPr>
          <a:xfrm>
            <a:off x="6337440" y="1477800"/>
            <a:ext cx="14040" cy="73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1" name=""/>
          <p:cNvSpPr/>
          <p:nvPr/>
        </p:nvSpPr>
        <p:spPr>
          <a:xfrm>
            <a:off x="8748720" y="1477800"/>
            <a:ext cx="41400" cy="73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2" name=""/>
          <p:cNvSpPr/>
          <p:nvPr/>
        </p:nvSpPr>
        <p:spPr>
          <a:xfrm>
            <a:off x="457200" y="2230560"/>
            <a:ext cx="36082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3" name=""/>
          <p:cNvSpPr/>
          <p:nvPr/>
        </p:nvSpPr>
        <p:spPr>
          <a:xfrm>
            <a:off x="621360" y="2292480"/>
            <a:ext cx="29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sensitivity for layer thickness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4" name=""/>
          <p:cNvSpPr/>
          <p:nvPr/>
        </p:nvSpPr>
        <p:spPr>
          <a:xfrm>
            <a:off x="3612600" y="2292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5" name=""/>
          <p:cNvSpPr/>
          <p:nvPr/>
        </p:nvSpPr>
        <p:spPr>
          <a:xfrm>
            <a:off x="457200" y="2611440"/>
            <a:ext cx="3608280" cy="324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6" name=""/>
          <p:cNvSpPr/>
          <p:nvPr/>
        </p:nvSpPr>
        <p:spPr>
          <a:xfrm>
            <a:off x="2606040" y="2616120"/>
            <a:ext cx="12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d &lt; 5 nm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7" name=""/>
          <p:cNvSpPr/>
          <p:nvPr/>
        </p:nvSpPr>
        <p:spPr>
          <a:xfrm>
            <a:off x="3901320" y="2616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8" name=""/>
          <p:cNvSpPr/>
          <p:nvPr/>
        </p:nvSpPr>
        <p:spPr>
          <a:xfrm>
            <a:off x="457200" y="2935440"/>
            <a:ext cx="3608280" cy="322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9" name=""/>
          <p:cNvSpPr/>
          <p:nvPr/>
        </p:nvSpPr>
        <p:spPr>
          <a:xfrm>
            <a:off x="1961280" y="2940120"/>
            <a:ext cx="19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5 nm &lt; d &lt; 500 nm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0" name=""/>
          <p:cNvSpPr/>
          <p:nvPr/>
        </p:nvSpPr>
        <p:spPr>
          <a:xfrm>
            <a:off x="3901320" y="2940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1" name=""/>
          <p:cNvSpPr/>
          <p:nvPr/>
        </p:nvSpPr>
        <p:spPr>
          <a:xfrm>
            <a:off x="457200" y="3257640"/>
            <a:ext cx="3608280" cy="32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2" name=""/>
          <p:cNvSpPr/>
          <p:nvPr/>
        </p:nvSpPr>
        <p:spPr>
          <a:xfrm>
            <a:off x="2738160" y="326232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d &gt; 500 nm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3" name=""/>
          <p:cNvSpPr/>
          <p:nvPr/>
        </p:nvSpPr>
        <p:spPr>
          <a:xfrm>
            <a:off x="3901320" y="3262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4" name=""/>
          <p:cNvSpPr/>
          <p:nvPr/>
        </p:nvSpPr>
        <p:spPr>
          <a:xfrm>
            <a:off x="433440" y="2230560"/>
            <a:ext cx="23760" cy="135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5" name=""/>
          <p:cNvSpPr/>
          <p:nvPr/>
        </p:nvSpPr>
        <p:spPr>
          <a:xfrm>
            <a:off x="4065480" y="2230560"/>
            <a:ext cx="20880" cy="135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6" name=""/>
          <p:cNvSpPr/>
          <p:nvPr/>
        </p:nvSpPr>
        <p:spPr>
          <a:xfrm>
            <a:off x="4122720" y="2230560"/>
            <a:ext cx="219384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7" name=""/>
          <p:cNvSpPr/>
          <p:nvPr/>
        </p:nvSpPr>
        <p:spPr>
          <a:xfrm>
            <a:off x="5219280" y="2292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8" name=""/>
          <p:cNvSpPr/>
          <p:nvPr/>
        </p:nvSpPr>
        <p:spPr>
          <a:xfrm>
            <a:off x="4122720" y="2611440"/>
            <a:ext cx="219384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9" name=""/>
          <p:cNvSpPr/>
          <p:nvPr/>
        </p:nvSpPr>
        <p:spPr>
          <a:xfrm>
            <a:off x="5085360" y="261612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0" name=""/>
          <p:cNvSpPr/>
          <p:nvPr/>
        </p:nvSpPr>
        <p:spPr>
          <a:xfrm>
            <a:off x="5353920" y="2616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1" name=""/>
          <p:cNvSpPr/>
          <p:nvPr/>
        </p:nvSpPr>
        <p:spPr>
          <a:xfrm>
            <a:off x="4122720" y="2935440"/>
            <a:ext cx="2193840" cy="322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2" name=""/>
          <p:cNvSpPr/>
          <p:nvPr/>
        </p:nvSpPr>
        <p:spPr>
          <a:xfrm>
            <a:off x="5085360" y="294012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3" name=""/>
          <p:cNvSpPr/>
          <p:nvPr/>
        </p:nvSpPr>
        <p:spPr>
          <a:xfrm>
            <a:off x="5353920" y="2940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4" name=""/>
          <p:cNvSpPr/>
          <p:nvPr/>
        </p:nvSpPr>
        <p:spPr>
          <a:xfrm>
            <a:off x="4122720" y="3257640"/>
            <a:ext cx="219384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5" name=""/>
          <p:cNvSpPr/>
          <p:nvPr/>
        </p:nvSpPr>
        <p:spPr>
          <a:xfrm>
            <a:off x="5152320" y="32623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6" name=""/>
          <p:cNvSpPr/>
          <p:nvPr/>
        </p:nvSpPr>
        <p:spPr>
          <a:xfrm>
            <a:off x="5285880" y="3262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7" name=""/>
          <p:cNvSpPr/>
          <p:nvPr/>
        </p:nvSpPr>
        <p:spPr>
          <a:xfrm>
            <a:off x="4100400" y="2230560"/>
            <a:ext cx="22320" cy="135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8" name=""/>
          <p:cNvSpPr/>
          <p:nvPr/>
        </p:nvSpPr>
        <p:spPr>
          <a:xfrm>
            <a:off x="6316560" y="2230560"/>
            <a:ext cx="20880" cy="135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9" name=""/>
          <p:cNvSpPr/>
          <p:nvPr/>
        </p:nvSpPr>
        <p:spPr>
          <a:xfrm>
            <a:off x="6375240" y="2230560"/>
            <a:ext cx="23655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0" name=""/>
          <p:cNvSpPr/>
          <p:nvPr/>
        </p:nvSpPr>
        <p:spPr>
          <a:xfrm>
            <a:off x="7556040" y="2292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1" name=""/>
          <p:cNvSpPr/>
          <p:nvPr/>
        </p:nvSpPr>
        <p:spPr>
          <a:xfrm>
            <a:off x="6375240" y="2611440"/>
            <a:ext cx="236556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2" name=""/>
          <p:cNvSpPr/>
          <p:nvPr/>
        </p:nvSpPr>
        <p:spPr>
          <a:xfrm>
            <a:off x="7489080" y="26161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3" name=""/>
          <p:cNvSpPr/>
          <p:nvPr/>
        </p:nvSpPr>
        <p:spPr>
          <a:xfrm>
            <a:off x="7622640" y="2616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4" name=""/>
          <p:cNvSpPr/>
          <p:nvPr/>
        </p:nvSpPr>
        <p:spPr>
          <a:xfrm>
            <a:off x="6375240" y="2935440"/>
            <a:ext cx="2365560" cy="322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5" name=""/>
          <p:cNvSpPr/>
          <p:nvPr/>
        </p:nvSpPr>
        <p:spPr>
          <a:xfrm>
            <a:off x="7422120" y="294012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6" name=""/>
          <p:cNvSpPr/>
          <p:nvPr/>
        </p:nvSpPr>
        <p:spPr>
          <a:xfrm>
            <a:off x="7690680" y="2940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7" name=""/>
          <p:cNvSpPr/>
          <p:nvPr/>
        </p:nvSpPr>
        <p:spPr>
          <a:xfrm>
            <a:off x="6375240" y="3257640"/>
            <a:ext cx="236556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8" name=""/>
          <p:cNvSpPr/>
          <p:nvPr/>
        </p:nvSpPr>
        <p:spPr>
          <a:xfrm>
            <a:off x="7422120" y="326232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9" name=""/>
          <p:cNvSpPr/>
          <p:nvPr/>
        </p:nvSpPr>
        <p:spPr>
          <a:xfrm>
            <a:off x="7690680" y="3262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0" name=""/>
          <p:cNvSpPr/>
          <p:nvPr/>
        </p:nvSpPr>
        <p:spPr>
          <a:xfrm>
            <a:off x="6351480" y="2230560"/>
            <a:ext cx="23760" cy="135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1" name=""/>
          <p:cNvSpPr/>
          <p:nvPr/>
        </p:nvSpPr>
        <p:spPr>
          <a:xfrm>
            <a:off x="8740800" y="2230560"/>
            <a:ext cx="7920" cy="135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2" name=""/>
          <p:cNvSpPr/>
          <p:nvPr/>
        </p:nvSpPr>
        <p:spPr>
          <a:xfrm>
            <a:off x="420840" y="221616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3" name=""/>
          <p:cNvSpPr/>
          <p:nvPr/>
        </p:nvSpPr>
        <p:spPr>
          <a:xfrm>
            <a:off x="433440" y="2216160"/>
            <a:ext cx="3652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4" name=""/>
          <p:cNvSpPr/>
          <p:nvPr/>
        </p:nvSpPr>
        <p:spPr>
          <a:xfrm>
            <a:off x="4086360" y="221616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5" name=""/>
          <p:cNvSpPr/>
          <p:nvPr/>
        </p:nvSpPr>
        <p:spPr>
          <a:xfrm>
            <a:off x="4100400" y="221616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6" name=""/>
          <p:cNvSpPr/>
          <p:nvPr/>
        </p:nvSpPr>
        <p:spPr>
          <a:xfrm>
            <a:off x="6337440" y="221616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7" name=""/>
          <p:cNvSpPr/>
          <p:nvPr/>
        </p:nvSpPr>
        <p:spPr>
          <a:xfrm>
            <a:off x="6351480" y="2216160"/>
            <a:ext cx="239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8" name=""/>
          <p:cNvSpPr/>
          <p:nvPr/>
        </p:nvSpPr>
        <p:spPr>
          <a:xfrm>
            <a:off x="8748720" y="2216160"/>
            <a:ext cx="41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9" name=""/>
          <p:cNvSpPr/>
          <p:nvPr/>
        </p:nvSpPr>
        <p:spPr>
          <a:xfrm>
            <a:off x="420840" y="2230560"/>
            <a:ext cx="12600" cy="135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0" name=""/>
          <p:cNvSpPr/>
          <p:nvPr/>
        </p:nvSpPr>
        <p:spPr>
          <a:xfrm>
            <a:off x="4086360" y="2230560"/>
            <a:ext cx="14040" cy="135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1" name=""/>
          <p:cNvSpPr/>
          <p:nvPr/>
        </p:nvSpPr>
        <p:spPr>
          <a:xfrm>
            <a:off x="6337440" y="2230560"/>
            <a:ext cx="14040" cy="135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2" name=""/>
          <p:cNvSpPr/>
          <p:nvPr/>
        </p:nvSpPr>
        <p:spPr>
          <a:xfrm>
            <a:off x="8748720" y="2230560"/>
            <a:ext cx="41400" cy="135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3" name=""/>
          <p:cNvSpPr/>
          <p:nvPr/>
        </p:nvSpPr>
        <p:spPr>
          <a:xfrm>
            <a:off x="457200" y="3595680"/>
            <a:ext cx="36082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4" name=""/>
          <p:cNvSpPr/>
          <p:nvPr/>
        </p:nvSpPr>
        <p:spPr>
          <a:xfrm>
            <a:off x="620280" y="3657600"/>
            <a:ext cx="350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Sensitivity for optical constants     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5" name=""/>
          <p:cNvSpPr/>
          <p:nvPr/>
        </p:nvSpPr>
        <p:spPr>
          <a:xfrm>
            <a:off x="4165200" y="3657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6" name=""/>
          <p:cNvSpPr/>
          <p:nvPr/>
        </p:nvSpPr>
        <p:spPr>
          <a:xfrm>
            <a:off x="457200" y="3976560"/>
            <a:ext cx="3608280" cy="324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7" name=""/>
          <p:cNvSpPr/>
          <p:nvPr/>
        </p:nvSpPr>
        <p:spPr>
          <a:xfrm>
            <a:off x="3319920" y="3981600"/>
            <a:ext cx="76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n  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8" name=""/>
          <p:cNvSpPr/>
          <p:nvPr/>
        </p:nvSpPr>
        <p:spPr>
          <a:xfrm>
            <a:off x="4093560" y="3981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9" name=""/>
          <p:cNvSpPr/>
          <p:nvPr/>
        </p:nvSpPr>
        <p:spPr>
          <a:xfrm>
            <a:off x="457200" y="4300560"/>
            <a:ext cx="3608280" cy="322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0" name=""/>
          <p:cNvSpPr/>
          <p:nvPr/>
        </p:nvSpPr>
        <p:spPr>
          <a:xfrm>
            <a:off x="3377880" y="430380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low k 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1" name=""/>
          <p:cNvSpPr/>
          <p:nvPr/>
        </p:nvSpPr>
        <p:spPr>
          <a:xfrm>
            <a:off x="4030200" y="4303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2" name=""/>
          <p:cNvSpPr/>
          <p:nvPr/>
        </p:nvSpPr>
        <p:spPr>
          <a:xfrm>
            <a:off x="457200" y="4622760"/>
            <a:ext cx="3608280" cy="324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3" name=""/>
          <p:cNvSpPr/>
          <p:nvPr/>
        </p:nvSpPr>
        <p:spPr>
          <a:xfrm>
            <a:off x="3284640" y="4627440"/>
            <a:ext cx="73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high k 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4" name=""/>
          <p:cNvSpPr/>
          <p:nvPr/>
        </p:nvSpPr>
        <p:spPr>
          <a:xfrm>
            <a:off x="4030200" y="46274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5" name=""/>
          <p:cNvSpPr/>
          <p:nvPr/>
        </p:nvSpPr>
        <p:spPr>
          <a:xfrm>
            <a:off x="433440" y="3595680"/>
            <a:ext cx="23760" cy="135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6" name=""/>
          <p:cNvSpPr/>
          <p:nvPr/>
        </p:nvSpPr>
        <p:spPr>
          <a:xfrm>
            <a:off x="4065480" y="3595680"/>
            <a:ext cx="20880" cy="135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7" name=""/>
          <p:cNvSpPr/>
          <p:nvPr/>
        </p:nvSpPr>
        <p:spPr>
          <a:xfrm>
            <a:off x="4122720" y="3595680"/>
            <a:ext cx="219384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8" name=""/>
          <p:cNvSpPr/>
          <p:nvPr/>
        </p:nvSpPr>
        <p:spPr>
          <a:xfrm>
            <a:off x="5219280" y="3657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9" name=""/>
          <p:cNvSpPr/>
          <p:nvPr/>
        </p:nvSpPr>
        <p:spPr>
          <a:xfrm>
            <a:off x="4122720" y="3976560"/>
            <a:ext cx="219384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0" name=""/>
          <p:cNvSpPr/>
          <p:nvPr/>
        </p:nvSpPr>
        <p:spPr>
          <a:xfrm>
            <a:off x="5085360" y="398160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1" name=""/>
          <p:cNvSpPr/>
          <p:nvPr/>
        </p:nvSpPr>
        <p:spPr>
          <a:xfrm>
            <a:off x="5353920" y="3981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2" name=""/>
          <p:cNvSpPr/>
          <p:nvPr/>
        </p:nvSpPr>
        <p:spPr>
          <a:xfrm>
            <a:off x="4122720" y="4300560"/>
            <a:ext cx="2193840" cy="322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3" name=""/>
          <p:cNvSpPr/>
          <p:nvPr/>
        </p:nvSpPr>
        <p:spPr>
          <a:xfrm>
            <a:off x="5181120" y="43038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4" name=""/>
          <p:cNvSpPr/>
          <p:nvPr/>
        </p:nvSpPr>
        <p:spPr>
          <a:xfrm>
            <a:off x="5257080" y="4303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5" name=""/>
          <p:cNvSpPr/>
          <p:nvPr/>
        </p:nvSpPr>
        <p:spPr>
          <a:xfrm>
            <a:off x="4122720" y="4622760"/>
            <a:ext cx="219384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6" name=""/>
          <p:cNvSpPr/>
          <p:nvPr/>
        </p:nvSpPr>
        <p:spPr>
          <a:xfrm>
            <a:off x="5085360" y="462744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7" name=""/>
          <p:cNvSpPr/>
          <p:nvPr/>
        </p:nvSpPr>
        <p:spPr>
          <a:xfrm>
            <a:off x="5353920" y="46274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8" name=""/>
          <p:cNvSpPr/>
          <p:nvPr/>
        </p:nvSpPr>
        <p:spPr>
          <a:xfrm>
            <a:off x="4100400" y="3595680"/>
            <a:ext cx="22320" cy="135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9" name=""/>
          <p:cNvSpPr/>
          <p:nvPr/>
        </p:nvSpPr>
        <p:spPr>
          <a:xfrm>
            <a:off x="6316560" y="3595680"/>
            <a:ext cx="20880" cy="135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0" name=""/>
          <p:cNvSpPr/>
          <p:nvPr/>
        </p:nvSpPr>
        <p:spPr>
          <a:xfrm>
            <a:off x="6375240" y="3595680"/>
            <a:ext cx="23655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1" name=""/>
          <p:cNvSpPr/>
          <p:nvPr/>
        </p:nvSpPr>
        <p:spPr>
          <a:xfrm>
            <a:off x="7556040" y="3657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2" name=""/>
          <p:cNvSpPr/>
          <p:nvPr/>
        </p:nvSpPr>
        <p:spPr>
          <a:xfrm>
            <a:off x="6375240" y="3976560"/>
            <a:ext cx="236556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3" name=""/>
          <p:cNvSpPr/>
          <p:nvPr/>
        </p:nvSpPr>
        <p:spPr>
          <a:xfrm>
            <a:off x="7422120" y="398160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4" name=""/>
          <p:cNvSpPr/>
          <p:nvPr/>
        </p:nvSpPr>
        <p:spPr>
          <a:xfrm>
            <a:off x="7690680" y="3981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5" name=""/>
          <p:cNvSpPr/>
          <p:nvPr/>
        </p:nvSpPr>
        <p:spPr>
          <a:xfrm>
            <a:off x="6375240" y="4300560"/>
            <a:ext cx="2365560" cy="322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6" name=""/>
          <p:cNvSpPr/>
          <p:nvPr/>
        </p:nvSpPr>
        <p:spPr>
          <a:xfrm>
            <a:off x="7422120" y="430380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7" name=""/>
          <p:cNvSpPr/>
          <p:nvPr/>
        </p:nvSpPr>
        <p:spPr>
          <a:xfrm>
            <a:off x="7690680" y="4303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8" name=""/>
          <p:cNvSpPr/>
          <p:nvPr/>
        </p:nvSpPr>
        <p:spPr>
          <a:xfrm>
            <a:off x="6375240" y="4622760"/>
            <a:ext cx="236556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9" name=""/>
          <p:cNvSpPr/>
          <p:nvPr/>
        </p:nvSpPr>
        <p:spPr>
          <a:xfrm>
            <a:off x="7422120" y="462744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0" name=""/>
          <p:cNvSpPr/>
          <p:nvPr/>
        </p:nvSpPr>
        <p:spPr>
          <a:xfrm>
            <a:off x="7690680" y="46274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1" name=""/>
          <p:cNvSpPr/>
          <p:nvPr/>
        </p:nvSpPr>
        <p:spPr>
          <a:xfrm>
            <a:off x="6351480" y="3595680"/>
            <a:ext cx="23760" cy="135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2" name=""/>
          <p:cNvSpPr/>
          <p:nvPr/>
        </p:nvSpPr>
        <p:spPr>
          <a:xfrm>
            <a:off x="8740800" y="3595680"/>
            <a:ext cx="7920" cy="135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3" name=""/>
          <p:cNvSpPr/>
          <p:nvPr/>
        </p:nvSpPr>
        <p:spPr>
          <a:xfrm>
            <a:off x="420840" y="358128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4" name=""/>
          <p:cNvSpPr/>
          <p:nvPr/>
        </p:nvSpPr>
        <p:spPr>
          <a:xfrm>
            <a:off x="433440" y="3581280"/>
            <a:ext cx="3652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5" name=""/>
          <p:cNvSpPr/>
          <p:nvPr/>
        </p:nvSpPr>
        <p:spPr>
          <a:xfrm>
            <a:off x="4086360" y="35812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6" name=""/>
          <p:cNvSpPr/>
          <p:nvPr/>
        </p:nvSpPr>
        <p:spPr>
          <a:xfrm>
            <a:off x="4100400" y="358128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7" name=""/>
          <p:cNvSpPr/>
          <p:nvPr/>
        </p:nvSpPr>
        <p:spPr>
          <a:xfrm>
            <a:off x="6337440" y="35812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8" name=""/>
          <p:cNvSpPr/>
          <p:nvPr/>
        </p:nvSpPr>
        <p:spPr>
          <a:xfrm>
            <a:off x="6351480" y="3581280"/>
            <a:ext cx="239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9" name=""/>
          <p:cNvSpPr/>
          <p:nvPr/>
        </p:nvSpPr>
        <p:spPr>
          <a:xfrm>
            <a:off x="8748720" y="3581280"/>
            <a:ext cx="41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0" name=""/>
          <p:cNvSpPr/>
          <p:nvPr/>
        </p:nvSpPr>
        <p:spPr>
          <a:xfrm>
            <a:off x="420840" y="3595680"/>
            <a:ext cx="12600" cy="135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1" name=""/>
          <p:cNvSpPr/>
          <p:nvPr/>
        </p:nvSpPr>
        <p:spPr>
          <a:xfrm>
            <a:off x="4086360" y="3595680"/>
            <a:ext cx="14040" cy="135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2" name=""/>
          <p:cNvSpPr/>
          <p:nvPr/>
        </p:nvSpPr>
        <p:spPr>
          <a:xfrm>
            <a:off x="6337440" y="3595680"/>
            <a:ext cx="14040" cy="135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3" name=""/>
          <p:cNvSpPr/>
          <p:nvPr/>
        </p:nvSpPr>
        <p:spPr>
          <a:xfrm>
            <a:off x="8748720" y="3595680"/>
            <a:ext cx="41400" cy="135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4" name=""/>
          <p:cNvSpPr/>
          <p:nvPr/>
        </p:nvSpPr>
        <p:spPr>
          <a:xfrm>
            <a:off x="457200" y="4960800"/>
            <a:ext cx="360828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5" name=""/>
          <p:cNvSpPr/>
          <p:nvPr/>
        </p:nvSpPr>
        <p:spPr>
          <a:xfrm>
            <a:off x="621360" y="5022720"/>
            <a:ext cx="195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Information content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6" name=""/>
          <p:cNvSpPr/>
          <p:nvPr/>
        </p:nvSpPr>
        <p:spPr>
          <a:xfrm>
            <a:off x="2599920" y="5022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7" name=""/>
          <p:cNvSpPr/>
          <p:nvPr/>
        </p:nvSpPr>
        <p:spPr>
          <a:xfrm>
            <a:off x="433440" y="4960800"/>
            <a:ext cx="2376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8" name=""/>
          <p:cNvSpPr/>
          <p:nvPr/>
        </p:nvSpPr>
        <p:spPr>
          <a:xfrm>
            <a:off x="4065480" y="4960800"/>
            <a:ext cx="2088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9" name=""/>
          <p:cNvSpPr/>
          <p:nvPr/>
        </p:nvSpPr>
        <p:spPr>
          <a:xfrm>
            <a:off x="433440" y="5294160"/>
            <a:ext cx="3652920" cy="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0" name=""/>
          <p:cNvSpPr/>
          <p:nvPr/>
        </p:nvSpPr>
        <p:spPr>
          <a:xfrm>
            <a:off x="4122720" y="4960800"/>
            <a:ext cx="219384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1" name=""/>
          <p:cNvSpPr/>
          <p:nvPr/>
        </p:nvSpPr>
        <p:spPr>
          <a:xfrm>
            <a:off x="5095080" y="50227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2" name=""/>
          <p:cNvSpPr/>
          <p:nvPr/>
        </p:nvSpPr>
        <p:spPr>
          <a:xfrm>
            <a:off x="5238000" y="5022720"/>
            <a:ext cx="1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3" name=""/>
          <p:cNvSpPr/>
          <p:nvPr/>
        </p:nvSpPr>
        <p:spPr>
          <a:xfrm>
            <a:off x="4100400" y="4960800"/>
            <a:ext cx="2232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4" name=""/>
          <p:cNvSpPr/>
          <p:nvPr/>
        </p:nvSpPr>
        <p:spPr>
          <a:xfrm>
            <a:off x="6316560" y="4960800"/>
            <a:ext cx="2088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5" name=""/>
          <p:cNvSpPr/>
          <p:nvPr/>
        </p:nvSpPr>
        <p:spPr>
          <a:xfrm>
            <a:off x="4100400" y="5294160"/>
            <a:ext cx="2237040" cy="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6" name=""/>
          <p:cNvSpPr/>
          <p:nvPr/>
        </p:nvSpPr>
        <p:spPr>
          <a:xfrm>
            <a:off x="6375240" y="4960800"/>
            <a:ext cx="236556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7" name=""/>
          <p:cNvSpPr/>
          <p:nvPr/>
        </p:nvSpPr>
        <p:spPr>
          <a:xfrm>
            <a:off x="7355160" y="502272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8" name=""/>
          <p:cNvSpPr/>
          <p:nvPr/>
        </p:nvSpPr>
        <p:spPr>
          <a:xfrm>
            <a:off x="7624080" y="5022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9" name=""/>
          <p:cNvSpPr/>
          <p:nvPr/>
        </p:nvSpPr>
        <p:spPr>
          <a:xfrm>
            <a:off x="6351480" y="4960800"/>
            <a:ext cx="2376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0" name=""/>
          <p:cNvSpPr/>
          <p:nvPr/>
        </p:nvSpPr>
        <p:spPr>
          <a:xfrm>
            <a:off x="8740800" y="4960800"/>
            <a:ext cx="792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1" name=""/>
          <p:cNvSpPr/>
          <p:nvPr/>
        </p:nvSpPr>
        <p:spPr>
          <a:xfrm>
            <a:off x="6351480" y="5294160"/>
            <a:ext cx="2397240" cy="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2" name=""/>
          <p:cNvSpPr/>
          <p:nvPr/>
        </p:nvSpPr>
        <p:spPr>
          <a:xfrm>
            <a:off x="420840" y="494676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3" name=""/>
          <p:cNvSpPr/>
          <p:nvPr/>
        </p:nvSpPr>
        <p:spPr>
          <a:xfrm>
            <a:off x="433440" y="4946760"/>
            <a:ext cx="3652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4" name=""/>
          <p:cNvSpPr/>
          <p:nvPr/>
        </p:nvSpPr>
        <p:spPr>
          <a:xfrm>
            <a:off x="4086360" y="494676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5" name=""/>
          <p:cNvSpPr/>
          <p:nvPr/>
        </p:nvSpPr>
        <p:spPr>
          <a:xfrm>
            <a:off x="4100400" y="4946760"/>
            <a:ext cx="2237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6" name=""/>
          <p:cNvSpPr/>
          <p:nvPr/>
        </p:nvSpPr>
        <p:spPr>
          <a:xfrm>
            <a:off x="6337440" y="494676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7" name=""/>
          <p:cNvSpPr/>
          <p:nvPr/>
        </p:nvSpPr>
        <p:spPr>
          <a:xfrm>
            <a:off x="6351480" y="4946760"/>
            <a:ext cx="23972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8" name=""/>
          <p:cNvSpPr/>
          <p:nvPr/>
        </p:nvSpPr>
        <p:spPr>
          <a:xfrm>
            <a:off x="8739360" y="4946760"/>
            <a:ext cx="41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9" name=""/>
          <p:cNvSpPr/>
          <p:nvPr/>
        </p:nvSpPr>
        <p:spPr>
          <a:xfrm>
            <a:off x="420840" y="496080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0" name=""/>
          <p:cNvSpPr/>
          <p:nvPr/>
        </p:nvSpPr>
        <p:spPr>
          <a:xfrm>
            <a:off x="4086360" y="496080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1" name=""/>
          <p:cNvSpPr/>
          <p:nvPr/>
        </p:nvSpPr>
        <p:spPr>
          <a:xfrm>
            <a:off x="6337440" y="496080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2" name=""/>
          <p:cNvSpPr/>
          <p:nvPr/>
        </p:nvSpPr>
        <p:spPr>
          <a:xfrm>
            <a:off x="8739360" y="4960800"/>
            <a:ext cx="41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3" name=""/>
          <p:cNvSpPr/>
          <p:nvPr/>
        </p:nvSpPr>
        <p:spPr>
          <a:xfrm>
            <a:off x="457200" y="5357880"/>
            <a:ext cx="36082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4" name=""/>
          <p:cNvSpPr/>
          <p:nvPr/>
        </p:nvSpPr>
        <p:spPr>
          <a:xfrm>
            <a:off x="621360" y="541980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5" name=""/>
          <p:cNvSpPr/>
          <p:nvPr/>
        </p:nvSpPr>
        <p:spPr>
          <a:xfrm>
            <a:off x="1490040" y="5419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6" name=""/>
          <p:cNvSpPr/>
          <p:nvPr/>
        </p:nvSpPr>
        <p:spPr>
          <a:xfrm>
            <a:off x="433440" y="5357880"/>
            <a:ext cx="2376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7" name=""/>
          <p:cNvSpPr/>
          <p:nvPr/>
        </p:nvSpPr>
        <p:spPr>
          <a:xfrm>
            <a:off x="4065480" y="5357880"/>
            <a:ext cx="208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8" name=""/>
          <p:cNvSpPr/>
          <p:nvPr/>
        </p:nvSpPr>
        <p:spPr>
          <a:xfrm>
            <a:off x="4122720" y="5357880"/>
            <a:ext cx="219384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9" name=""/>
          <p:cNvSpPr/>
          <p:nvPr/>
        </p:nvSpPr>
        <p:spPr>
          <a:xfrm>
            <a:off x="5152320" y="54198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0" name=""/>
          <p:cNvSpPr/>
          <p:nvPr/>
        </p:nvSpPr>
        <p:spPr>
          <a:xfrm>
            <a:off x="5285880" y="5419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1" name=""/>
          <p:cNvSpPr/>
          <p:nvPr/>
        </p:nvSpPr>
        <p:spPr>
          <a:xfrm>
            <a:off x="4100400" y="5357880"/>
            <a:ext cx="223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2" name=""/>
          <p:cNvSpPr/>
          <p:nvPr/>
        </p:nvSpPr>
        <p:spPr>
          <a:xfrm>
            <a:off x="6316560" y="5357880"/>
            <a:ext cx="2088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3" name=""/>
          <p:cNvSpPr/>
          <p:nvPr/>
        </p:nvSpPr>
        <p:spPr>
          <a:xfrm>
            <a:off x="6375240" y="5357880"/>
            <a:ext cx="23655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4" name=""/>
          <p:cNvSpPr/>
          <p:nvPr/>
        </p:nvSpPr>
        <p:spPr>
          <a:xfrm>
            <a:off x="7355160" y="541980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5" name=""/>
          <p:cNvSpPr/>
          <p:nvPr/>
        </p:nvSpPr>
        <p:spPr>
          <a:xfrm>
            <a:off x="7757640" y="5419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6" name=""/>
          <p:cNvSpPr/>
          <p:nvPr/>
        </p:nvSpPr>
        <p:spPr>
          <a:xfrm>
            <a:off x="6351480" y="5357880"/>
            <a:ext cx="237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7" name=""/>
          <p:cNvSpPr/>
          <p:nvPr/>
        </p:nvSpPr>
        <p:spPr>
          <a:xfrm>
            <a:off x="8740800" y="5357880"/>
            <a:ext cx="79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8" name=""/>
          <p:cNvSpPr/>
          <p:nvPr/>
        </p:nvSpPr>
        <p:spPr>
          <a:xfrm>
            <a:off x="420840" y="534348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9" name=""/>
          <p:cNvSpPr/>
          <p:nvPr/>
        </p:nvSpPr>
        <p:spPr>
          <a:xfrm>
            <a:off x="433440" y="5343480"/>
            <a:ext cx="3652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0" name=""/>
          <p:cNvSpPr/>
          <p:nvPr/>
        </p:nvSpPr>
        <p:spPr>
          <a:xfrm>
            <a:off x="4086360" y="53434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1" name=""/>
          <p:cNvSpPr/>
          <p:nvPr/>
        </p:nvSpPr>
        <p:spPr>
          <a:xfrm>
            <a:off x="4100400" y="534348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2" name=""/>
          <p:cNvSpPr/>
          <p:nvPr/>
        </p:nvSpPr>
        <p:spPr>
          <a:xfrm>
            <a:off x="6337440" y="53434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3" name=""/>
          <p:cNvSpPr/>
          <p:nvPr/>
        </p:nvSpPr>
        <p:spPr>
          <a:xfrm>
            <a:off x="6351480" y="5343480"/>
            <a:ext cx="239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4" name=""/>
          <p:cNvSpPr/>
          <p:nvPr/>
        </p:nvSpPr>
        <p:spPr>
          <a:xfrm>
            <a:off x="8739360" y="5343480"/>
            <a:ext cx="41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5" name=""/>
          <p:cNvSpPr/>
          <p:nvPr/>
        </p:nvSpPr>
        <p:spPr>
          <a:xfrm>
            <a:off x="420840" y="5357880"/>
            <a:ext cx="126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6" name=""/>
          <p:cNvSpPr/>
          <p:nvPr/>
        </p:nvSpPr>
        <p:spPr>
          <a:xfrm>
            <a:off x="4086360" y="5357880"/>
            <a:ext cx="1404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7" name=""/>
          <p:cNvSpPr/>
          <p:nvPr/>
        </p:nvSpPr>
        <p:spPr>
          <a:xfrm>
            <a:off x="6337440" y="5357880"/>
            <a:ext cx="1404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8" name=""/>
          <p:cNvSpPr/>
          <p:nvPr/>
        </p:nvSpPr>
        <p:spPr>
          <a:xfrm>
            <a:off x="8748720" y="5357880"/>
            <a:ext cx="414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9" name=""/>
          <p:cNvSpPr/>
          <p:nvPr/>
        </p:nvSpPr>
        <p:spPr>
          <a:xfrm>
            <a:off x="457200" y="5753160"/>
            <a:ext cx="36082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0" name=""/>
          <p:cNvSpPr/>
          <p:nvPr/>
        </p:nvSpPr>
        <p:spPr>
          <a:xfrm>
            <a:off x="621720" y="5815080"/>
            <a:ext cx="24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performance / price ratio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1" name=""/>
          <p:cNvSpPr/>
          <p:nvPr/>
        </p:nvSpPr>
        <p:spPr>
          <a:xfrm>
            <a:off x="3123720" y="58150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2" name=""/>
          <p:cNvSpPr/>
          <p:nvPr/>
        </p:nvSpPr>
        <p:spPr>
          <a:xfrm>
            <a:off x="433440" y="5753160"/>
            <a:ext cx="2376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3" name=""/>
          <p:cNvSpPr/>
          <p:nvPr/>
        </p:nvSpPr>
        <p:spPr>
          <a:xfrm>
            <a:off x="4065480" y="5753160"/>
            <a:ext cx="208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4" name=""/>
          <p:cNvSpPr/>
          <p:nvPr/>
        </p:nvSpPr>
        <p:spPr>
          <a:xfrm>
            <a:off x="4122720" y="5753160"/>
            <a:ext cx="219384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5" name=""/>
          <p:cNvSpPr/>
          <p:nvPr/>
        </p:nvSpPr>
        <p:spPr>
          <a:xfrm>
            <a:off x="5152320" y="58150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6" name=""/>
          <p:cNvSpPr/>
          <p:nvPr/>
        </p:nvSpPr>
        <p:spPr>
          <a:xfrm>
            <a:off x="5285880" y="58150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7" name=""/>
          <p:cNvSpPr/>
          <p:nvPr/>
        </p:nvSpPr>
        <p:spPr>
          <a:xfrm>
            <a:off x="4100400" y="5753160"/>
            <a:ext cx="223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8" name=""/>
          <p:cNvSpPr/>
          <p:nvPr/>
        </p:nvSpPr>
        <p:spPr>
          <a:xfrm>
            <a:off x="6316560" y="5753160"/>
            <a:ext cx="2088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9" name=""/>
          <p:cNvSpPr/>
          <p:nvPr/>
        </p:nvSpPr>
        <p:spPr>
          <a:xfrm>
            <a:off x="6375240" y="5753160"/>
            <a:ext cx="23655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0" name=""/>
          <p:cNvSpPr/>
          <p:nvPr/>
        </p:nvSpPr>
        <p:spPr>
          <a:xfrm>
            <a:off x="7422120" y="581508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1" name=""/>
          <p:cNvSpPr/>
          <p:nvPr/>
        </p:nvSpPr>
        <p:spPr>
          <a:xfrm>
            <a:off x="7690680" y="58150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2" name=""/>
          <p:cNvSpPr/>
          <p:nvPr/>
        </p:nvSpPr>
        <p:spPr>
          <a:xfrm>
            <a:off x="6351480" y="5753160"/>
            <a:ext cx="237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3" name=""/>
          <p:cNvSpPr/>
          <p:nvPr/>
        </p:nvSpPr>
        <p:spPr>
          <a:xfrm>
            <a:off x="8740800" y="5753160"/>
            <a:ext cx="79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4" name=""/>
          <p:cNvSpPr/>
          <p:nvPr/>
        </p:nvSpPr>
        <p:spPr>
          <a:xfrm>
            <a:off x="420840" y="573876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5" name=""/>
          <p:cNvSpPr/>
          <p:nvPr/>
        </p:nvSpPr>
        <p:spPr>
          <a:xfrm>
            <a:off x="433440" y="5738760"/>
            <a:ext cx="3652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6" name=""/>
          <p:cNvSpPr/>
          <p:nvPr/>
        </p:nvSpPr>
        <p:spPr>
          <a:xfrm>
            <a:off x="4086360" y="573876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7" name=""/>
          <p:cNvSpPr/>
          <p:nvPr/>
        </p:nvSpPr>
        <p:spPr>
          <a:xfrm>
            <a:off x="4100400" y="573876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8" name=""/>
          <p:cNvSpPr/>
          <p:nvPr/>
        </p:nvSpPr>
        <p:spPr>
          <a:xfrm>
            <a:off x="6337440" y="573876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9" name=""/>
          <p:cNvSpPr/>
          <p:nvPr/>
        </p:nvSpPr>
        <p:spPr>
          <a:xfrm>
            <a:off x="6351480" y="5738760"/>
            <a:ext cx="239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0" name=""/>
          <p:cNvSpPr/>
          <p:nvPr/>
        </p:nvSpPr>
        <p:spPr>
          <a:xfrm>
            <a:off x="8748720" y="5738760"/>
            <a:ext cx="41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1" name=""/>
          <p:cNvSpPr/>
          <p:nvPr/>
        </p:nvSpPr>
        <p:spPr>
          <a:xfrm>
            <a:off x="420840" y="575316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2" name=""/>
          <p:cNvSpPr/>
          <p:nvPr/>
        </p:nvSpPr>
        <p:spPr>
          <a:xfrm>
            <a:off x="420840" y="613584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3" name=""/>
          <p:cNvSpPr/>
          <p:nvPr/>
        </p:nvSpPr>
        <p:spPr>
          <a:xfrm>
            <a:off x="420840" y="613584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4" name=""/>
          <p:cNvSpPr/>
          <p:nvPr/>
        </p:nvSpPr>
        <p:spPr>
          <a:xfrm>
            <a:off x="433440" y="6135840"/>
            <a:ext cx="3652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5" name=""/>
          <p:cNvSpPr/>
          <p:nvPr/>
        </p:nvSpPr>
        <p:spPr>
          <a:xfrm>
            <a:off x="4086360" y="575316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6" name=""/>
          <p:cNvSpPr/>
          <p:nvPr/>
        </p:nvSpPr>
        <p:spPr>
          <a:xfrm>
            <a:off x="4086360" y="613584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7" name=""/>
          <p:cNvSpPr/>
          <p:nvPr/>
        </p:nvSpPr>
        <p:spPr>
          <a:xfrm>
            <a:off x="4086360" y="613584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8" name=""/>
          <p:cNvSpPr/>
          <p:nvPr/>
        </p:nvSpPr>
        <p:spPr>
          <a:xfrm>
            <a:off x="4100400" y="6135840"/>
            <a:ext cx="223704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9" name=""/>
          <p:cNvSpPr/>
          <p:nvPr/>
        </p:nvSpPr>
        <p:spPr>
          <a:xfrm>
            <a:off x="6337440" y="575316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0" name=""/>
          <p:cNvSpPr/>
          <p:nvPr/>
        </p:nvSpPr>
        <p:spPr>
          <a:xfrm>
            <a:off x="6337440" y="6135840"/>
            <a:ext cx="4104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1" name=""/>
          <p:cNvSpPr/>
          <p:nvPr/>
        </p:nvSpPr>
        <p:spPr>
          <a:xfrm>
            <a:off x="6378480" y="6135840"/>
            <a:ext cx="237024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2" name=""/>
          <p:cNvSpPr/>
          <p:nvPr/>
        </p:nvSpPr>
        <p:spPr>
          <a:xfrm>
            <a:off x="8748720" y="5753160"/>
            <a:ext cx="41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3" name=""/>
          <p:cNvSpPr/>
          <p:nvPr/>
        </p:nvSpPr>
        <p:spPr>
          <a:xfrm>
            <a:off x="8748720" y="6135840"/>
            <a:ext cx="414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4" name=""/>
          <p:cNvSpPr/>
          <p:nvPr/>
        </p:nvSpPr>
        <p:spPr>
          <a:xfrm>
            <a:off x="8748720" y="6135840"/>
            <a:ext cx="414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5" name=""/>
          <p:cNvSpPr/>
          <p:nvPr/>
        </p:nvSpPr>
        <p:spPr>
          <a:xfrm>
            <a:off x="456480" y="61768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6" name=""/>
          <p:cNvSpPr/>
          <p:nvPr/>
        </p:nvSpPr>
        <p:spPr>
          <a:xfrm>
            <a:off x="736560" y="439560"/>
            <a:ext cx="77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8f"/>
                </a:solidFill>
                <a:latin typeface="Arial"/>
              </a:rPr>
              <a:t>Ellipsometry versus Photometry (directional RT)</a:t>
            </a:r>
            <a:endParaRPr b="0" lang="en-US" sz="2800" spc="-1" strike="noStrike">
              <a:solidFill>
                <a:srgbClr val="ffffff"/>
              </a:solidFill>
              <a:latin typeface="TNO Oranda Wi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1:41:01Z</dcterms:created>
  <dc:creator>TNO</dc:creator>
  <dc:description/>
  <dc:language>en-US</dc:language>
  <cp:lastModifiedBy>Nijnatten</cp:lastModifiedBy>
  <cp:lastPrinted>2001-01-31T10:48:12Z</cp:lastPrinted>
  <dcterms:modified xsi:type="dcterms:W3CDTF">2005-04-18T15:10:07Z</dcterms:modified>
  <cp:revision>130</cp:revision>
  <dc:subject/>
  <dc:title>TNO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itor">
    <vt:lpwstr>Custom Productivity Tools</vt:lpwstr>
  </property>
</Properties>
</file>